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44D6-B366-4393-9E88-FB5A864DC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46CE-43D4-4AC1-A195-699E29ADC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D4F6-045F-4BA8-BE92-653DFB880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FEF5-4ADB-4B4A-B9F3-EDB936CA7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7A59-7BE5-4DEC-A7E0-5FFE61B40B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67FE-67E0-4291-B0D9-DFE60E488B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5480-5857-4D28-A457-2F27428A4F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031B-D0F1-4B01-AA1A-1F896766EF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3498-9038-4DFE-9327-A95ADCA6AD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020E-1429-4045-9EFA-62FE0EA3B4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B0A9-ED75-413D-9157-0256E719A7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6944-EADB-4144-818C-D24DE2A4B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F694-FFED-483D-B550-85DEA8766E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BFAD-3481-4323-A216-6BC09E4449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934D-AC7D-4EDC-B02A-AB55F3BEE3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A8A2-408E-406E-A98F-6EC0DD7F7D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E67B-4D4C-4A45-A8AD-F0422346FC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6E4D-5150-42FA-B01D-EC23EE798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5592-076B-4009-8BBA-2A74D69DE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4FD7-B190-488B-B83E-C301DA92F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30CD-EBF3-41DF-9F3F-75476CB12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02F4-EA9C-4910-B53B-9E2E05D55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92D4-F221-403F-AB41-802EA154D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9CE4-0F7B-4BC0-9E12-9500D5B1C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2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07240" indent="-205560" algn="ctr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64520" algn="ctr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24640" indent="-164520" algn="ctr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453680" indent="-164520" algn="ctr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453680" indent="-164520" algn="ctr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453680" indent="-164520" algn="ctr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8720" y="6413400"/>
            <a:ext cx="2844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38C9-7C4C-40D6-8AF5-F06F369A2983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488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484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924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662680" y="6408360"/>
            <a:ext cx="2840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B84C-B471-4C66-83AC-EBD258EBBD4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9" name=""/>
            <p:cNvGrpSpPr/>
            <p:nvPr/>
          </p:nvGrpSpPr>
          <p:grpSpPr>
            <a:xfrm>
              <a:off x="289080" y="2546280"/>
              <a:ext cx="723240" cy="473040"/>
              <a:chOff x="289080" y="2546280"/>
              <a:chExt cx="723240" cy="473040"/>
            </a:xfrm>
          </p:grpSpPr>
          <p:sp>
            <p:nvSpPr>
              <p:cNvPr id="80" name=""/>
              <p:cNvSpPr/>
              <p:nvPr/>
            </p:nvSpPr>
            <p:spPr>
              <a:xfrm>
                <a:off x="289080" y="2546280"/>
                <a:ext cx="450000" cy="4730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2480" y="2546280"/>
                <a:ext cx="33984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14360" y="2968560"/>
              <a:ext cx="749160" cy="473040"/>
              <a:chOff x="414360" y="2968560"/>
              <a:chExt cx="749160" cy="473040"/>
            </a:xfrm>
          </p:grpSpPr>
          <p:sp>
            <p:nvSpPr>
              <p:cNvPr id="83" name=""/>
              <p:cNvSpPr/>
              <p:nvPr/>
            </p:nvSpPr>
            <p:spPr>
              <a:xfrm>
                <a:off x="414360" y="2968560"/>
                <a:ext cx="433440" cy="4730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82640" y="2968560"/>
                <a:ext cx="38088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0" y="2895480"/>
              <a:ext cx="57168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5040" y="2438280"/>
              <a:ext cx="442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6080" y="3260520"/>
              <a:ext cx="8692920" cy="5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0 правил этикета в отношении лиц с инвалидностью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О «Ассоциация женщин с инвалидностью «Шырак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760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"/>
          <p:cNvSpPr/>
          <p:nvPr/>
        </p:nvSpPr>
        <p:spPr>
          <a:xfrm>
            <a:off x="800280" y="1098720"/>
            <a:ext cx="341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"/>
          <p:cNvSpPr/>
          <p:nvPr/>
        </p:nvSpPr>
        <p:spPr>
          <a:xfrm>
            <a:off x="54144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"/>
          <p:cNvSpPr/>
          <p:nvPr/>
        </p:nvSpPr>
        <p:spPr>
          <a:xfrm>
            <a:off x="911160" y="1521000"/>
            <a:ext cx="381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"/>
          <p:cNvSpPr/>
          <p:nvPr/>
        </p:nvSpPr>
        <p:spPr>
          <a:xfrm>
            <a:off x="127080" y="1447920"/>
            <a:ext cx="5731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990720"/>
            <a:ext cx="442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"/>
          <p:cNvSpPr/>
          <p:nvPr/>
        </p:nvSpPr>
        <p:spPr>
          <a:xfrm>
            <a:off x="442800" y="1781280"/>
            <a:ext cx="82393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6600" y="2070000"/>
            <a:ext cx="595476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бы привлечь внимание человека, который плохо слышит, помашите ему рукой или похлопайте по плечу. Разговаривая с теми, кто может читать по губам, расположитесь так, чтобы на Вас падал свет, и Вас было хорошо видно, постарайтесь, чтобы Вам ничего (еда, сигареты, руки) не мешал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786280" y="1498680"/>
            <a:ext cx="3006720" cy="20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760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"/>
          <p:cNvSpPr/>
          <p:nvPr/>
        </p:nvSpPr>
        <p:spPr>
          <a:xfrm>
            <a:off x="800280" y="1098720"/>
            <a:ext cx="341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54144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"/>
          <p:cNvSpPr/>
          <p:nvPr/>
        </p:nvSpPr>
        <p:spPr>
          <a:xfrm>
            <a:off x="911160" y="1521000"/>
            <a:ext cx="381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"/>
          <p:cNvSpPr/>
          <p:nvPr/>
        </p:nvSpPr>
        <p:spPr>
          <a:xfrm>
            <a:off x="127080" y="1447920"/>
            <a:ext cx="5731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990720"/>
            <a:ext cx="442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"/>
          <p:cNvSpPr/>
          <p:nvPr/>
        </p:nvSpPr>
        <p:spPr>
          <a:xfrm>
            <a:off x="442800" y="1781280"/>
            <a:ext cx="82393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слабьтесь! Не смущайтесь, если случайно допустили оплош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70000" y="3213000"/>
            <a:ext cx="498024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1760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"/>
          <p:cNvSpPr/>
          <p:nvPr/>
        </p:nvSpPr>
        <p:spPr>
          <a:xfrm>
            <a:off x="800280" y="1098720"/>
            <a:ext cx="341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"/>
          <p:cNvSpPr/>
          <p:nvPr/>
        </p:nvSpPr>
        <p:spPr>
          <a:xfrm>
            <a:off x="54144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"/>
          <p:cNvSpPr/>
          <p:nvPr/>
        </p:nvSpPr>
        <p:spPr>
          <a:xfrm>
            <a:off x="911160" y="1521000"/>
            <a:ext cx="381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"/>
          <p:cNvSpPr/>
          <p:nvPr/>
        </p:nvSpPr>
        <p:spPr>
          <a:xfrm>
            <a:off x="127080" y="1447920"/>
            <a:ext cx="5731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990720"/>
            <a:ext cx="442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"/>
          <p:cNvSpPr/>
          <p:nvPr/>
        </p:nvSpPr>
        <p:spPr>
          <a:xfrm>
            <a:off x="442800" y="1781280"/>
            <a:ext cx="82393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356000" y="426960"/>
            <a:ext cx="3216240" cy="2795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69880" y="2427120"/>
            <a:ext cx="3214800" cy="3216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998880" y="3929040"/>
            <a:ext cx="414972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760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800280" y="1098720"/>
            <a:ext cx="341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>
            <a:off x="54144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911160" y="1521000"/>
            <a:ext cx="381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127080" y="1447920"/>
            <a:ext cx="5731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990720"/>
            <a:ext cx="442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442800" y="1781280"/>
            <a:ext cx="82393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гда вы разговариваете с человеком с инвалидностью, обращайтесь непосредственно к нему, а не к сопровождающему или сурдопереводчику, которые присутствуют при разговор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13080" y="3857760"/>
            <a:ext cx="4270680" cy="26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1760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"/>
          <p:cNvSpPr/>
          <p:nvPr/>
        </p:nvSpPr>
        <p:spPr>
          <a:xfrm>
            <a:off x="800280" y="1098720"/>
            <a:ext cx="341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"/>
          <p:cNvSpPr/>
          <p:nvPr/>
        </p:nvSpPr>
        <p:spPr>
          <a:xfrm>
            <a:off x="54144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/>
          <p:nvPr/>
        </p:nvSpPr>
        <p:spPr>
          <a:xfrm>
            <a:off x="911160" y="1521000"/>
            <a:ext cx="381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1447920"/>
            <a:ext cx="5731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990720"/>
            <a:ext cx="442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442800" y="1781280"/>
            <a:ext cx="82393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638964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гда Вас знакомят с инвалидом, вполне естественно пожать ему руку – даже те, кому трудно двигать рукой, или кто пользуется протезом, вполне могут пожать руку – правую или левую, что вполне допустим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400068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1760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"/>
          <p:cNvSpPr/>
          <p:nvPr/>
        </p:nvSpPr>
        <p:spPr>
          <a:xfrm>
            <a:off x="800280" y="1098720"/>
            <a:ext cx="341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"/>
          <p:cNvSpPr/>
          <p:nvPr/>
        </p:nvSpPr>
        <p:spPr>
          <a:xfrm>
            <a:off x="54144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911160" y="1521000"/>
            <a:ext cx="381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27080" y="1447920"/>
            <a:ext cx="5731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990720"/>
            <a:ext cx="442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442800" y="1781280"/>
            <a:ext cx="82393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26760" y="2017440"/>
            <a:ext cx="652788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гда Вы встречаетесь с человеком, который плохо или совсем не видит, обязательно называйте себя и тех людей, которые пришли с Вами. Если у Вас общая беседа в группе, не забывайте пояснить, к кому в данный момент Вы обращаетесь и назвать себ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27000" y="2284560"/>
            <a:ext cx="222912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760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"/>
          <p:cNvSpPr/>
          <p:nvPr/>
        </p:nvSpPr>
        <p:spPr>
          <a:xfrm>
            <a:off x="800280" y="1098720"/>
            <a:ext cx="341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54144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>
            <a:off x="911160" y="1521000"/>
            <a:ext cx="381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27080" y="1447920"/>
            <a:ext cx="5731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990720"/>
            <a:ext cx="442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"/>
          <p:cNvSpPr/>
          <p:nvPr/>
        </p:nvSpPr>
        <p:spPr>
          <a:xfrm>
            <a:off x="442800" y="1781280"/>
            <a:ext cx="82393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едлагаете помощь, ждите, пока ее примут, а затем спрашивайте, что и как дела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55880" y="3500280"/>
            <a:ext cx="331488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1760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>
            <a:off x="800280" y="1098720"/>
            <a:ext cx="341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>
            <a:off x="54144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"/>
          <p:cNvSpPr/>
          <p:nvPr/>
        </p:nvSpPr>
        <p:spPr>
          <a:xfrm>
            <a:off x="911160" y="1521000"/>
            <a:ext cx="381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127080" y="1447920"/>
            <a:ext cx="5731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990720"/>
            <a:ext cx="442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"/>
          <p:cNvSpPr/>
          <p:nvPr/>
        </p:nvSpPr>
        <p:spPr>
          <a:xfrm>
            <a:off x="442800" y="1781280"/>
            <a:ext cx="82393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йтесь со взрослыми инвалидами как со взрослыми. Обращайтесь к ним по имени и на "ты" только если вы хорошо знако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41680" y="4000680"/>
            <a:ext cx="3562200" cy="27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1760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"/>
          <p:cNvSpPr/>
          <p:nvPr/>
        </p:nvSpPr>
        <p:spPr>
          <a:xfrm>
            <a:off x="800280" y="1098720"/>
            <a:ext cx="341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54144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"/>
          <p:cNvSpPr/>
          <p:nvPr/>
        </p:nvSpPr>
        <p:spPr>
          <a:xfrm>
            <a:off x="911160" y="1521000"/>
            <a:ext cx="381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"/>
          <p:cNvSpPr/>
          <p:nvPr/>
        </p:nvSpPr>
        <p:spPr>
          <a:xfrm>
            <a:off x="127080" y="1447920"/>
            <a:ext cx="5731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990720"/>
            <a:ext cx="442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"/>
          <p:cNvSpPr/>
          <p:nvPr/>
        </p:nvSpPr>
        <p:spPr>
          <a:xfrm>
            <a:off x="442800" y="1781280"/>
            <a:ext cx="82393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355480" y="2017440"/>
            <a:ext cx="6599160" cy="484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пираться или повиснуть на чьей-то инвалидной коляске – то же самое, что опираться или повиснуть на ее обладателе, и это тоже раздражает. Инвалидная коляска – это часть неприкасаемого пространства человека, который ее использует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427120"/>
            <a:ext cx="2700360" cy="27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1760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"/>
          <p:cNvSpPr/>
          <p:nvPr/>
        </p:nvSpPr>
        <p:spPr>
          <a:xfrm>
            <a:off x="800280" y="1098720"/>
            <a:ext cx="341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"/>
          <p:cNvSpPr/>
          <p:nvPr/>
        </p:nvSpPr>
        <p:spPr>
          <a:xfrm>
            <a:off x="911160" y="1521000"/>
            <a:ext cx="381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" y="1447920"/>
            <a:ext cx="5731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442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"/>
          <p:cNvSpPr/>
          <p:nvPr/>
        </p:nvSpPr>
        <p:spPr>
          <a:xfrm>
            <a:off x="442800" y="1781280"/>
            <a:ext cx="82393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9880" y="2141280"/>
            <a:ext cx="5740560" cy="471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гда Вы разговариваете с человеком, испытывающим трудности в общении, слушайте его внимательно. Будьте терпеливы, ждите, когда человек сам закончит фразу. Не поправляйте его и не договаривайте за него. Никогда не притворяйтесь, что вы понимаете, если на самом деле это не так. Повторите, что вы поняли, это поможет человеку ответить вам, а вам – понять ег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500800" y="284040"/>
            <a:ext cx="319068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1760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"/>
          <p:cNvSpPr/>
          <p:nvPr/>
        </p:nvSpPr>
        <p:spPr>
          <a:xfrm>
            <a:off x="800280" y="1098720"/>
            <a:ext cx="341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"/>
          <p:cNvSpPr/>
          <p:nvPr/>
        </p:nvSpPr>
        <p:spPr>
          <a:xfrm>
            <a:off x="54144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"/>
          <p:cNvSpPr/>
          <p:nvPr/>
        </p:nvSpPr>
        <p:spPr>
          <a:xfrm>
            <a:off x="911160" y="1521000"/>
            <a:ext cx="381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127080" y="1447920"/>
            <a:ext cx="5731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990720"/>
            <a:ext cx="442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42800" y="1781280"/>
            <a:ext cx="82393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998800" y="2212560"/>
            <a:ext cx="5859360" cy="464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гда Вы говорите с человеком, пользующимся инвалидной коляской или костылями, расположитесь так, чтобы ваши и его глаза были на одном уровне, тогда вам будет легче разговариват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55680" y="3500280"/>
            <a:ext cx="2946240" cy="263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yazzat</dc:creator>
  <dc:description/>
  <dc:language>en-US</dc:language>
  <cp:lastModifiedBy/>
  <cp:revision>0</cp:revision>
  <dc:subject/>
  <dc:title>10 правил этикета в отношении лиц с инвалидностью</dc:title>
</cp:coreProperties>
</file>