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D23D-66A9-4E62-972E-4007FACC65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3B06-CD17-4EC4-B85D-B1A8DE992B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348-EE7C-4E9F-BB42-92E58AE533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9CE6-E457-4976-8CDB-B539D8B2CC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FB43-C003-40AD-9869-CDC2A82759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79E1-9267-44ED-91D7-E1127CBCFE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4F7C-81AE-4C17-B999-1A4F6FE50C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68D3-2911-438C-8917-31D67CA5B3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5C5-A474-49A0-A816-C4057E357E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96F8-AAAC-4E81-8DA8-65D837E301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4984-B61A-47BD-AC1F-FCA5E1ED96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EECC-2636-4513-AFD3-3480F232BA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7AFE-1C08-42A9-8C8F-5D0BF207CF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E4EE-E8AC-4366-BEA0-8A2BB1007E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9182-5323-4C8F-AE89-74E562F0C5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5046-6DEA-425D-B263-08FBA6EE04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590-8436-4183-89EC-81B5AE491F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3CF9-410B-4B38-A25B-28CBFE2FE6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94F-74B7-41A5-A33A-7CBF53AE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D18-6EE1-4168-845B-AEF49A85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AE9-CC18-415E-A06A-9635DB41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31E-5BAD-4045-8ADA-3E4C95B9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DDA-C9E3-4462-96C1-93E4DBC5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6C0-4F71-4AF6-AD40-3576662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5DE-BAD9-463B-A451-0E5CB39C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9E1-7C20-483D-92BC-515589D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C3F-7799-47C3-B99F-FD071B5E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626-0F15-4136-ACC6-5FE614B1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D70-5509-4A0F-88AC-7134ECD9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BE3-A7B9-47D9-96A0-328BB4FC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BE16-3568-46B7-9FE1-594331D44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2240" y="1828800"/>
            <a:ext cx="905508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Arial"/>
              </a:rPr>
              <a:t>Специальные процедуры ООН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1200" y="298080"/>
            <a:ext cx="965520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Согласованные посещения Казахстана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Казахста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  по делам национальных меньшинств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  по пытка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  по соответствию жилья приемлемым стандартам  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Посещение государств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Для каждого визита Специальные процедуры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требуют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: свободу проведения исследования; доступ к необходимым объектам (например, тюрьмам); контакт с представителями гражданского обществ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тандартный запрос о заверениях, что никто из тех, с кем встречался представитель Специальной процедуры, не будет подвергаться угрозам, преследованию, что против него не будет возбуждено судебное производство и т.д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ффективное взаимодействие с представителями Специальных процед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Контактная информац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екоторые специальные процедуры требуют, чтобы были заполнены специальные анкеты – имеются на сайте Управления Верховного Комиссара ООН по правам человека Требуется стандартная информация: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Какой Специальной процедуре адресовано Ваше сообщение – может быть более одно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Контактные данные автора сообщен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ффективное взаимодействие с представителями Специальных процед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Конкретные дела: имя, возраст, пол и род занятий жертв(ы)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ребуется ли конфиденциальность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одробности предполагаемого нарушения: дата и место; личность нарушителей (если известны); подробности предполагаемого нарушения ( например, какое оружие использовалось); причиненные повреждения (ущерб); последствия для жертвы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ставить копии подтверждающих документов (например, медицинские справки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ффективное взаимодействие с представителями Специальных процед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сли жалоба касается ситуации в целом (например, касательно повторящихся нарушений) представить полный контекст в четком хронологическом порядк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ся представленная информация должна быть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достоверной, узко направленной и относящейся к делу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ставьте информацию касательно развития ситуаци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лияние Специальных процед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облемы и недостатк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чень широкая сфера деятельности по мандата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авительства не в состоянии адекватно взаимодействовать и отвечать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тсюда неспособность исполнять рекомендаци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лияние Специальных процед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очему они важны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Экспертиза и объективность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ыявляют ситуации, вызывающие озабоченность,привлекая внимание международного сообщества к имеющимся проблемам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Глубокий экспертный анализ ситуации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мешательство по отдельным неотложным дела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Могут действовать в качестве важной системы раннего предупреждения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 ходе посещения государств могут добиться облегчения участи жертв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беспечивают непрерывное изучение ситуац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200" y="298080"/>
            <a:ext cx="965520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Подробная информация на сайтах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2.ohchr.org/russian/index.htm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2.ohchr.org/english/bodies/chr/special/index.ht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бзор специальных процедур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первые учреждены в 1979 г. Комиссией ООН по правам человек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езависимые эксперты получили мандаты по географическому или тематическому принципу для работы по отдельным проблемам прав человек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Функционируют: Специальные Докладчики; Рабочие Группы; Специальные представители; Независимые эксперты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Тематические механизмы</a:t>
            </a: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52240" y="1405080"/>
            <a:ext cx="905508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сего в настоящий момент 30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бочая Группа по произвольным задержаниям (1991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пециальный докладчик по вопросу о пытках (1985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бочая Группа по насильственным или недобровольным исчезновениям (1980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пециальный докладчик по вопросу о внесудебных казнях, казнях без надлежащего судебного разбирательства или произвольных казнях (1982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пец.представитель по вопросу о правозащитниках (2000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Специальные механизмы по территориальному принципу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 настоящий момент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урунди, Камбоджа, КНДР, Гаити,  Мьянма, Палестинские оккупированные территории, Сомали, Суда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Кто они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дающиеся специалисты в области прав человека, имеющие различный профессиональный опыт , например, юристы, уче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йствуют в качестве независимых экспер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значаются максимум на 6 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бота не оплачивает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лохо финансирую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оль специальных процед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Компетенц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У каждого имеется отдельный специальный мандат, изложенный в резолюции Комитета по правам человек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олучают и пишут сообщения по предполагаемым нарушениям прав челове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зывают правительства расследовать данные ситуаци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ставляют периодические доклады в межгосударственные орган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очные обращ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ндартные сообщения (заявления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исьма с выражением озабоченност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вместные сообщения/воззва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ся переписк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ого конфиденциальна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о тех пор, пока не опубликована как часть процедуры представления доклад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358920"/>
            <a:ext cx="90550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Посещение государств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52240" y="1320840"/>
            <a:ext cx="905508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 рамках Специальных процедур наносятся в среднем 3-4 визита в год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чтобы собрать информацию из первых рук от представителей гражданского общества, жертв нарушений прав человека, и для встречи с правительствам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для совершения каждого визита требуется приглашение правительств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 2005 представители специальных процедур направили 62 запроса о посещении государств и совершили 50 визитов в государства для сбора информаци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яд правительств направили “постоянные приглашения” (в настоящий момент 57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200" y="298080"/>
            <a:ext cx="96552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Посещение Казахстана представителями специальных процедур</a:t>
            </a: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Казахста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 представитель специальных процедур по независимости судей и юристов (9-19.06.2004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 представитель специальных процедур по пыткам (5-14.05.2009)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Systems and Services</cp:lastModifiedBy>
  <dcterms:modified xsi:type="dcterms:W3CDTF">2009-08-03T13:08:36Z</dcterms:modified>
  <cp:revision>4</cp:revision>
  <dc:subject/>
  <dc:title>PowerPoint Presentation</dc:title>
</cp:coreProperties>
</file>