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B5C-E7AD-4A76-8483-B312A01B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D18-E9E1-44AE-A317-4620964F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AA4-4D73-424A-8F1C-7F9DD27F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196-2561-4B47-B03D-0F3297E3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EE07-389C-4379-8A8C-6B3BC7C9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1F38-66C9-430E-B384-7B689F0A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576A-A8CA-4160-ADE5-9468E145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338E-18C6-475A-BCAB-8A07A4CA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214D-19EB-45DF-9996-A27ADCAA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2E78-35BE-4F2D-9B1D-FC9687B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5C43-0189-448E-AA92-7951E8D1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A7A-6BAB-4300-8A02-CB8A72B1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9595-FB39-4B96-8D3B-1DB14BD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F232-4D72-4706-954B-79E68F43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1A95-948C-4279-BEE3-2772525F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B167-3E01-4FC0-A586-77EE32AC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F2B4-6858-4D47-BDBE-98CB4E5E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228-4149-4C0A-942E-336233F2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C14-CCA3-4558-B303-514A7222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BCC-926B-4884-B886-793F0E81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08F-9647-4EDD-B843-50306F7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6E3-2419-4CE2-80B6-06F5024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188-A205-4EBD-AF41-15B5AE0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2DD-1DDB-45DB-9734-A398D25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E0FE-8FA3-4FA2-AD2C-CD09589D0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DC33-2159-4EBD-B7B9-82EAA655E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МЕЖДУНАРОДНАЯ ЗАЩИТА ПРАВ ЖЕНЩИН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480024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ЛДЫКОРГАНСКИЙ ПРАВОЗАЩИТНЫЙ 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т приняла следующие Конвенции, регламентирующие только права женщин: Конвенция 100 о равном вознаграждении мужчин и женщин за труд равной ценности от 29 июня 1951 г.; Конвенция 111 о дискриминации в области труда и занятий от 25 июня 1958 г.; Конвенция 103 от 28 июня 1952 г. относительно охраны материнства, Конвенция МОТ 156 от 3 июня 1956 г. о равном обращении и равных возможностях для трудящихся мужчин и женщин и д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КЛЮЧ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нституты международной защиты прав женщин и детей занимает важное место в международном праве. Однако реализация уже закрепленных норм затруднена, имеется большое количество нерешенных проблем: реализации политических, трудовых прав женщинами, низкий социальный статус детей. Насилие над женщинами и дет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 несмотря на это, международное сообщество достигло хороших результатов по защите прав женщин и детей: во многих странах появились или окрепли национальные механизмы по улучшению положения женщин и детей, были созданы специальные органы по их защите (комиссии, бюро, комитеты и д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им образом, институт международной защиты прав женщин представляет собой совокупность норм международного права, регулирующих сотрудничество государств с целью соблюдения, а также обеспечения и защиты прав женщин во всех сферах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…институт международной правовой защиты прав ребенка представляет собой совокупность международно-правовых принципов и норм, определяющих права и свободы детей, устанавливающих обязательства государств по обеспечению и практическому претворению в жизнь этих прав и свобод, а также международные механизмы контроля за выполнением государствами своих международных обязательст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рмы, посвященные защите прав женщин и детей, должны быть направлены всеобщее соблюдение и уважение их прав и включать в себя нормы, направленные на регулирование положения этих категорий населения в политической, экономической, культурной сферах, сферах образования и семейных отношений, нормы об охране материнства и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Международные документы, регламентирующие статус женщин и их право на защиту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вень цивилизованности общества определяется, как уже доказано, его отношением к женщинам. В современную эпоху качественного обновления международных отношений права женщин реализуются в недостаточной мере ни в одной стр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а для развития принципа недискриминации прав и свобод человека без различия расы, пола, языка, религии была заложена в Уставе ООН, где сказано, что государства - члены ООН готовы «утвердить веру в основные права человека, в достоинство и ценность человеческой личности, в равноправие мужчин и женщин». Также провозглашается международное сотрудничество в «поощрении и развитии уважения к правам человека, и основным свободам для всех без различия расы, пола, языка и религии». С тех пор концепция равенства стала основополагающей принципом в борьбе за обеспечение прав женщ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ООН, защищая права женщин, организовывает конференции и принимает следующие документы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49 г. - Конвенция, принятая ГА ООН, о борьбе с торговлей людьми и эксплуатацией проституции третьими ли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51 г. - Конвенция МОТ о равном вознаграждении мужчин и женщин за труд равной ц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52 г. - Конвенция, принятая ГА ООН, о политических правах женщ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57 г. - Конвенция о гражданстве замужней женщины, предоставляющая женщинам право сохранять или менять гражданство вне зависимости от действий их муж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2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1960 г. - Конвенция о дискриминации в области труда и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1962 г. - Конвенция, принятая ГА ООН, о согласии на вступление в брак, брачном возрасте и регистрации бра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1967 г. - Декларация о ликвидации дискриминации в отношении женщ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1975 г. - Всемирная конференция в рамках Международного года женщины (Мехико) - принимается первый Всемирный план действий, провозглашено первое Десятилетие женщины: развитие, равенство, м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96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60948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76 г. - ГА ООН учреждает Фонд добровольных взносов для Десятилетия женщины (ЮНИФЕМ) и Международный учебный и научно-исследовательский институт по улучшению положения женщины (МУНИУЖ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79 г. - Конвенция о ликвидации всех форм дискриминации в отношении женщ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80 г. - на Всемирной конференции в рамках Десятилетия женщины ООН в г. Копенгаген оценивается прогресс, достигнутый к середине Десятиле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85 г. - На третьей Конференции ООН по положению женщин в Найроби разрабатываются стратегии в области улучшения положения женщин в период до 2000 г.. Фонд добровольных взносов становится Фондом ООН для развития в интересах женщин, имеющих автономный статус при Программе развития О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86 г. - опубликование первого Мирового обзора по вопросу о роли женщин в разви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91 г. - вышло в свет издании «Женщины мира: тенденции и статистика», где можно узнать данные о положении женщин во все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92 г. - Конференция ООН по окружающей среде и развитию, проходившая в Рио-де-Жанейро. Была подчеркнута значимая роль женщин в процессе устойчив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1993 г. - Декларация, принятая ГА ООН о ликвидации насилия в отношении женщин. Также в этом году на Всемирной конференции по правам человека в Вене были включены в повестку дня вопросы насилия в отношении женщ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300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1994 г. - На Международной конференции по народонаселению и развитию, проходившей в Каире, неотъемлемой частью прогресса считается расширение прав женщ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1995 г. - четвертая Конференция по положению женщин. Принимается Платформа действий, отражающая всю совокупность проблем, касающихся женщ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62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Комитет по ликвидации дискриминации в отношении женщин ООН создан в силу ст. 17 Конвенции по ликвидации всех форм дискриминации в отношении женщин 1979 г., особенностью которого является то, что он полностью состоит из женщин, а таким образом из 23 экспертов-женщин, обладающих высокими моральными качествами и компетентностью в области, охватываемой настоящей Конвенцией (в качестве системы мониторинга для наблюдения за ходом соблюдения Конвенции государствам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705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Международная организация труда (далее - МОТ) была создана в 1919 г. еще в рамках Лиги Наций. В 1946 г. МОТ стала первым специализированным учреждением ООН. Необходимо также отметить, что работа МОТ с первых лет существования в области защиты прав женщин может быть сведена к решению следующих проблем: оценка труда женщин через статистические показатели; занятость женщин на рынке труда; условия труда; специфические вопросы, затрагивающие интересы женщин как трудящихся с семейными обязанност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6-01T07:03:0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