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C595-5494-41BA-A8E0-6FAE40EE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821-44DC-43EF-908D-19F08610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58D-74BA-43EC-B2EE-24D90357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515B-8A83-4125-8814-C9EA0041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9D15-549B-4B76-839F-AD6C4201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FE00-69A1-40F3-81D2-AF15C373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AF8B-A872-48C8-B8F4-8BB3D6BC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DF6D-AEFD-4C53-8D5B-A4B2C55C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0A03-F35F-4DB8-B84B-1E93D595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EBDF-ED83-407B-B441-0C538453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6462-C8B9-4473-9B40-3ED7D8A8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443-1EE1-49FA-B2D5-07127E53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8395-FC4B-495C-907E-D376E0E5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7B97-D655-4C52-81A2-11330833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586B-198F-4878-A04A-FFFCC65D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9D08-E24C-4E27-8407-191EE350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8D96-9244-449B-B0AD-6A5E110A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2A4-8C3E-4255-B33A-0BC743E3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3CA-0607-436A-98E3-FBDD3CEA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D47-91D6-4F9B-A9F7-309A2ED6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829-563B-44F1-82D8-82B3893A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CB9-527D-4F11-AF48-6CB0BFAD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A16-0C7D-41C4-8DC0-B08C228A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FCD-3AFD-4E4F-8698-D214A11D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A650-F797-4BC8-B68B-659F15FB59A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7AF1-6738-4030-86EE-A6A5B861F1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МЕЖДУНАРОДНЫЕ СТАНДАРТЫ В ОБЛАСТИ ПРАВ ЧЕЛОВЕ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ие с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РЕГИОНАЛЬНЫЕ ДОКУМЕНТЫ ПО ПРАВАМ ЧЕЛОВЕ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кументы ОБСЕ, Совета Европы и т.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Региональные учреждения по правам челове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уководящие принципы, правила, методические материалы ОБ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шения Европейского Суда по правам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ТРЕХУРОВНЕВАЯ КОНЦЕПЦИЯ ОБЯЗАТЕЛЬСТВ В ОБЛАСТИ ПРАВ ЧЕЛОВЕКА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Уважение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Защита осуществления пра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Поощрение или содействие осуществлению индивидуальных пра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1. Уважение</a:t>
            </a:r>
            <a:r>
              <a:rPr b="0" i="1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а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язывает правительство воздерживаться от нарушения прав человек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Негативное» обязательство, или обязательство не прибегать к конкретному действию или практи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ассический пример: обязательство государства воздерживаться от любого применения пыток или произвольного лишения жизн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2. Защита осуществления прав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сударство-участник должно не только воздерживаться от нарушения прав человека как таковых, но и защищать каждого человека от нарушения его прав третьими сторонами независимо то того, являются ли они частными лицами, корпорациями или другими негосударственными субъекта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3. Поощрение или содействие осуществлению индивидуальных прав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сударство-участник должно принимать требуемые меры по созданию необходимой и благоприятной среды, в условиях которой соответствующие права могли бы быть реализованы в полном объем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Многосторонние договоры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хартия, пакт, конвенция и протокол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47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говоры в официальном порядке принимаются государствами (посредством ратификации   или   присоединения)   и,   таким   образом,   считаются   имеющими обязательную юридическую силу соглашениями между государств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отоко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сторонний договор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торый расширяет или модифицирует действие конвенции, пакта или другого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говора, с которым он связ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Другие докумен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кларации, своды принципов, руководящие принципами, правила и т. 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e7ff"/>
                </a:solidFill>
                <a:latin typeface="Arial"/>
              </a:rPr>
              <a:t>Декларации,   руководящие   принципы, минимальные   правила,   своды принципов и т.д.</a:t>
            </a: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7636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меют различное обязательное действи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зависимости от степени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есткости, с которой они, в частности, трактуют обязательства, предусмотренные в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говорах, отражают нормы международного обычного права или общие принципы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ва, отражают нормы международного обычного права, которые еще только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уются, или считаются отражением наилучших образцов практики, не обладая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олее обязательной юридической сил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Международный документ по правам челове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широком смысле общий  термин,  означающий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ждународный договор или другой устанавливающий стандарты документ, в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астности декларацию, свод принципов, руководящие принципы и т. 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КОМИТЕТЫ и КОМИССИИ ООН 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шения, замечания, комментарии, заклю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ТЕМАТИЧЕСКИЕ МЕХАНИЗМЫ ООН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тановление фактов, рекомендации, коммента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ТЕМАТИЧЕСКИЕ МЕХАНИЗМЫ ООН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бочая группа по насильственным и принудительным исчезновения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ьный докладчик по внесудебным, суммарным и произвольным казня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ьный докладчик по пытка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ьный докладчик по свободе вероисповедания и убеждения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ьный докладчик по торговле детьми, детской проституции и детской порнографии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бочая группа по незаконному задержанию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ьный докладчик по современным формам расизма, расовой дискриминации, ксенофобии и связанным проявлениям нетерпим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ьный докладчик по обеспечению и защите права на свободу мнения и выражения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ьный докладчик по насилию в отношении женщин, его причинам и последствия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ьный докладчик по независимости судей и адвокатов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ьный докладчик по неблагоприятному воздействию незаконного перемещения и утилизации токсичных и опасных веществ и отходов на осуществление прав человек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ьный докладчик по праву на образовани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ьный докладчик по правам человека мигрантов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ьный докладчик по праву на приемлемое жилище как компоненту права на приемлемый уровень жизн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ьный докладчик по праву на питани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ьный представитель Генерального Секретаря по правозащитник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пециальный докладчик по правам человека и основным свободам коренных народо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08:40:27Z</dcterms:created>
  <dc:creator>Евгений Александрович</dc:creator>
  <dc:description/>
  <dc:language>en-US</dc:language>
  <cp:lastModifiedBy>Вика</cp:lastModifiedBy>
  <dcterms:modified xsi:type="dcterms:W3CDTF">2010-05-13T12:01:14Z</dcterms:modified>
  <cp:revision>13</cp:revision>
  <dc:subject/>
  <dc:title>Многосторонние договоры хартия, пакт, конвенция и протокол </dc:title>
</cp:coreProperties>
</file>