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14.wmf" ContentType="image/x-wmf"/>
  <Override PartName="/ppt/media/image5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1B3-0E1E-46AF-A756-6A4E0D2A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0167-5330-4DE5-BF0E-A245B8C4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6F6B-3C7A-4CE1-9E50-4BCAAC20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BAF-0BC7-42D3-A406-FF54DE1E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F518-750A-419D-9296-1935035B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A66C-1166-46C2-B7CA-61B2AE95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5CC0-400B-4F34-AF22-49803A05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100D-AF04-41EA-ABF4-B53BDDF4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AF1D-8A4F-4D35-93E7-4616B727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4048-DD3F-449B-9DCA-9B410321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4D60-8349-43D3-89C7-952B0538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C921-8EAD-4744-A6AE-34767097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D4F5-425F-48F5-B693-562589D1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2448-0B12-475D-B66A-7F029579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D58E-D9CA-443D-AAB0-BACD0D45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7868-D3B8-4F85-AF6A-A9821F6F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4F01-222A-45AB-B3FD-2962B44D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4BE-A774-4822-B4CE-3655EF59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605-6D13-464D-AF0A-D21A2D1B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C3D4-CA30-4CAA-AA76-E57EA6BC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B08-0F62-4B7B-9973-08C331EC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777-4ACD-47A9-907B-E7ADB031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F18-E18C-40CF-B99D-8815DBDF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9B5-FF1F-45A0-BA9D-65D1BEE0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6604-36D5-4E17-984E-475882E3CE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DC17-49FB-49E8-A3A2-3D27E241411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околения прав челове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356000" y="2491920"/>
            <a:ext cx="446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ражданские и политические права человека, экономические социальные и культурные права человека, коллективные п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BS02064_"/>
          <p:cNvPicPr/>
          <p:nvPr/>
        </p:nvPicPr>
        <p:blipFill>
          <a:blip r:embed="rId1"/>
          <a:stretch/>
        </p:blipFill>
        <p:spPr>
          <a:xfrm>
            <a:off x="395280" y="4149720"/>
            <a:ext cx="1919160" cy="2060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"/>
          <p:cNvSpPr/>
          <p:nvPr/>
        </p:nvSpPr>
        <p:spPr>
          <a:xfrm>
            <a:off x="755640" y="5661000"/>
            <a:ext cx="8077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АЛДЫКОРГАНСКИЙ ПРАВОЗАЩИТНЫЙ ЦЕН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ООН"/>
          <p:cNvPicPr/>
          <p:nvPr/>
        </p:nvPicPr>
        <p:blipFill>
          <a:blip r:embed="rId2"/>
          <a:stretch/>
        </p:blipFill>
        <p:spPr>
          <a:xfrm>
            <a:off x="2556000" y="4149720"/>
            <a:ext cx="16984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3772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гласное и с соблюдением всех требований справедливости рассмотрение дела независимым и беспристрастным суд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запрещение осуждения за деяние,  которое во время  его совершения не составляло преступ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377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от произвольного вмешательства в  личную  и  семейную жизнь,  произвольного посягательства на неприкосновенность жилища или тайну корреспонден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передвижения и выбора местожительства,  в   том числе право покидать любую страну и возвращаться в  свою  стран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7720" y="1197000"/>
            <a:ext cx="80074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бежище в других стран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граждан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вступление в брак и создание семь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BD05545_"/>
          <p:cNvPicPr/>
          <p:nvPr/>
        </p:nvPicPr>
        <p:blipFill>
          <a:blip r:embed="rId1"/>
          <a:stretch/>
        </p:blipFill>
        <p:spPr>
          <a:xfrm>
            <a:off x="5219640" y="3068640"/>
            <a:ext cx="33116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3640" y="1700280"/>
            <a:ext cx="85215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владение имущество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свободу мысли, совести и религ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свободу убеждений и на свободное их выраже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4502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мирных собраний и ассоциац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частие в управлении своей стран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ный доступ  к  государственной  службе  в  своей  стр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BD06982_"/>
          <p:cNvPicPr/>
          <p:nvPr/>
        </p:nvPicPr>
        <p:blipFill>
          <a:blip r:embed="rId1"/>
          <a:stretch/>
        </p:blipFill>
        <p:spPr>
          <a:xfrm>
            <a:off x="4932360" y="4276800"/>
            <a:ext cx="34974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44704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кономические, социальные и культурные права челове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2708280"/>
            <a:ext cx="84502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оциальное обеспеч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труд и свободный выбор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ную опла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равный тру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PE02002_"/>
          <p:cNvPicPr/>
          <p:nvPr/>
        </p:nvPicPr>
        <p:blipFill>
          <a:blip r:embed="rId1"/>
          <a:stretch/>
        </p:blipFill>
        <p:spPr>
          <a:xfrm>
            <a:off x="6200640" y="3716280"/>
            <a:ext cx="242892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450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праведливое и удовлетворительное вознаграждение, обеспечивающее достойное человека существ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создавать профессиональные союз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отдых и досу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85215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жизненный уровень, необходимый для поддержания здоровья и благосостояния (включая пищу,  одежду, жилище, и медицинский уход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социальное обеспечение на случай  безработицы,  болезни, инвалидности, вдовства, наступления старости или иного случая утраты средств к существованию по не зависящим  от  человека обстоятельств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защиту материнства и дет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215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образование, причем родители имеют право приоритета в выборе вида образования для своих де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частие в культурной жизн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защиту моральных и материальных  интересов,  являющихся результатом  научных,  литературных или художественных  трудов автор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photo"/>
          <p:cNvPicPr/>
          <p:nvPr/>
        </p:nvPicPr>
        <p:blipFill>
          <a:blip r:embed="rId1"/>
          <a:stretch/>
        </p:blipFill>
        <p:spPr>
          <a:xfrm>
            <a:off x="539640" y="260280"/>
            <a:ext cx="2952720" cy="984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photo2"/>
          <p:cNvPicPr/>
          <p:nvPr/>
        </p:nvPicPr>
        <p:blipFill>
          <a:blip r:embed="rId2"/>
          <a:stretch/>
        </p:blipFill>
        <p:spPr>
          <a:xfrm>
            <a:off x="5796000" y="5553000"/>
            <a:ext cx="29685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ллективные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солидарные» прав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2637000"/>
            <a:ext cx="85215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звит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здоров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ружающую сре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BD06662_"/>
          <p:cNvPicPr/>
          <p:nvPr/>
        </p:nvPicPr>
        <p:blipFill>
          <a:blip r:embed="rId1"/>
          <a:stretch/>
        </p:blipFill>
        <p:spPr>
          <a:xfrm>
            <a:off x="5003640" y="2943360"/>
            <a:ext cx="354996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377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одним из первых исторических документов, кодифицирующих права человека, относятся английские Великая хартия вольностей 1215 года и «Билль о правах» 1689 года. Эти документы гарантировали права, которые могли быть поставлены под угрозу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следующие столетия концепция свобод индивида отделилась от концепции его социального статуса и стала рассматриваться не как привилегия, но как право, присущее всем человеческим существ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уго Гроций и Джон Локк разработали всеобъемлющую теорию естественного права. Жан-Жак Руссо выдвинул концепцию, согласно которой монарх получает власть в результате «общественного договора» со своими подданными. Шарль Монтескье предложил концепцию разделения вла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BS00554_"/>
          <p:cNvPicPr/>
          <p:nvPr/>
        </p:nvPicPr>
        <p:blipFill>
          <a:blip r:embed="rId1"/>
          <a:stretch/>
        </p:blipFill>
        <p:spPr>
          <a:xfrm>
            <a:off x="7020000" y="5589720"/>
            <a:ext cx="18698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50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меньшинст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народ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социальных, профессиональных и других груп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ООН"/>
          <p:cNvPicPr/>
          <p:nvPr/>
        </p:nvPicPr>
        <p:blipFill>
          <a:blip r:embed="rId1"/>
          <a:stretch/>
        </p:blipFill>
        <p:spPr>
          <a:xfrm>
            <a:off x="6012000" y="4149720"/>
            <a:ext cx="25635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20811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26320" cy="31118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1763640" y="4941720"/>
            <a:ext cx="583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</a:rPr>
              <a:t>ТАЛДЫКОРГАНСКИЙ ПРАВОЗАЩИТНЫЙ ЦЕН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WordArt 7"/>
          <p:cNvSpPr txBox="1"/>
          <p:nvPr/>
        </p:nvSpPr>
        <p:spPr>
          <a:xfrm rot="20502600">
            <a:off x="1943280" y="3357720"/>
            <a:ext cx="7200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878000"/>
                </a:gradFill>
                <a:latin typeface="Impact"/>
              </a:rPr>
              <a:t>ВСЕ   ПРАВА   ЧЕЛОВЕКА ДЛЯ   ВСЕХ 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878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99640" y="54936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 теории послужили руководством к действию для населения британских колоний в Северной Америке. Американская Декларация независимости, принятая 4 июля 1776 года, основывалась на том, что все люди равны, и содержала ссылки на такие неотъемлемые права, как право на жизнь, свободу и стремление к счастью. В дальнейшем положения Декларации были включены в «Билль о правах», дополнивший в 1791 году Конституцию США 1787 года. 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льнейшее развитие теория прав человека получила во французской Декларации прав человека и гражданина 1789 года, в которой впервые появился термин «права человека» (droits de l'homm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BS02064_"/>
          <p:cNvPicPr/>
          <p:nvPr/>
        </p:nvPicPr>
        <p:blipFill>
          <a:blip r:embed="rId1"/>
          <a:stretch/>
        </p:blipFill>
        <p:spPr>
          <a:xfrm>
            <a:off x="7121520" y="4941720"/>
            <a:ext cx="13176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3059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же в XVIII-XIX веках получила свое развитие идея о том, что граждане имеют право ожидать от своего государства улучшения условий жизни. В некоторых европейских конституциях XIX века содержались не только положения о классических правах человека, но и статьи, возлагавшие на государство ответственность в сфере занятости, социального обеспечения, общественного здравоохранения и образования. Бернская конвенция 1906 года о запрещении ночного труда женщин стала первым международным договором в области социальных прав. Значительное количество конвенций в области труда разработано Международной организацией труда, созданной в 1919 году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a1" descr="http://www.chrf.ca/francais/programmes_fran/files/images/menu-off_01.jpg"/>
          <p:cNvPicPr/>
          <p:nvPr/>
        </p:nvPicPr>
        <p:blipFill>
          <a:blip r:embed="rId1"/>
          <a:stretch/>
        </p:blipFill>
        <p:spPr>
          <a:xfrm>
            <a:off x="7236000" y="476280"/>
            <a:ext cx="1199880" cy="1104840"/>
          </a:xfrm>
          <a:prstGeom prst="rect">
            <a:avLst/>
          </a:prstGeom>
          <a:ln w="0">
            <a:noFill/>
          </a:ln>
        </p:spPr>
      </p:pic>
      <p:pic>
        <p:nvPicPr>
          <p:cNvPr id="109" name="a2" descr="http://www.chrf.ca/francais/programmes_fran/files/images/menu-off_02.jpg"/>
          <p:cNvPicPr/>
          <p:nvPr/>
        </p:nvPicPr>
        <p:blipFill>
          <a:blip r:embed="rId2"/>
          <a:stretch/>
        </p:blipFill>
        <p:spPr>
          <a:xfrm>
            <a:off x="900000" y="476280"/>
            <a:ext cx="1200240" cy="1104840"/>
          </a:xfrm>
          <a:prstGeom prst="rect">
            <a:avLst/>
          </a:prstGeom>
          <a:ln w="0">
            <a:noFill/>
          </a:ln>
        </p:spPr>
      </p:pic>
      <p:pic>
        <p:nvPicPr>
          <p:cNvPr id="110" name="a3" descr="http://www.chrf.ca/francais/programmes_fran/files/images/menu-off_03.jpg"/>
          <p:cNvPicPr/>
          <p:nvPr/>
        </p:nvPicPr>
        <p:blipFill>
          <a:blip r:embed="rId3"/>
          <a:stretch/>
        </p:blipFill>
        <p:spPr>
          <a:xfrm>
            <a:off x="2484360" y="476280"/>
            <a:ext cx="1200240" cy="1104840"/>
          </a:xfrm>
          <a:prstGeom prst="rect">
            <a:avLst/>
          </a:prstGeom>
          <a:ln w="0">
            <a:noFill/>
          </a:ln>
        </p:spPr>
      </p:pic>
      <p:pic>
        <p:nvPicPr>
          <p:cNvPr id="111" name="a4" descr="http://www.chrf.ca/francais/programmes_fran/files/images/menu-off_04.jpg"/>
          <p:cNvPicPr/>
          <p:nvPr/>
        </p:nvPicPr>
        <p:blipFill>
          <a:blip r:embed="rId4"/>
          <a:stretch/>
        </p:blipFill>
        <p:spPr>
          <a:xfrm>
            <a:off x="4067280" y="476280"/>
            <a:ext cx="1199880" cy="1104840"/>
          </a:xfrm>
          <a:prstGeom prst="rect">
            <a:avLst/>
          </a:prstGeom>
          <a:ln w="0">
            <a:noFill/>
          </a:ln>
        </p:spPr>
      </p:pic>
      <p:pic>
        <p:nvPicPr>
          <p:cNvPr id="112" name="a5" descr="http://www.chrf.ca/francais/programmes_fran/files/images/menu-off_05.jpg"/>
          <p:cNvPicPr/>
          <p:nvPr/>
        </p:nvPicPr>
        <p:blipFill>
          <a:blip r:embed="rId5"/>
          <a:stretch/>
        </p:blipFill>
        <p:spPr>
          <a:xfrm>
            <a:off x="5651640" y="476280"/>
            <a:ext cx="1209600" cy="11048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822240" y="2876400"/>
            <a:ext cx="1365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467080" y="2876400"/>
          <a:ext cx="5854680" cy="517680"/>
        </p:xfrm>
        <a:graphic>
          <a:graphicData uri="http://schemas.openxmlformats.org/drawingml/2006/table">
            <a:tbl>
              <a:tblPr/>
              <a:tblGrid>
                <a:gridCol w="1365120"/>
                <a:gridCol w="1122480"/>
                <a:gridCol w="1122120"/>
                <a:gridCol w="1122480"/>
                <a:gridCol w="11224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211640" y="476280"/>
            <a:ext cx="46339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ступления против человечности, совершенные во время Второй мировой войны, показали несостоятельность традиционной точки зрения о том, что обращение государств со своими гражданами является исключительно их внутренним делом. Подписание Устава ООН 26 июня 1945 года определило место Прав Человека как неотъемлемой части современного международного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444"/>
          <p:cNvPicPr/>
          <p:nvPr/>
        </p:nvPicPr>
        <p:blipFill>
          <a:blip r:embed="rId1"/>
          <a:stretch/>
        </p:blipFill>
        <p:spPr>
          <a:xfrm>
            <a:off x="684360" y="476280"/>
            <a:ext cx="3311280" cy="5878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ООН"/>
          <p:cNvPicPr/>
          <p:nvPr/>
        </p:nvPicPr>
        <p:blipFill>
          <a:blip r:embed="rId2"/>
          <a:stretch/>
        </p:blipFill>
        <p:spPr>
          <a:xfrm>
            <a:off x="468360" y="189000"/>
            <a:ext cx="16984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коление прав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ажданские и политические 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циальные, экономические и культурные 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ллективные (солидарные) 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Гражданские и политические</a:t>
            </a:r>
            <a:br>
              <a:rPr sz="4000"/>
            </a:b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рава челове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жизнь, свободу и безопасность лич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от рабства и подневольного состоя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BS00285_"/>
          <p:cNvPicPr/>
          <p:nvPr/>
        </p:nvPicPr>
        <p:blipFill>
          <a:blip r:embed="rId1"/>
          <a:stretch/>
        </p:blipFill>
        <p:spPr>
          <a:xfrm>
            <a:off x="6012000" y="3730680"/>
            <a:ext cx="24778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3772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 от пыток и жестокого, бесчеловечного или  унижающего человеческое достоинство обращения и наказ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призн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субъект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BD06990_"/>
          <p:cNvPicPr/>
          <p:nvPr/>
        </p:nvPicPr>
        <p:blipFill>
          <a:blip r:embed="rId1"/>
          <a:stretch/>
        </p:blipFill>
        <p:spPr>
          <a:xfrm>
            <a:off x="5580000" y="3789360"/>
            <a:ext cx="250344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215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енство перед зако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эффективное восстановление в правах в случае нарушения прав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 от произвольного ареста,  задержания или изгн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презумпцию невиновности до тех пор, пока виновность не будет установле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9:28:22Z</dcterms:created>
  <dc:creator>Yuriy Gussakov</dc:creator>
  <dc:description/>
  <dc:language>en-US</dc:language>
  <cp:lastModifiedBy>User</cp:lastModifiedBy>
  <dcterms:modified xsi:type="dcterms:W3CDTF">2015-06-01T10:32:48Z</dcterms:modified>
  <cp:revision>14</cp:revision>
  <dc:subject/>
  <dc:title>Первое поколение прав человека</dc:title>
</cp:coreProperties>
</file>