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22.jpeg" ContentType="image/jpeg"/>
  <Override PartName="/ppt/media/cashreg.wav" ContentType="audio/x-wav"/>
  <Override PartName="/ppt/media/image15.wmf" ContentType="image/x-wmf"/>
  <Override PartName="/ppt/media/image41.jpeg" ContentType="image/jpeg"/>
  <Override PartName="/ppt/media/image14.wmf" ContentType="image/x-wmf"/>
  <Override PartName="/ppt/media/image13.jpeg" ContentType="image/jpeg"/>
  <Override PartName="/ppt/media/image40.jpeg" ContentType="image/jpeg"/>
  <Override PartName="/ppt/media/image20.jpeg" ContentType="image/jpeg"/>
  <Override PartName="/ppt/media/image12.png" ContentType="image/png"/>
  <Override PartName="/ppt/media/image23.jpeg" ContentType="image/jpeg"/>
  <Override PartName="/ppt/media/image29.jpeg" ContentType="image/jpeg"/>
  <Override PartName="/ppt/media/image35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.wmf" ContentType="image/x-wmf"/>
  <Override PartName="/ppt/media/image33.jpeg" ContentType="image/jpeg"/>
  <Override PartName="/ppt/media/image6.wmf" ContentType="image/x-wmf"/>
  <Override PartName="/ppt/media/image19.jpeg" ContentType="image/jpeg"/>
  <Override PartName="/ppt/media/image9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camera.wav" ContentType="audio/x-wav"/>
  <Override PartName="/ppt/media/image21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186F-5F4F-4FC9-83D2-A5AF4A14C2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3820-B9E1-4A27-8DCA-E3E8127386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нятие прав человека стало реальностью политической теории и практики в Европе в Х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I веке. Теория естественных прав впервые была комплексно разработана в работе Джона Локка «Второй доклад о государстве», опубликованной в 1688 г. сразу после так называемой Славной революции в Англии, приведшей к смещению с трона короля Джеймса I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ория Локка исходит из того, что на раннем, естественном этапе развития общества люди были равными и обладали естественными правами на жизнь, свободу и имущество. Но эти права мало что дают в условиях отсутствия государства. Людям почти невозможно защитить свои права в одиночку, а споры по поводу прав сами по себе являются мощным источником конфликтов. Люди создали общество — а общество создало государство — именно для того, чтобы иметь возможность пользоваться своими естественными прав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EB9-6773-4765-BD07-5FCD6554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1EE-1B80-47C1-B872-A8008D30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9CE-3C00-41C5-937D-209FC39F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BD8-EAF6-4689-9043-9147AEE5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8357-CD2D-412C-8D43-1A612D8F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9D98-CC72-4927-B033-906A8692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07DF-11B4-455B-8E0C-60F0B0F0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D50F-1E3C-444A-AE71-663AA2C8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E74B-0665-4468-944D-E15C2633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EEFE-7555-4E7D-A7CD-28C9EF24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5091-B0EC-404B-B650-39FB3063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7B6-84A1-47F5-9AEF-228B3EEF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89E8-F3CB-445C-A863-A575BEEF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694E-611F-4838-93CE-80C9EC0C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755A-C387-41EF-A00B-FD7C1081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5ACA-23BF-45AB-9CAF-80CC94F8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53C7-B3C9-4FDE-BB80-CDF701E0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B9D-F23E-4F46-80C3-AA4C6FD8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23E-8963-46E6-8B19-99159041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D93-6102-4163-85D3-52C9FC31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ED0-EA15-45B9-9379-1313A2EE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0C6-E42C-47AD-B825-65F346ED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265-B68D-4CD4-80C4-225C5D6A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980-B931-4BC2-86F8-847CE1D1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F5CE-7E22-489F-818A-9A783326B82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21B6-0CC6-41EC-BBCC-A90B146BE1F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images.yandex.ru/yandpage?q=1207350240&amp;p=0&amp;ag=ih&amp;rpt2=simage&amp;qs=text%3D%25ED%25C1%25D2%25C5%25CB%2B%25EE%25CF%25D7%25C9%25C3%25CB%25C9%25CA%26stype%3Dimage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2.jpeg"/><Relationship Id="rId14" Type="http://schemas.openxmlformats.org/officeDocument/2006/relationships/image" Target="../media/image3.jpeg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33560" y="1371600"/>
            <a:ext cx="51051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Концепция</a:t>
            </a: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Прав</a:t>
            </a: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Челове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120" y="5105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ЛДЫКОРГАНСКИЙ ПРАВОЗАЩИТНЫЙ ЦЕН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015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105440" y="2938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4" descr="BS00554_"/>
          <p:cNvPicPr/>
          <p:nvPr/>
        </p:nvPicPr>
        <p:blipFill>
          <a:blip r:embed="rId1"/>
          <a:stretch/>
        </p:blipFill>
        <p:spPr>
          <a:xfrm>
            <a:off x="685800" y="1768320"/>
            <a:ext cx="3238560" cy="2194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411480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0100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1052640"/>
            <a:ext cx="43909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еловек, отстаивая свои права може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едъявлять претензии к государств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6"/>
          <p:cNvPicPr/>
          <p:nvPr/>
        </p:nvPicPr>
        <p:blipFill>
          <a:blip r:embed="rId1"/>
          <a:stretch/>
        </p:blipFill>
        <p:spPr>
          <a:xfrm rot="799200">
            <a:off x="5143680" y="1292400"/>
            <a:ext cx="3209760" cy="4836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BS02064_"/>
          <p:cNvPicPr/>
          <p:nvPr/>
        </p:nvPicPr>
        <p:blipFill>
          <a:blip r:embed="rId2"/>
          <a:stretch/>
        </p:blipFill>
        <p:spPr>
          <a:xfrm>
            <a:off x="611280" y="5084640"/>
            <a:ext cx="9144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125000"/>
            <a:ext cx="791856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ичный автономный мир человека неприкосновенен для государ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3851280" y="404640"/>
            <a:ext cx="3203640" cy="36738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 flipH="1">
            <a:off x="2627280" y="404640"/>
            <a:ext cx="3168720" cy="4392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9" descr="BS02064_"/>
          <p:cNvPicPr/>
          <p:nvPr/>
        </p:nvPicPr>
        <p:blipFill>
          <a:blip r:embed="rId1"/>
          <a:stretch/>
        </p:blipFill>
        <p:spPr>
          <a:xfrm>
            <a:off x="684360" y="5084640"/>
            <a:ext cx="914400" cy="981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Пч Дети"/>
          <p:cNvPicPr/>
          <p:nvPr/>
        </p:nvPicPr>
        <p:blipFill>
          <a:blip r:embed="rId2"/>
          <a:stretch/>
        </p:blipFill>
        <p:spPr>
          <a:xfrm>
            <a:off x="3419640" y="2733840"/>
            <a:ext cx="52578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Три типа</a:t>
            </a:r>
            <a:br>
              <a:rPr sz="3600"/>
            </a:b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природы взаимоотношений Человека и Власт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9880" y="251460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вичность вла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вичность челове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щественный догов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3577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337176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14" descr="BD00028_"/>
          <p:cNvPicPr/>
          <p:nvPr/>
        </p:nvPicPr>
        <p:blipFill>
          <a:blip r:embed="rId1"/>
          <a:stretch/>
        </p:blipFill>
        <p:spPr>
          <a:xfrm>
            <a:off x="685800" y="2133720"/>
            <a:ext cx="2743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ВИЧНОСТЬ ВЛАСТ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Picture 3" descr="BD05552_"/>
          <p:cNvPicPr/>
          <p:nvPr/>
        </p:nvPicPr>
        <p:blipFill>
          <a:blip r:embed="rId1"/>
          <a:stretch/>
        </p:blipFill>
        <p:spPr>
          <a:xfrm>
            <a:off x="1066680" y="3505320"/>
            <a:ext cx="2438640" cy="1981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BD05537_"/>
          <p:cNvPicPr/>
          <p:nvPr/>
        </p:nvPicPr>
        <p:blipFill>
          <a:blip r:embed="rId2"/>
          <a:stretch/>
        </p:blipFill>
        <p:spPr>
          <a:xfrm>
            <a:off x="5562720" y="1600200"/>
            <a:ext cx="2646360" cy="40132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006240" y="57564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754280" y="56386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лов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7"/>
          <p:cNvSpPr/>
          <p:nvPr/>
        </p:nvSpPr>
        <p:spPr>
          <a:xfrm rot="8574000">
            <a:off x="3107880" y="3839760"/>
            <a:ext cx="2347920" cy="992160"/>
          </a:xfrm>
          <a:prstGeom prst="rightArrow">
            <a:avLst>
              <a:gd name="adj1" fmla="val 67315"/>
              <a:gd name="adj2" fmla="val 19822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8"/>
          <p:cNvSpPr/>
          <p:nvPr/>
        </p:nvSpPr>
        <p:spPr>
          <a:xfrm rot="19629600">
            <a:off x="4114800" y="4952520"/>
            <a:ext cx="976320" cy="486000"/>
          </a:xfrm>
          <a:prstGeom prst="rightArrow">
            <a:avLst>
              <a:gd name="adj1" fmla="val 54898"/>
              <a:gd name="adj2" fmla="val 173126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BS02064_"/>
          <p:cNvPicPr/>
          <p:nvPr/>
        </p:nvPicPr>
        <p:blipFill>
          <a:blip r:embed="rId3"/>
          <a:stretch/>
        </p:blipFill>
        <p:spPr>
          <a:xfrm>
            <a:off x="611280" y="5229360"/>
            <a:ext cx="9144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ЕРВИЧНОСТЬ ЧЕЛОВЕ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0" name="Picture 3" descr="BD05552_"/>
          <p:cNvPicPr/>
          <p:nvPr/>
        </p:nvPicPr>
        <p:blipFill>
          <a:blip r:embed="rId1"/>
          <a:stretch/>
        </p:blipFill>
        <p:spPr>
          <a:xfrm>
            <a:off x="533520" y="1523880"/>
            <a:ext cx="417024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BD05537_"/>
          <p:cNvPicPr/>
          <p:nvPr/>
        </p:nvPicPr>
        <p:blipFill>
          <a:blip r:embed="rId2"/>
          <a:stretch/>
        </p:blipFill>
        <p:spPr>
          <a:xfrm>
            <a:off x="6553080" y="3505320"/>
            <a:ext cx="1656000" cy="2006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1754280" y="57150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лов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860160" y="5715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л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9"/>
          <p:cNvSpPr/>
          <p:nvPr/>
        </p:nvSpPr>
        <p:spPr>
          <a:xfrm rot="1674600">
            <a:off x="4289400" y="3865680"/>
            <a:ext cx="2327400" cy="1373040"/>
          </a:xfrm>
          <a:prstGeom prst="rightArrow">
            <a:avLst>
              <a:gd name="adj1" fmla="val 60130"/>
              <a:gd name="adj2" fmla="val 1526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10"/>
          <p:cNvSpPr/>
          <p:nvPr/>
        </p:nvSpPr>
        <p:spPr>
          <a:xfrm rot="13185000">
            <a:off x="5334120" y="3656880"/>
            <a:ext cx="976320" cy="485640"/>
          </a:xfrm>
          <a:prstGeom prst="rightArrow">
            <a:avLst>
              <a:gd name="adj1" fmla="val 54898"/>
              <a:gd name="adj2" fmla="val 17325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1" descr="BS02064_"/>
          <p:cNvPicPr/>
          <p:nvPr/>
        </p:nvPicPr>
        <p:blipFill>
          <a:blip r:embed="rId3"/>
          <a:stretch/>
        </p:blipFill>
        <p:spPr>
          <a:xfrm>
            <a:off x="611280" y="5229360"/>
            <a:ext cx="9144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ОБЩЕСТВЕННЫЙ ДОГОВОР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8" name="Picture 1027" descr="BD05552_"/>
          <p:cNvPicPr/>
          <p:nvPr/>
        </p:nvPicPr>
        <p:blipFill>
          <a:blip r:embed="rId1"/>
          <a:stretch/>
        </p:blipFill>
        <p:spPr>
          <a:xfrm>
            <a:off x="609480" y="1752480"/>
            <a:ext cx="2895840" cy="3124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28" descr="BD05552_"/>
          <p:cNvPicPr/>
          <p:nvPr/>
        </p:nvPicPr>
        <p:blipFill>
          <a:blip r:embed="rId2"/>
          <a:stretch/>
        </p:blipFill>
        <p:spPr>
          <a:xfrm>
            <a:off x="5334120" y="1752480"/>
            <a:ext cx="3103560" cy="32004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1076"/>
          <p:cNvSpPr/>
          <p:nvPr/>
        </p:nvSpPr>
        <p:spPr>
          <a:xfrm>
            <a:off x="4572000" y="2819520"/>
            <a:ext cx="976320" cy="1247760"/>
          </a:xfrm>
          <a:prstGeom prst="rightArrow">
            <a:avLst>
              <a:gd name="adj1" fmla="val 54898"/>
              <a:gd name="adj2" fmla="val 8618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078"/>
          <p:cNvSpPr/>
          <p:nvPr/>
        </p:nvSpPr>
        <p:spPr>
          <a:xfrm>
            <a:off x="3429000" y="2819520"/>
            <a:ext cx="976320" cy="1247760"/>
          </a:xfrm>
          <a:prstGeom prst="leftArrow">
            <a:avLst>
              <a:gd name="adj1" fmla="val 39213"/>
              <a:gd name="adj2" fmla="val 9008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79"/>
          <p:cNvSpPr/>
          <p:nvPr/>
        </p:nvSpPr>
        <p:spPr>
          <a:xfrm>
            <a:off x="2746800" y="5334120"/>
            <a:ext cx="32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«Разговор на равных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1080" descr="BS02064_"/>
          <p:cNvPicPr/>
          <p:nvPr/>
        </p:nvPicPr>
        <p:blipFill>
          <a:blip r:embed="rId3"/>
          <a:stretch/>
        </p:blipFill>
        <p:spPr>
          <a:xfrm>
            <a:off x="684360" y="5157720"/>
            <a:ext cx="9144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инципы пользования правами челове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цип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ак - Нос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цип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азрешено – Запрещено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цип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гражданственности «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ериод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мен слишком больша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кошь дл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ина не вникать в су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сходящих вокруг него событий и не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ытаться повлиять на свою судьбу и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ьбу своих потомков. Слишком дорого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обходится самому гражданину, его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омкам и всей стране в целом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КУЛАК – НОС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во человека размахивать кулаком где угодно, когда угодно и сколько угодно заканчивается у кончика носа другого человека, который имеет право не получать по носу где угодно, когда угодно и сколько угодно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BS02064_"/>
          <p:cNvPicPr/>
          <p:nvPr/>
        </p:nvPicPr>
        <p:blipFill>
          <a:blip r:embed="rId1"/>
          <a:stretch/>
        </p:blipFill>
        <p:spPr>
          <a:xfrm>
            <a:off x="755640" y="5084640"/>
            <a:ext cx="9144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«Запрещено – Разрешено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»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3068280"/>
            <a:ext cx="7488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помним, что правозащитники  занимаются вопросами взаимоотношений человека с властью, с государством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ожение, согласно которому человеку разрешено все, что не запрещено Законом, а власти запрещено все, кроме того, что Закон прямо разрешает, лишь только ограничивает   возможности насильственного вмешательства государства в нашу жизнь, но не уменьшает наши нравственные обязательства по отношению к близким людям, соседям или людям вообщ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BS02064_"/>
          <p:cNvPicPr/>
          <p:nvPr/>
        </p:nvPicPr>
        <p:blipFill>
          <a:blip r:embed="rId1"/>
          <a:stretch/>
        </p:blipFill>
        <p:spPr>
          <a:xfrm>
            <a:off x="755640" y="5229360"/>
            <a:ext cx="914400" cy="981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611280" y="1413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нцип, согласно которому человеку разрешено все, что Законом не запрещено, а власти запрещено все, кроме того, что Законом прямо разрешено, и является основным в концепции  прав челове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87640" y="5229000"/>
            <a:ext cx="366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Воле Соинка,</a:t>
            </a:r>
            <a:br>
              <a:rPr sz="2400"/>
            </a:br>
            <a:r>
              <a:rPr b="1" i="1" lang="ru-RU" sz="2400" spc="-1" strike="noStrike">
                <a:solidFill>
                  <a:srgbClr val="ffcc66"/>
                </a:solidFill>
                <a:latin typeface="Times New Roman"/>
              </a:rPr>
              <a:t>нигерийский писатель,</a:t>
            </a:r>
            <a:br>
              <a:rPr sz="2400"/>
            </a:br>
            <a:r>
              <a:rPr b="1" i="1" lang="ru-RU" sz="2400" spc="-1" strike="noStrike">
                <a:solidFill>
                  <a:srgbClr val="ffcc66"/>
                </a:solidFill>
                <a:latin typeface="Times New Roman"/>
              </a:rPr>
              <a:t>Нобелевский лауреат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ериод перемен слишком большая роскошь для гражданина не вникать в суть происходящих вокруг него событий и не пытаться повлиять на свою судьбу и судьбу своих потомков. Слишком дорого это обходится самому гражданину, его потомкам, да и всей стране в целом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BS02064_"/>
          <p:cNvPicPr/>
          <p:nvPr/>
        </p:nvPicPr>
        <p:blipFill>
          <a:blip r:embed="rId1"/>
          <a:stretch/>
        </p:blipFill>
        <p:spPr>
          <a:xfrm>
            <a:off x="755640" y="5229360"/>
            <a:ext cx="9144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3577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D:\Documents and Settings\Администратор\Мои документы\Бюро\Личные папки\Ю.Гусаков\Казахстанское Международное Бюро по правам человека и соблюдению законности - Главная.files\photo.jpg"/>
          <p:cNvPicPr/>
          <p:nvPr/>
        </p:nvPicPr>
        <p:blipFill>
          <a:blip r:embed="rId1"/>
          <a:stretch/>
        </p:blipFill>
        <p:spPr>
          <a:xfrm>
            <a:off x="533520" y="533520"/>
            <a:ext cx="2886120" cy="1066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37176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C:\Мои документы\Личные папки\Ю.Гусаков\Казахстанское Международное Бюро по правам человека и соблюдению законности - Информация о бюро.files\photo2.jpg"/>
          <p:cNvPicPr/>
          <p:nvPr/>
        </p:nvPicPr>
        <p:blipFill>
          <a:blip r:embed="rId2"/>
          <a:stretch/>
        </p:blipFill>
        <p:spPr>
          <a:xfrm>
            <a:off x="5796000" y="5157720"/>
            <a:ext cx="2736720" cy="1057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9748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838080" y="1905120"/>
            <a:ext cx="74836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концепции Прав Человека сегодня практически не говорят. Стало само собой разумеющимся, что права человека – это то, что всем известно и понятно. К сожалению, у всех только схожие представления о правах человека. Как и каким образом выстроено понятие прав человека, что оно в себя включает, почему становится предметом спекуляций у политиков и зачем человеку Права – ответы на эти вопросы только помогут понять , что же это все-таки такое: «ПРАВА ЧЕЛОВЕКА»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8" descr="BS02064_"/>
          <p:cNvPicPr/>
          <p:nvPr/>
        </p:nvPicPr>
        <p:blipFill>
          <a:blip r:embed="rId3"/>
          <a:stretch/>
        </p:blipFill>
        <p:spPr>
          <a:xfrm>
            <a:off x="755640" y="5229360"/>
            <a:ext cx="9144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УНДАМЕНТАЛИЗМ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АВ ЧЕЛОВЕК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593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онституционном государстве условия, при которых права человека могут нарушаться, декларируются в конституции. Равным образом в конституции оговаривается, какие именно права могут быть законодательно ограничены и в какой степени, для защиты более приоритетных интересов общества. И, наконец, конституции обеспечивают специфические ситуации и процедуры, когда некоторые права могут быть приостановлены по причинам чрезвычайного характе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ундаментализм прав человека означает, что каждое отклонение от соблюдения этих прав властями должно иметь конституционно обоснованное оправд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. Осятын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BS02064_"/>
          <p:cNvPicPr/>
          <p:nvPr/>
        </p:nvPicPr>
        <p:blipFill>
          <a:blip r:embed="rId1"/>
          <a:stretch/>
        </p:blipFill>
        <p:spPr>
          <a:xfrm>
            <a:off x="755640" y="5229360"/>
            <a:ext cx="9144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 правах человека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а человека - это то, что обеспечит достоинство и человеческую ценность каждого мужчины, женщины и ребен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а человека - это универсальные и неотъемлемые права человека высказываться, действовать, расти, учиться и жить согласно своим представления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Кофи А. Анн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тстаивая права человека. Выступление в Комиссии ООН по правам человека // Проблема вмешательства. Выступления Генерального секретаря Организации Объединенных наций. ООН, 1999. С. 20-21)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а человека есть, в сущности, интерпретация идеалов гуманизма: свободы, равноправия, солидарности, справедливости, но интерпретация особого рода - этико-политико-правовая. Это предопределило сложную природу прав человека, являющихся целостным явлением лишь в отношении тех задач, во имя решения которых они и появились - защиты настоящего и будущего человека и человечества, преобразования общественных отношений на принципах уважения достоинства каждой лич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Л. И. Глухарева. Типология прав человека //Право и права человека. Сб. науч. тр. юрид. факультета МГПУ. Кн. 4. М., 2001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.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9898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а человека - это определенные нормативно структурированные свойства и особенности бытия личности, которые выражают ее свободу и являются неотъемлемыми и необходимыми способами и условиями ее жизни, ее взаимоотношений с обществом, государством, другими индивид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Е.А. Лукашева. Предмет и задачи теории прав человека II Права человека. Учебник для вузов I Под ред. Е.А. Лукашевой. М., 1999. С. 1)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а человека - это неотъемлемые свойства личности, которые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) обеспечивают наиболее существенные возможности ее развити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) определяют меру ее свобо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) определяют возможности пользоваться духовными и материальными благам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) зафиксированы в нормах международного и внутригосударственного пра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Ф.М. Рудинский. Универсальная концепция прав человека и современная Россия//Право и права человека. Сб. науч. тр. юрид. факультета МГПУ. Кн. 1. М., 1998. С. 38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80629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а человека - область знаний, тесно примыкающая к философии и, прежде всего, этике, юридическим наукам и политическим наук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воем современном виде эта область знаний возникла после Второй мировой войны, но ее истоки четко прослеживаются уже в эпоху древности, в средневековье и - конечно же - в эпоху Просве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арек  Новиц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езидент ХФПЧ в Варшав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7" descr="BS02064_"/>
          <p:cNvPicPr/>
          <p:nvPr/>
        </p:nvPicPr>
        <p:blipFill>
          <a:blip r:embed="rId1"/>
          <a:stretch/>
        </p:blipFill>
        <p:spPr>
          <a:xfrm>
            <a:off x="755640" y="5229360"/>
            <a:ext cx="914400" cy="981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i?id=141295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907920"/>
            <a:ext cx="1714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555"/>
          <p:cNvPicPr/>
          <p:nvPr/>
        </p:nvPicPr>
        <p:blipFill>
          <a:blip r:embed="rId1"/>
          <a:stretch/>
        </p:blipFill>
        <p:spPr>
          <a:xfrm>
            <a:off x="468360" y="476280"/>
            <a:ext cx="6770520" cy="4022640"/>
          </a:xfrm>
          <a:prstGeom prst="rect">
            <a:avLst/>
          </a:prstGeom>
          <a:ln w="0">
            <a:noFill/>
          </a:ln>
        </p:spPr>
      </p:pic>
      <p:sp>
        <p:nvSpPr>
          <p:cNvPr id="198" name="WordArt 5"/>
          <p:cNvSpPr txBox="1"/>
          <p:nvPr/>
        </p:nvSpPr>
        <p:spPr>
          <a:xfrm rot="20310000">
            <a:off x="1618920" y="3933360"/>
            <a:ext cx="8353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5250000"/>
                </a:gradFill>
                <a:latin typeface="Impact"/>
              </a:rPr>
              <a:t>ВСЕ   ПРАВА   ЧЕЛОВЕКА ДЛЯ   ВСЕХ  !!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5250000"/>
              </a:gradFill>
              <a:latin typeface="Impact"/>
              <a:ea typeface="Impact"/>
            </a:endParaRPr>
          </a:p>
        </p:txBody>
      </p:sp>
      <p:pic>
        <p:nvPicPr>
          <p:cNvPr id="199" name="Picture 6" descr="BS02064_"/>
          <p:cNvPicPr/>
          <p:nvPr/>
        </p:nvPicPr>
        <p:blipFill>
          <a:blip r:embed="rId2"/>
          <a:stretch/>
        </p:blipFill>
        <p:spPr>
          <a:xfrm>
            <a:off x="755640" y="5229360"/>
            <a:ext cx="9144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Андрей Сахаров"/>
          <p:cNvPicPr/>
          <p:nvPr/>
        </p:nvPicPr>
        <p:blipFill>
          <a:blip r:embed="rId1"/>
          <a:stretch/>
        </p:blipFill>
        <p:spPr>
          <a:xfrm>
            <a:off x="7451640" y="5084640"/>
            <a:ext cx="1470240" cy="1503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Вацлав Гавел"/>
          <p:cNvPicPr/>
          <p:nvPr/>
        </p:nvPicPr>
        <p:blipFill>
          <a:blip r:embed="rId2"/>
          <a:stretch/>
        </p:blipFill>
        <p:spPr>
          <a:xfrm>
            <a:off x="324000" y="3068640"/>
            <a:ext cx="1887480" cy="3456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Илай Уизел"/>
          <p:cNvPicPr/>
          <p:nvPr/>
        </p:nvPicPr>
        <p:blipFill>
          <a:blip r:embed="rId3"/>
          <a:stretch/>
        </p:blipFill>
        <p:spPr>
          <a:xfrm>
            <a:off x="5940360" y="5084640"/>
            <a:ext cx="1298520" cy="1482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Махатма Ганди1"/>
          <p:cNvPicPr/>
          <p:nvPr/>
        </p:nvPicPr>
        <p:blipFill>
          <a:blip r:embed="rId4"/>
          <a:stretch/>
        </p:blipFill>
        <p:spPr>
          <a:xfrm>
            <a:off x="6443640" y="260280"/>
            <a:ext cx="2463840" cy="2799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Оскар Ариас Санчес"/>
          <p:cNvPicPr/>
          <p:nvPr/>
        </p:nvPicPr>
        <p:blipFill>
          <a:blip r:embed="rId5"/>
          <a:stretch/>
        </p:blipFill>
        <p:spPr>
          <a:xfrm>
            <a:off x="324000" y="260280"/>
            <a:ext cx="1474560" cy="1582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Рауль Валенберг"/>
          <p:cNvPicPr/>
          <p:nvPr/>
        </p:nvPicPr>
        <p:blipFill>
          <a:blip r:embed="rId6"/>
          <a:stretch/>
        </p:blipFill>
        <p:spPr>
          <a:xfrm>
            <a:off x="2050920" y="260280"/>
            <a:ext cx="1343160" cy="1582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Аун Сан Су Ки"/>
          <p:cNvPicPr/>
          <p:nvPr/>
        </p:nvPicPr>
        <p:blipFill>
          <a:blip r:embed="rId7"/>
          <a:stretch/>
        </p:blipFill>
        <p:spPr>
          <a:xfrm>
            <a:off x="3635280" y="260280"/>
            <a:ext cx="1381320" cy="1582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Вей Шиншень"/>
          <p:cNvPicPr/>
          <p:nvPr/>
        </p:nvPicPr>
        <p:blipFill>
          <a:blip r:embed="rId8"/>
          <a:stretch/>
        </p:blipFill>
        <p:spPr>
          <a:xfrm>
            <a:off x="4211640" y="5078520"/>
            <a:ext cx="1521000" cy="149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Мартин Лютер Кинг-младший"/>
          <p:cNvPicPr/>
          <p:nvPr/>
        </p:nvPicPr>
        <p:blipFill>
          <a:blip r:embed="rId9"/>
          <a:stretch/>
        </p:blipFill>
        <p:spPr>
          <a:xfrm>
            <a:off x="4284720" y="1484280"/>
            <a:ext cx="2441520" cy="3090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Нельсон Мандела"/>
          <p:cNvPicPr/>
          <p:nvPr/>
        </p:nvPicPr>
        <p:blipFill>
          <a:blip r:embed="rId10"/>
          <a:stretch/>
        </p:blipFill>
        <p:spPr>
          <a:xfrm>
            <a:off x="2771640" y="5084640"/>
            <a:ext cx="1148040" cy="1447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Ральф Банчи"/>
          <p:cNvPicPr/>
          <p:nvPr/>
        </p:nvPicPr>
        <p:blipFill>
          <a:blip r:embed="rId11"/>
          <a:stretch/>
        </p:blipFill>
        <p:spPr>
          <a:xfrm>
            <a:off x="7435800" y="3213000"/>
            <a:ext cx="1460520" cy="1658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Элеонора Рузвельт"/>
          <p:cNvPicPr/>
          <p:nvPr/>
        </p:nvPicPr>
        <p:blipFill>
          <a:blip r:embed="rId12"/>
          <a:stretch/>
        </p:blipFill>
        <p:spPr>
          <a:xfrm>
            <a:off x="2050920" y="2421000"/>
            <a:ext cx="2592360" cy="2308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1" descr="D:\Documents and Settings\Администратор\Мои документы\Бюро\Личные папки\Ю.Гусаков\Казахстанское Международное Бюро по правам человека и соблюдению законности - Главная.files\photo.jpg"/>
          <p:cNvPicPr/>
          <p:nvPr/>
        </p:nvPicPr>
        <p:blipFill>
          <a:blip r:embed="rId13"/>
          <a:stretch/>
        </p:blipFill>
        <p:spPr>
          <a:xfrm>
            <a:off x="971640" y="1413000"/>
            <a:ext cx="2879640" cy="1066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C:\Мои документы\Личные папки\Ю.Гусаков\Казахстанское Международное Бюро по правам человека и соблюдению законности - Информация о бюро.files\photo2.jpg"/>
          <p:cNvPicPr/>
          <p:nvPr/>
        </p:nvPicPr>
        <p:blipFill>
          <a:blip r:embed="rId14"/>
          <a:stretch/>
        </p:blipFill>
        <p:spPr>
          <a:xfrm>
            <a:off x="5580000" y="4221000"/>
            <a:ext cx="2737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дрей Сахаро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Андрей Дмитриевич Сахаров (1921-1989), выдающийся советский физик, работавший в ядерной области, приобрел известность как защитник демократии и прав человека в 1968 году в результате публикации на Западе его подпольного манифеста под названием «Прогресс, сосуществование и интеллектуальная свобода». В 1970 г. он участвовал в создании Комитета по правам человека в Советском Союзе. За свою деятельность в 1975г. он удостоился Нобелевской премии мира. Подвергшись критике со стороны властей в конце 1979 г., Сахаров был сослан в закрытый город Горьк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В 1986 г. ему было позволено вернуться оттуда, и он увидел, что многое из того, за что он боролся, стало предметом официальной политики властей. В 1989 г. он был избран в сформированный тогда законодательный орган Советского Союза — Съезд народных депутатов.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н умер в конце того же год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91456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Андрей Сахаров"/>
          <p:cNvPicPr/>
          <p:nvPr/>
        </p:nvPicPr>
        <p:blipFill>
          <a:blip r:embed="rId1"/>
          <a:stretch/>
        </p:blipFill>
        <p:spPr>
          <a:xfrm>
            <a:off x="5257800" y="2286000"/>
            <a:ext cx="3352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цлав Гаве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Вацлав Гавел (1936) уроженец Праги и драматург по профессии, в 1977 году содействовал основанию Хартии 77, правозащитной организации в Чехословакии. За это он подвергался полицейским преследованиям и провел почти четыре года в тюрьме (с 1979 по 1983). Когда в ноябре 1983 в Праге вспыхнули массовые антиправительственные выступления, Гавел стал одним из лидеров Гражданского форума — новой коалиции некоммунистических оппозиционных групп, выступающих за демократические реформ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Месяцем позже после свержения коммунистического режима Гавел был избран временным президентом страны, а в июле 1990 г. был переизбран президентом. Находясь на посту президента, Гавел работал с целью расширения основных свобод в Чешской Республике и введения экономической системы, основанной на свободном предпринимательстве.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50028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5" descr="Вацлав Гавел"/>
          <p:cNvPicPr/>
          <p:nvPr/>
        </p:nvPicPr>
        <p:blipFill>
          <a:blip r:embed="rId1"/>
          <a:stretch/>
        </p:blipFill>
        <p:spPr>
          <a:xfrm>
            <a:off x="6172200" y="1981080"/>
            <a:ext cx="22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Теория естественности прав человек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71800" y="1557360"/>
            <a:ext cx="556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онятие прав человека стало реальностью политической теории и практики в Европе в Х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II веке. Теория естественных прав впервые была комплексно разработана в работе Джона Локка «Второй доклад о государстве», опубликованной в 1688г. сразу после так называемой Славной революции в Англии, приведшей к смещению с трона короля Джеймса I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Теория Локка исходит из того, что на раннем, естественном этапе развития общества люди были равными и обладали естественными правами на жизнь, свободу и имущество. Но эти права  мало что дают в условиях отсутствия государства. Людям почти невозможно защитить свои права в одиночку, а споры по поводу прав сами по себе являются мощным источником конфликтов. Люди создали общество — а общество создало государство — именно для того, чтобы иметь возможность пользоваться своими естественными правам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1900080"/>
            <a:ext cx="9144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0" y="2540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468360" y="5013360"/>
            <a:ext cx="26668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жон Лок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британский философ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632 - 1704)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4" descr="Джон Локк1"/>
          <p:cNvPicPr/>
          <p:nvPr/>
        </p:nvPicPr>
        <p:blipFill>
          <a:blip r:embed="rId1"/>
          <a:stretch/>
        </p:blipFill>
        <p:spPr>
          <a:xfrm>
            <a:off x="684360" y="1844640"/>
            <a:ext cx="22413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лай Уизе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Элиезер (Илай) Уизел (1928), американский автор, родился  и  провел начало своей жизни в небольшой хасидской общине в Сигете (Румыния). В 1944 году, во время второй мировой войны вместе со своей семьей и другими евреями этого города Уизел был помещен в концлагерь Аушвитц, а затем в Бухенвальд. Он выжил. После окончания войны Уизел работал во Франции журналистом во французских и израильских газета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В 1956г. он отправился в США, где посвятил свою жизнь описанию и рассказам об ужасах, свидетелем которых он стал во время Холокоста, и оказанию помощи жертвам угнетения и расизма во всем мире. За свои усилия по разоблачению насилия и ненависти в 1986 г. Уизел удостоился Нобелевской премии мира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310032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5" descr="Илай Уизел"/>
          <p:cNvPicPr/>
          <p:nvPr/>
        </p:nvPicPr>
        <p:blipFill>
          <a:blip r:embed="rId1"/>
          <a:stretch/>
        </p:blipFill>
        <p:spPr>
          <a:xfrm>
            <a:off x="5638680" y="2057400"/>
            <a:ext cx="3002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ахатма Ганд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Мохандас Карамчанд (Махатма) Ганди (1869—1948), коренной житель Индии, изучал право в Британии и затем провел 21 год в Южной Африке, работая с целью отмены правительственных мер, которые он считал несправедливыми в отношении населения индийского происхождения. В 1915 году он вернулся в Индию и через пять лет возглавил индийское национальное движение и успешную кампанию ненасильственного сопротивления британским властям и обретения независимости и экономической опоры на собственные силы для индийцев.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В 1948 году, всего через год после достижения своей цели — завоевания возможности самоуправления для Индии — Ганди был убит индусом выступавшим против его программы мира и терпимости в отношении всех рас и религ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2907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5" descr="Махатма Ганди1"/>
          <p:cNvPicPr/>
          <p:nvPr/>
        </p:nvPicPr>
        <p:blipFill>
          <a:blip r:embed="rId1"/>
          <a:stretch/>
        </p:blipFill>
        <p:spPr>
          <a:xfrm>
            <a:off x="4952880" y="1981080"/>
            <a:ext cx="3421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скар Ариас Санчес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кар Ариас Санчес (1941) написал первый проект плана установления мира и стабильности в охваченной враждой Центральной Америке в сентябре 1985 года, за пять месяцев до своего избрания самым молодым президентом Коста-Рики. План Ариаса устанавливал дату прекращения огня между правительственными войсками и повстанцами, гарантировал амнистию политическим заключенным и определял дату демократических выборов в странах Центральной Амери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августе 1987 г. на проведенном в Гватемале саммите президентов пяти Центральноамериканских государств Ариас убедил четырех других президентов дать миру шанс. В награду за эти свои усилия в 1987 г. он удостоился Нобелевской премии мира. В настоящее время Ариас возглавляет Фонд Ариаса за мир и гуманность.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9718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5" descr="Оскар Ариас Санчес"/>
          <p:cNvPicPr/>
          <p:nvPr/>
        </p:nvPicPr>
        <p:blipFill>
          <a:blip r:embed="rId1"/>
          <a:stretch/>
        </p:blipFill>
        <p:spPr>
          <a:xfrm>
            <a:off x="5334120" y="2057400"/>
            <a:ext cx="3124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уль Валленбер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Рауль Валленберг (1912—1945), был дипломатом из нейтральной страны — Швеции, который пришел на помощь евреям Европы во время Второй мировой войны. Являясь зарубежным представителем одной из торговых компаний Центральной Европы, в 1944 году Валленберг убедил Министерство иностранных дел Швеции направить его в Будапешт с дипломатическим паспортом. Находясь там, он дал тысячам евреев убежище в «защищенных домах», над которыми развевались флаги Швеции и других нейтральных государств. Он спасал людей из депортационных поездов и колонн смерти; многим из тех, кого не мог спасти, он давал пропитание и одеж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Валленберг исчез 17 января 1945 года. 22 сентября 1981 г. Конгресс США предоставил Раулю Валленбергу статус  почетного гражданина, сделав его вторым человеком, удостоившимся этой поче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30956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Рауль Валенберг"/>
          <p:cNvPicPr/>
          <p:nvPr/>
        </p:nvPicPr>
        <p:blipFill>
          <a:blip r:embed="rId1"/>
          <a:stretch/>
        </p:blipFill>
        <p:spPr>
          <a:xfrm>
            <a:off x="5334120" y="1981080"/>
            <a:ext cx="3170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ун Сан Су 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н Сан Су Ки (1945), дочь покойного лидера Бирманского националистического движения, завоевала свою собственную известность как лидер движения за демократию в своей стране. Являясь одним из основателей бирманской Национальной лиги за демократию, которая активно добивалась того, чтобы страна управлялась гражданским правительством, Аун Сан Су Ки наэлектризовала Бирму своими страстными речами в защиту демократии и прав человека. В июле 1989 года она была взята под домашний арест руководителями военного режима страны, отчасти с целью выключения ее из активного участия в политической жизни накануне национальных выбор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н Сан Су Ки находилась под домашним арестом в течение 6 лет, и за это время ее труды принесли ей международную известность стойкого защитника демократии, а также ряд Наград, среди которых была Нобелевская премия мира 1991 года.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29955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Аун Сан Су Ки"/>
          <p:cNvPicPr/>
          <p:nvPr/>
        </p:nvPicPr>
        <p:blipFill>
          <a:blip r:embed="rId1"/>
          <a:stretch/>
        </p:blipFill>
        <p:spPr>
          <a:xfrm>
            <a:off x="5334120" y="2133720"/>
            <a:ext cx="3124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эй Шиншен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эй Шиншень (1950), электрик по профессии, вырос в Пекине в семье двух членов Коммунистической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п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ии. Вэй впервые получил известность благодаря своим статьям, критикующим правительственную программу модернизации конца 70-х годов, основной упор в которой был сделан на экономические реформы, а демократические преобразования не предусматривались. Через неделю после того, как в марте 1979 года он наклеил свою последнюю статью на пекинскую «Стену демократии», Вэй был арестован и приговорен к 15 годам тюремного заключения. Когда в сентябре 1993 г. его неожиданно освободили, он немедленно продолжил свою деятельнос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е 1994г. Вэй вновь был задержан и 13 декабря 1995 г. при говорен к 14 годам тюрьмы за то, что в обвинении властей было названо «разработкой плана действий, включавшего создание организации для сбора средств на поддержку деятельности демократического движения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74788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5" descr="Вей Шиншень"/>
          <p:cNvPicPr/>
          <p:nvPr/>
        </p:nvPicPr>
        <p:blipFill>
          <a:blip r:embed="rId1"/>
          <a:stretch/>
        </p:blipFill>
        <p:spPr>
          <a:xfrm>
            <a:off x="5715000" y="2209680"/>
            <a:ext cx="29718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артин Лютер Кин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Мартин Лютер Кинг-младший (1929—1968) был основным лидером движения за гражданские права в Соединенных Штатах. В 1957 г. баптистский пастор Кинг вместе с другими чернокожими священниками основал организацию «Южная конференция христианского руководства» для борьбы с расовой несправедливостью ненасильственными средствами, такими как бойкоты и демонстраци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Его действия заложили фундамент для принятия в 1964 году Закона о гражданских правах, запрещающего расовую дискриминацию в общественных местах и предоставляющего представителям различных рас равные возможности при найме на работу и получении образова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За свою руководящую деятельность в 1964 году Кинг получил Нобелевскую премию мира. Кинг был застрелен 4 апреля 1968 года в Мемфисе, штат Теннеси, где он поддерживал забастовку чернокожих уборщиков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08628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5" descr="Мартин Лютер Кинг-младший"/>
          <p:cNvPicPr/>
          <p:nvPr/>
        </p:nvPicPr>
        <p:blipFill>
          <a:blip r:embed="rId1"/>
          <a:stretch/>
        </p:blipFill>
        <p:spPr>
          <a:xfrm>
            <a:off x="5334120" y="1981080"/>
            <a:ext cx="3130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ельсон Мандел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4952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мая 1994 г. Нельсон Ролихлахла Мандела (1918) был избран президентом ЮАР. Это событие увенчало борьбу, которую он вел в течение всей своей жизни за построение в своей стране межрасовой демократии. Мандела начал свою политическую карьеру около 50 лет назад, занимаясь организационной работой в Африканском национальном конгрессе (АНК) — организации, выступающей против правления белого меньшинства в ЮАР. Начиная с 1952 года, являясь зам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председателя А1IК, Мандела ездил по всей стране, занимаясь организацией сопротивления дискриминационному законодательству, основанному на расовой классификации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64 году был приговорен к пожизненному заключению за подрывную деятельность и государственную измену. 27 лет провел в заключении. Выйдя на свободу в феврале 1990 г., он вступил на путь диалога и переговоров, которые принесли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АР демократию и равенство. В 1993 г. вместе с тогдашним президентом ЮАР Фредериком де Клерком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андела был удостоен Нобелевской премии мир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08124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5" descr="Нельсон Мандела"/>
          <p:cNvPicPr/>
          <p:nvPr/>
        </p:nvPicPr>
        <p:blipFill>
          <a:blip r:embed="rId1"/>
          <a:stretch/>
        </p:blipFill>
        <p:spPr>
          <a:xfrm>
            <a:off x="5638680" y="1981080"/>
            <a:ext cx="2898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льф Банч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61484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е двух десятилетий Ральф Банчи (1904-1971) был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ериканским дипломатом и одной из ключевых фигур в Организации Объединенных Наций. Он активно участвовал в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дварительном планировании деятельности ООН и в 1947 стал членом ее Секретариата, возглавив Опекунский отдел. Позже, являясь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ником Секретаря по особым политическим делам, Банчи участвовал в переговорах по достижению соглашения о перемирии между арабами палестинцами и евреями 1949 го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вою умелую и настойчивую работу по достижению этого соглашения в 1950 году он удостоился Нобелевской премии мира. Банчи долго участвовал также в борьбе за гражданские права и расовое равенство в Соединенных Штатах. Он стал одним из основателей Национального негритянского конгресса и в течение 22 лет являлся членом правления Национальной ассоциации за продвижение цветного насел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30956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5" descr="Ральф Банчи"/>
          <p:cNvPicPr/>
          <p:nvPr/>
        </p:nvPicPr>
        <p:blipFill>
          <a:blip r:embed="rId1"/>
          <a:stretch/>
        </p:blipFill>
        <p:spPr>
          <a:xfrm>
            <a:off x="5334120" y="2057400"/>
            <a:ext cx="3220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Элеонора Рузвель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Анна Элеонора Рузвельт (1884—1962), американская гуманистка и жена президента Франклина Д. Рузвельта, была открытым защитником прав трудящихся и бедных и поборником детского образования, здравоохранения и т.д. Во время второй мировой войны она много путешествовала в роли жены президента с целью, которой был привержен ее муж: создания эффективной международной организации по предотвращению войн в будущем. После его смерти в 1945 году Элеонора Рузвельт была назначена членом делегации США в ООН, а вначале 1946 года избрана первым председателем Комиссии ООН по правам челове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Находясь на этом посту, она сыграла выдающуюся роль в разработке Всеобщей декларации прав человека. Она продолжала работать в ООН до 1952 года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91456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5" descr="Элеонора Рузвельт"/>
          <p:cNvPicPr/>
          <p:nvPr/>
        </p:nvPicPr>
        <p:blipFill>
          <a:blip r:embed="rId1"/>
          <a:stretch/>
        </p:blipFill>
        <p:spPr>
          <a:xfrm>
            <a:off x="4952880" y="2478240"/>
            <a:ext cx="35053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еловеческое Достоинство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7280" y="1676160"/>
            <a:ext cx="4321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м для концепции прав человека является понятие неотъемлемого, врожденного человеческого достоинства или достоинства человека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795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BD06982_"/>
          <p:cNvPicPr/>
          <p:nvPr/>
        </p:nvPicPr>
        <p:blipFill>
          <a:blip r:embed="rId1"/>
          <a:stretch/>
        </p:blipFill>
        <p:spPr>
          <a:xfrm>
            <a:off x="838080" y="1676520"/>
            <a:ext cx="3810240" cy="2133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99096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84360" y="4076640"/>
            <a:ext cx="7924680" cy="15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ческое достоинство вытекает из самой сути человечества, оно присуще как младенцу, который еще ничего не успел сделать, так и матерому преступнику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11" descr="BS02064_"/>
          <p:cNvPicPr/>
          <p:nvPr/>
        </p:nvPicPr>
        <p:blipFill>
          <a:blip r:embed="rId2"/>
          <a:stretch/>
        </p:blipFill>
        <p:spPr>
          <a:xfrm>
            <a:off x="755640" y="5229360"/>
            <a:ext cx="9144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20811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726680" cy="31114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"/>
          <p:cNvSpPr/>
          <p:nvPr/>
        </p:nvSpPr>
        <p:spPr>
          <a:xfrm>
            <a:off x="1763640" y="4581360"/>
            <a:ext cx="5832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При подготовке настоящей презентации были использованы материалы Канадского Фонда прав человека, Хельсинского Фонда прав человека в Варшаве, лекции Марека Новицкого, печатные издания Информационного Агентства посольства США в Казахстан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WordArt 12"/>
          <p:cNvSpPr txBox="1"/>
          <p:nvPr/>
        </p:nvSpPr>
        <p:spPr>
          <a:xfrm rot="20310000">
            <a:off x="1979640" y="3068640"/>
            <a:ext cx="78199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5250000"/>
                </a:gradFill>
                <a:latin typeface="Impact"/>
              </a:rPr>
              <a:t>ВСЕ   ПРАВА   ЧЕЛОВЕКА ДЛЯ   ВСЕХ  !!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525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ДОСТОИНСТВО - НОМИНА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2" name="Picture 7" descr="Монетки"/>
          <p:cNvPicPr/>
          <p:nvPr/>
        </p:nvPicPr>
        <p:blipFill>
          <a:blip r:embed="rId1"/>
          <a:stretch/>
        </p:blipFill>
        <p:spPr>
          <a:xfrm>
            <a:off x="684360" y="1700280"/>
            <a:ext cx="3671640" cy="417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ЛюдиМ"/>
          <p:cNvPicPr/>
          <p:nvPr/>
        </p:nvPicPr>
        <p:blipFill>
          <a:blip r:embed="rId2"/>
          <a:stretch/>
        </p:blipFill>
        <p:spPr>
          <a:xfrm>
            <a:off x="4716360" y="1700280"/>
            <a:ext cx="3681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Личное достоинство челове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ческое достоинство - это не то же самое, что достоинство личное - понятие, близкое понятию чест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чное достоинство мы зарабатываем сами, оно растет, если мы ведем себя благородно, и падает, если мы совершаем подлости. Человеческое же достоинство, вытекающее из самой сути человечества, врожденное и неотъемлемое, и является   основополагающим в концепции прав челове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11480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7" descr="BD06990_"/>
          <p:cNvPicPr/>
          <p:nvPr/>
        </p:nvPicPr>
        <p:blipFill>
          <a:blip r:embed="rId1"/>
          <a:stretch/>
        </p:blipFill>
        <p:spPr>
          <a:xfrm>
            <a:off x="693720" y="1981080"/>
            <a:ext cx="3792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Основополагающим в концепции прав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человека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является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п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онятие человеческого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достоинства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7640" y="1828800"/>
            <a:ext cx="69850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суть важно, как мы будем обосновывать существование человеческого достоинства, в какой религии и в русле какой философской школы будем искать его истоки, ибо, рассматривая последствия существования человеческого достоинства, независимо от отправной точки нашего поиска, в конечном счете мы придем к очень сходным перечням прав и свобод, которые принадлежат человеку в его взаимоотношениях с государственной властью… Прав, защищающих человека от унижений и бесчеловечного отношения к нему со стороны могущественного, обладающего средствами насилия государств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13388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7" descr="BD06662_"/>
          <p:cNvPicPr/>
          <p:nvPr/>
        </p:nvPicPr>
        <p:blipFill>
          <a:blip r:embed="rId1"/>
          <a:stretch/>
        </p:blipFill>
        <p:spPr>
          <a:xfrm>
            <a:off x="468360" y="2205000"/>
            <a:ext cx="1743120" cy="1871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BS02064_"/>
          <p:cNvPicPr/>
          <p:nvPr/>
        </p:nvPicPr>
        <p:blipFill>
          <a:blip r:embed="rId2"/>
          <a:stretch/>
        </p:blipFill>
        <p:spPr>
          <a:xfrm>
            <a:off x="755640" y="5229360"/>
            <a:ext cx="9144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сякая власть может и должна ограничиваться людь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еловек, отстаивая свои права, может предъявлять претензии к государств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ичный автономный мир человека неприкосновенен для государ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стулаты прав челове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сякая вла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ожет и долж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граничиватьс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юдь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22"/>
          <p:cNvPicPr/>
          <p:nvPr/>
        </p:nvPicPr>
        <p:blipFill>
          <a:blip r:embed="rId1"/>
          <a:stretch/>
        </p:blipFill>
        <p:spPr>
          <a:xfrm rot="855600">
            <a:off x="4855680" y="920880"/>
            <a:ext cx="3600720" cy="475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S02064_"/>
          <p:cNvPicPr/>
          <p:nvPr/>
        </p:nvPicPr>
        <p:blipFill>
          <a:blip r:embed="rId2"/>
          <a:stretch/>
        </p:blipFill>
        <p:spPr>
          <a:xfrm>
            <a:off x="539640" y="5157720"/>
            <a:ext cx="9144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9:32:00Z</dcterms:created>
  <dc:creator>Юрий Гусаков</dc:creator>
  <dc:description/>
  <dc:language>en-US</dc:language>
  <cp:lastModifiedBy>User</cp:lastModifiedBy>
  <dcterms:modified xsi:type="dcterms:W3CDTF">2015-06-01T06:35:56Z</dcterms:modified>
  <cp:revision>70</cp:revision>
  <dc:subject>HR</dc:subject>
  <dc:title>Концепция Прав Человека</dc:title>
</cp:coreProperties>
</file>