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5864-59F9-48EA-9ED9-FC40EABB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295-52E3-49EE-A39F-D0A58CA8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79F-C81E-47AB-A54C-1541B16A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F17F-5857-4C04-AE33-0A249C37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0535-45E0-4E21-997D-CBE05100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119C-1255-4EB0-B387-806EDFA7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86B9-0F88-4FA8-B8D7-45F74776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ED91-2DF3-4CA8-BA73-58D2A6D9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F63F-BB2C-4668-811C-B58F6E5B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92F9-BA13-4846-A315-DA23D3DE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8ED0-0DC0-4557-AA07-ECC21132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FB0-F3B7-4B49-A0A9-92FAA892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A3B6-B68F-4A6F-B15D-801520F8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01DA-C568-4B0F-A698-3EB8AB02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2AF5-D4AD-467C-B31C-1D852D07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D7E3-302F-4420-B542-CE292EC9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C600-B6A3-471D-AB21-AEA941B8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FC3-F923-4194-AA28-45161D6C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1E9-9477-42D2-A009-3FC06A28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77C-5903-44CE-A7B3-D718D4FD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62D9-F16E-42D2-8B8A-1A6B35AF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E92-3104-4D81-8E2D-AE8C113A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C90-0EED-40FB-9AE5-0B06B39F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198-0ADB-4AF7-B9A3-C198ED9B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C5E1-D610-41F7-B67B-ABD9DF412AC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F62C-A38B-4FC2-B64E-3FF60C0F1D0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Tahoma"/>
              </a:rPr>
              <a:t>Анализ значимого окружения и определение объектов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Анализ значимого окружения стейкхолдеров совершенно необходим для эдвокаси, потому что в эдвокаси нет постоянных друзей или враг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854064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Кто будет входить в значимое окружение для осуществления кампании деятельности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Кто будет входить в значимое окружение для осуществления кампании деятельности?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Единомышлен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Бенефициар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раг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Сочувствующ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Сомневающие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Доно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С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Те, которые принимают реш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kadirsizova</cp:lastModifiedBy>
  <dcterms:modified xsi:type="dcterms:W3CDTF">2015-09-21T08:10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