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6BC-93E4-42CA-A341-E2CA8760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556-ABF2-495B-A7E0-9E0899F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0DB-2F70-48A9-85B6-1DCE51F1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393-C097-45EA-A68A-9D24B072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E82-B5C1-4611-98D5-ADC56308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CA0-85A1-4181-8535-9382D5D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C6E0-74BE-4631-95DA-0C2FC95C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AED-B647-4483-AB6A-92DE7E2C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CF29-1798-4744-A0E1-ED7F2517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7B5D-488B-41A6-8B84-5DCC21E7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72E8-0130-4FCF-80A7-9186ACB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83D-DD40-4BD6-B083-69B97605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CD7-2C2D-4554-9D82-AA5E13A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B807-045B-4A69-8FA7-C4581A1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949D-B4AD-40C3-8D5C-177C21A3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281-5A61-4868-AEF9-56D36D11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D40C-8545-4009-A7B4-42D7811A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8F3-6437-41B4-872B-0D336C2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4C8-AF05-4E45-8B73-001D0D4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51B-5D1C-4A0C-B19D-80C3F69C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3E2-44C5-4F19-9069-805C511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0B2-73C4-4397-91ED-0DB7F48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E57-56E7-49B4-854A-1A7784A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61D-4B26-4755-8933-37685B8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7E1-32F4-460B-8EB6-6730DC7D1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6E4C-9DA7-46E6-91E4-A954DAB7CA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con-marketing.ru/about/methodic/#opros" TargetMode="External"/><Relationship Id="rId2" Type="http://schemas.openxmlformats.org/officeDocument/2006/relationships/hyperlink" Target="http://www.icon-marketing.ru/about/methodic/#nonopros" TargetMode="External"/><Relationship Id="rId3" Type="http://schemas.openxmlformats.org/officeDocument/2006/relationships/hyperlink" Target="http://www.icon-marketing.ru/about/methodic/#mix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con-marketing.ru/about/methodic/retail_audit/" TargetMode="External"/><Relationship Id="rId2" Type="http://schemas.openxmlformats.org/officeDocument/2006/relationships/hyperlink" Target="http://www.icon-marketing.ru/about/methodic/store_check/" TargetMode="External"/><Relationship Id="rId3" Type="http://schemas.openxmlformats.org/officeDocument/2006/relationships/hyperlink" Target="http://www.icon-marketing.ru/about/methodic/census/" TargetMode="External"/><Relationship Id="rId4" Type="http://schemas.openxmlformats.org/officeDocument/2006/relationships/hyperlink" Target="http://www.icon-marketing.ru/about/methodic/trading_audit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con-marketing.ru/about/methodic/street_interrogation/" TargetMode="External"/><Relationship Id="rId2" Type="http://schemas.openxmlformats.org/officeDocument/2006/relationships/hyperlink" Target="http://www.icon-marketing.ru/about/methodic/phone_interrogation/" TargetMode="External"/><Relationship Id="rId3" Type="http://schemas.openxmlformats.org/officeDocument/2006/relationships/hyperlink" Target="http://www.icon-marketing.ru/about/methodic/room_interrogatio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con-marketing.ru/about/methodic/depth_interview/" TargetMode="External"/><Relationship Id="rId2" Type="http://schemas.openxmlformats.org/officeDocument/2006/relationships/hyperlink" Target="http://www.icon-marketing.ru/about/methodic/focus_group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con-marketing.ru/about/methodic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етоды сбора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формации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просные метод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Неопросные метод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Промежуточные фор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К неопросным методам относят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Ритейл-ау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трочек (store che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енсу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аудит торговых то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блю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абинетное исследова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- сбор и анализ данных из открытых источников (СМИ, Интернет, данные комитетов статисти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II Mix-методик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атривают смешение опросных методов с другими средствами сбора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 эту категорию входя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истери шопп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лл-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ум-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 Опросные методы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ючают в себя все виды получения информации от респондента при прямом (face-to-face) или опосредованном контакте с интервьюе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 всех опросных методов строится на основании мест и способов проведения, характера получаемой информации (и, как следствие, сформированного опросного инструментария) и состава учас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В зависимости от места проведения, прямые опросные методы делят на: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Уличные опросы, в том числе: опрос в торговых точках, опрос на выходе, опрос в местах скопления целевой ауди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просы в помеще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вартирный опро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ос по месту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ос в специальном помещении (по месту локац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6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зависимости от целей исследователя и характера опросного инструментария (степени структуризации, содержания) опросы могут быть качественным или количественным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правило, к количественным методам относят массовые опросы по анкетам максимально структуризованным. Обычно, чем больше выборочная совокупность, тем выше структуризация анкеты и больше закрытых вопросов и наоборо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реди количественных методов выделяют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Уличные 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Телефонные 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Квартирные 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просы по месту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просы в специальных помещени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реди качественных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Глубинные интервь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Фокус-группы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и другие разновидности коллективных глубинных интервью, например: дельфийские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К опосредованным методам опросов относятся опросы, с использованием средств связи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Телефонны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тернет-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осы по почте (в том числе электронной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осы с использованием факсимиль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I Неопросные методы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усматиривают минимальный контакт интервьюера или отсутствие контакта. Такие методы применяются при сборе информации о ситуациях, происходящих событиях и т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kadirsizova</cp:lastModifiedBy>
  <dcterms:modified xsi:type="dcterms:W3CDTF">2015-09-21T08:11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