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0.png" ContentType="image/png"/>
  <Override PartName="/ppt/media/image9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FC91-015E-46E6-8445-430B39FDA2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F9C2-6ECE-4E90-AB4F-FC2F1735E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6A19B-FFAB-4CD5-A12D-7C39B1DA38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8605-358A-491F-969A-4F1640927C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BA1E-687C-4C17-B87E-1B5661B1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6952-95DD-42A5-8328-BE2D2E0F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BF1-F6A6-484B-83D4-C88785FA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FF7A-9695-400B-A962-153A0331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B8EB-5271-48B9-B7DC-B1188D68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DC29-B98E-40AE-B8BD-26ADE6B7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99A4-13C3-48A6-ACCA-251A96A7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A88-5CEA-4098-AF27-7D26C46F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5E2-E9C2-4F91-B86F-9E4B9EF53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05D-BDE5-40B4-85E9-52B93046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1E68-2277-4017-89BE-896DEB11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0782-8BB2-4545-BC5D-66298AD9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1E73E-6B63-4B53-AB4D-EB570C933B5A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hyperlink" Target="http://aupam.narod.ru/pages/sozial/posobie_po_ocenke_dlya_organizaciyj_invalidov/oglavlenie.html" TargetMode="External"/><Relationship Id="rId2" Type="http://schemas.openxmlformats.org/officeDocument/2006/relationships/hyperlink" Target="http://aupam.narod.ru/pages/sozial/posobie_po_ocenke_dlya_organizaciyj_invalidov/oglavlenie.html" TargetMode="External"/><Relationship Id="rId3" Type="http://schemas.openxmlformats.org/officeDocument/2006/relationships/hyperlink" Target="http://aupam.narod.ru/pages/sozial/posobie_po_ocenke_dlya_organizaciyj_invalidov/oglavlenie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ренинг «Мониторинг и оценка деятельности НПО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г.Шымк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30 марта – 1 апреля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ониторин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Заголовок 1"/>
          <p:cNvSpPr/>
          <p:nvPr/>
        </p:nvSpPr>
        <p:spPr>
          <a:xfrm>
            <a:off x="468360" y="1413000"/>
            <a:ext cx="82296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Мониторинг – это непрерывный и методичный процесс сбора данных и информации в ходе проекта, которые используются для сравнения текущего состояния дел с планом, что позволяет корректировать ход проекта без остановки рабо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Это очень действенный инструмент менеджмента, который, также предоставляет необходимую информацию для оценк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Цель мониторинга – повышение эффективности управления проектом и улучшения результатов деятель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Структура мониторин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Мониторинг основывается на логической структуре четырех компонентов (структура прочитывается снизу вверх), т.е. основанием являются инвестици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Равнобедренный треугольник 3"/>
          <p:cNvSpPr/>
          <p:nvPr/>
        </p:nvSpPr>
        <p:spPr>
          <a:xfrm>
            <a:off x="468360" y="2852640"/>
            <a:ext cx="3959280" cy="3529080"/>
          </a:xfrm>
          <a:prstGeom prst="triangle">
            <a:avLst>
              <a:gd name="adj" fmla="val 50000"/>
            </a:avLst>
          </a:prstGeom>
          <a:solidFill>
            <a:srgbClr val="0000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660840" y="5918040"/>
            <a:ext cx="266364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"/>
          <p:cNvSpPr/>
          <p:nvPr/>
        </p:nvSpPr>
        <p:spPr>
          <a:xfrm>
            <a:off x="3203640" y="5054760"/>
            <a:ext cx="2663640" cy="3682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2771640" y="4044960"/>
            <a:ext cx="355284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планирован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7"/>
          <p:cNvSpPr/>
          <p:nvPr/>
        </p:nvSpPr>
        <p:spPr>
          <a:xfrm>
            <a:off x="2495520" y="3321000"/>
            <a:ext cx="3444840" cy="36828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учен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1619280" y="4616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14"/>
          <p:cNvSpPr/>
          <p:nvPr/>
        </p:nvSpPr>
        <p:spPr>
          <a:xfrm>
            <a:off x="3203640" y="1434960"/>
            <a:ext cx="5832360" cy="530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3348000" y="3905280"/>
            <a:ext cx="5326200" cy="2692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то может проводить оценку (мониторинг) програм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49280" y="2549520"/>
            <a:ext cx="2195640" cy="21906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76320" y="4881600"/>
            <a:ext cx="30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Независимые специалис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2"/>
          <p:cNvSpPr/>
          <p:nvPr/>
        </p:nvSpPr>
        <p:spPr>
          <a:xfrm>
            <a:off x="165240" y="1703520"/>
            <a:ext cx="289692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3152"/>
                </a:solidFill>
                <a:latin typeface="Calibri"/>
              </a:rPr>
              <a:t>Внешня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6" descr="http://habrastorage.org/storage/habraeffect/ac/8c/ac8c0f972f53876433ae58a4afba9655.png"/>
          <p:cNvPicPr/>
          <p:nvPr/>
        </p:nvPicPr>
        <p:blipFill>
          <a:blip r:embed="rId2"/>
          <a:stretch/>
        </p:blipFill>
        <p:spPr>
          <a:xfrm>
            <a:off x="6388200" y="3989520"/>
            <a:ext cx="2141280" cy="2573280"/>
          </a:xfrm>
          <a:prstGeom prst="rect">
            <a:avLst/>
          </a:prstGeom>
          <a:ln w="0">
            <a:noFill/>
          </a:ln>
        </p:spPr>
      </p:pic>
      <p:sp>
        <p:nvSpPr>
          <p:cNvPr id="137" name="TextBox 7"/>
          <p:cNvSpPr/>
          <p:nvPr/>
        </p:nvSpPr>
        <p:spPr>
          <a:xfrm>
            <a:off x="4019400" y="5835600"/>
            <a:ext cx="289728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Самооцен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4019400" y="5092560"/>
            <a:ext cx="275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Участники 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065480" y="4062240"/>
            <a:ext cx="1957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ПРОГРАМ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3346560" y="1576440"/>
            <a:ext cx="223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РГАНИЗАЦ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5867280" y="236376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Сотрудники организации, не принимающие участие в программ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6010200" y="1484280"/>
            <a:ext cx="289872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3152"/>
                </a:solidFill>
                <a:latin typeface="Calibri"/>
              </a:rPr>
              <a:t>Внутрення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1" descr=""/>
          <p:cNvPicPr/>
          <p:nvPr/>
        </p:nvPicPr>
        <p:blipFill>
          <a:blip r:embed="rId3"/>
          <a:stretch/>
        </p:blipFill>
        <p:spPr>
          <a:xfrm>
            <a:off x="3419640" y="2006640"/>
            <a:ext cx="23047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Направлена на анализ результатов деятельности и/или произведенного эффекта и соотношения этих результатов с определенными критериями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В ходе оценки в числе прочих используются данные мониторинга.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ценка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истематический сбор информации о деятельности в рамках проекта/программы, ее характеристиках и результатах, который проводится для того, чтобы вынести суждение о достоинствах и недостатках проекта/программы, повысить эффективность и/или разработать планы на будуще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-1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Цикл проектной деятель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4140360" y="765000"/>
            <a:ext cx="1439640" cy="1440000"/>
          </a:xfrm>
          <a:prstGeom prst="ellipse">
            <a:avLst/>
          </a:prstGeom>
          <a:solidFill>
            <a:srgbClr val="623cee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Овал 4"/>
          <p:cNvSpPr/>
          <p:nvPr/>
        </p:nvSpPr>
        <p:spPr>
          <a:xfrm>
            <a:off x="5724360" y="1341360"/>
            <a:ext cx="1440000" cy="1440000"/>
          </a:xfrm>
          <a:prstGeom prst="ellipse">
            <a:avLst/>
          </a:prstGeom>
          <a:solidFill>
            <a:srgbClr val="99ffc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Овал 5"/>
          <p:cNvSpPr/>
          <p:nvPr/>
        </p:nvSpPr>
        <p:spPr>
          <a:xfrm>
            <a:off x="6516720" y="2924280"/>
            <a:ext cx="1440000" cy="1441440"/>
          </a:xfrm>
          <a:prstGeom prst="ellipse">
            <a:avLst/>
          </a:prstGeom>
          <a:solidFill>
            <a:srgbClr val="99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Овал 6"/>
          <p:cNvSpPr/>
          <p:nvPr/>
        </p:nvSpPr>
        <p:spPr>
          <a:xfrm>
            <a:off x="5724360" y="4437000"/>
            <a:ext cx="1559160" cy="1513080"/>
          </a:xfrm>
          <a:prstGeom prst="ellipse">
            <a:avLst/>
          </a:prstGeom>
          <a:solidFill>
            <a:srgbClr val="66ff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Овал 7"/>
          <p:cNvSpPr/>
          <p:nvPr/>
        </p:nvSpPr>
        <p:spPr>
          <a:xfrm>
            <a:off x="4067280" y="5229360"/>
            <a:ext cx="1485720" cy="14857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Овал 8"/>
          <p:cNvSpPr/>
          <p:nvPr/>
        </p:nvSpPr>
        <p:spPr>
          <a:xfrm>
            <a:off x="2268360" y="4508640"/>
            <a:ext cx="1511640" cy="1512720"/>
          </a:xfrm>
          <a:prstGeom prst="ellipse">
            <a:avLst/>
          </a:prstGeom>
          <a:solidFill>
            <a:srgbClr val="c2ef1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Овал 9"/>
          <p:cNvSpPr/>
          <p:nvPr/>
        </p:nvSpPr>
        <p:spPr>
          <a:xfrm>
            <a:off x="1692360" y="2781360"/>
            <a:ext cx="1501560" cy="1439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Овал 10"/>
          <p:cNvSpPr/>
          <p:nvPr/>
        </p:nvSpPr>
        <p:spPr>
          <a:xfrm>
            <a:off x="2340000" y="1197000"/>
            <a:ext cx="1525680" cy="144000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8" name="Прямая со стрелкой 13"/>
          <p:cNvCxnSpPr/>
          <p:nvPr/>
        </p:nvCxnSpPr>
        <p:spPr>
          <a:xfrm>
            <a:off x="5435280" y="1160640"/>
            <a:ext cx="649800" cy="39744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Прямая со стрелкой 17"/>
          <p:cNvCxnSpPr/>
          <p:nvPr/>
        </p:nvCxnSpPr>
        <p:spPr>
          <a:xfrm>
            <a:off x="7093080" y="2421000"/>
            <a:ext cx="288000" cy="50400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Прямая со стрелкой 22"/>
          <p:cNvCxnSpPr>
            <a:stCxn id="152" idx="4"/>
            <a:endCxn id="153" idx="7"/>
          </p:cNvCxnSpPr>
          <p:nvPr/>
        </p:nvCxnSpPr>
        <p:spPr>
          <a:xfrm flipH="1">
            <a:off x="7054200" y="4365720"/>
            <a:ext cx="183240" cy="29448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Прямая со стрелкой 26"/>
          <p:cNvCxnSpPr/>
          <p:nvPr/>
        </p:nvCxnSpPr>
        <p:spPr>
          <a:xfrm flipH="1">
            <a:off x="5508720" y="5805000"/>
            <a:ext cx="576360" cy="36108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2" name="Прямая со стрелкой 29"/>
          <p:cNvCxnSpPr>
            <a:stCxn id="154" idx="2"/>
            <a:endCxn id="155" idx="5"/>
          </p:cNvCxnSpPr>
          <p:nvPr/>
        </p:nvCxnSpPr>
        <p:spPr>
          <a:xfrm flipH="1" flipV="1">
            <a:off x="3558600" y="5798880"/>
            <a:ext cx="508680" cy="17352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3" name="Прямая со стрелкой 31"/>
          <p:cNvCxnSpPr/>
          <p:nvPr/>
        </p:nvCxnSpPr>
        <p:spPr>
          <a:xfrm flipH="1" flipV="1">
            <a:off x="2340000" y="4221000"/>
            <a:ext cx="133560" cy="58140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4" name="Прямая со стрелкой 33"/>
          <p:cNvCxnSpPr>
            <a:stCxn id="156" idx="0"/>
            <a:endCxn id="157" idx="3"/>
          </p:cNvCxnSpPr>
          <p:nvPr/>
        </p:nvCxnSpPr>
        <p:spPr>
          <a:xfrm flipV="1">
            <a:off x="2442960" y="2425320"/>
            <a:ext cx="121320" cy="35640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5" name="Прямая со стрелкой 35"/>
          <p:cNvCxnSpPr/>
          <p:nvPr/>
        </p:nvCxnSpPr>
        <p:spPr>
          <a:xfrm flipV="1">
            <a:off x="3590640" y="1051920"/>
            <a:ext cx="694440" cy="361080"/>
          </a:xfrm>
          <a:prstGeom prst="straightConnector1">
            <a:avLst/>
          </a:prstGeom>
          <a:ln w="4752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6" name="TextBox 39"/>
          <p:cNvSpPr/>
          <p:nvPr/>
        </p:nvSpPr>
        <p:spPr>
          <a:xfrm>
            <a:off x="4140360" y="1000080"/>
            <a:ext cx="147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лаем выводы для дальнейше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0"/>
          <p:cNvSpPr/>
          <p:nvPr/>
        </p:nvSpPr>
        <p:spPr>
          <a:xfrm>
            <a:off x="5848200" y="190800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аниру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41"/>
          <p:cNvSpPr/>
          <p:nvPr/>
        </p:nvSpPr>
        <p:spPr>
          <a:xfrm>
            <a:off x="6578640" y="3322800"/>
            <a:ext cx="14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я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42"/>
          <p:cNvSpPr/>
          <p:nvPr/>
        </p:nvSpPr>
        <p:spPr>
          <a:xfrm>
            <a:off x="5724360" y="486900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одим монитор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5640" y="515772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я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1720800" y="3178080"/>
            <a:ext cx="14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водим монитор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4094280" y="5297400"/>
            <a:ext cx="14857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и необходимости вносим корректиров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2290680" y="1301760"/>
            <a:ext cx="1486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При необходимости вносим корректировки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ониторинг и оцен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3780000" y="1773360"/>
            <a:ext cx="482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Мониторинг: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то мы дела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3649680" y="4149720"/>
            <a:ext cx="482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Оценка: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Чего мы достигли? Какое воздействие мы оказали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7" descr="http://video4wedding.egor15.bget.ru/wp-content/uploads/2014/03/202.jpg"/>
          <p:cNvPicPr/>
          <p:nvPr/>
        </p:nvPicPr>
        <p:blipFill>
          <a:blip r:embed="rId1"/>
          <a:stretch/>
        </p:blipFill>
        <p:spPr>
          <a:xfrm>
            <a:off x="755640" y="1413000"/>
            <a:ext cx="2400480" cy="1904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http://vsezdorovie-vsem.ru/wp-content/uploads/2014/11/fotograf.jpg"/>
          <p:cNvPicPr/>
          <p:nvPr/>
        </p:nvPicPr>
        <p:blipFill>
          <a:blip r:embed="rId2"/>
          <a:stretch/>
        </p:blipFill>
        <p:spPr>
          <a:xfrm>
            <a:off x="933480" y="3789360"/>
            <a:ext cx="18748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9040" y="8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Мониторинг и оценка: в чем различ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038240"/>
            <a:ext cx="4043520" cy="54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3cee"/>
                </a:solidFill>
                <a:latin typeface="Calibri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Отвечает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 на вопросы «Сколько? Когда? Где? и Что?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Описывает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 процесс реализации проекта/программы (насколько хорошо выполняется проект/программа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Является</a:t>
            </a:r>
            <a:r>
              <a:rPr b="0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регулярной процедурой в процессе реализации проекта/программ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Основание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 для проведения мониторинга – реализация проекта/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Проводить</a:t>
            </a:r>
            <a:r>
              <a:rPr b="0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мониторинг можно без данных оцен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04a7b"/>
                </a:solidFill>
                <a:latin typeface="Calibri"/>
              </a:rPr>
              <a:t>Результаты</a:t>
            </a:r>
            <a:r>
              <a:rPr b="0" lang="ru-RU" sz="18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254061"/>
                </a:solidFill>
                <a:latin typeface="Calibri"/>
              </a:rPr>
              <a:t>мониторинга используются для улучшения реализации проекта/програм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Объект 4"/>
          <p:cNvSpPr/>
          <p:nvPr/>
        </p:nvSpPr>
        <p:spPr>
          <a:xfrm>
            <a:off x="4932360" y="1557360"/>
            <a:ext cx="3898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Объект 4"/>
          <p:cNvSpPr/>
          <p:nvPr/>
        </p:nvSpPr>
        <p:spPr>
          <a:xfrm>
            <a:off x="4703760" y="1017720"/>
            <a:ext cx="435600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23cee"/>
                </a:solidFill>
                <a:latin typeface="Calibri"/>
              </a:rPr>
              <a:t>Оцен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Отвечает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на вопрос «Почему?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Описывает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процесс реализации проекта/программы (хорош ли проект/программа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Является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разовой процедурой, имеющей конкретный, ограниченный срок проведения на самых важных этапах реализации проекта/програм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Основание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для проведения оценки – данные мониторин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Проводить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оценку без данных мониторинга трудн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04a7b"/>
                </a:solidFill>
                <a:latin typeface="Calibri"/>
              </a:rPr>
              <a:t>Результаты</a:t>
            </a:r>
            <a:r>
              <a:rPr b="0" lang="ru-RU" sz="16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оценки используются как для улучшения работы проекта/программы, так и для определения стратегии на будущее (изменение содержания, приоритетов, программы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какие вопросы отвечает мониторинг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ашивка 4"/>
          <p:cNvSpPr/>
          <p:nvPr/>
        </p:nvSpPr>
        <p:spPr>
          <a:xfrm rot="16200000">
            <a:off x="143640" y="2167200"/>
            <a:ext cx="1439640" cy="1225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08" y="0"/>
                </a:lnTo>
                <a:lnTo>
                  <a:pt x="21600" y="10800"/>
                </a:lnTo>
                <a:lnTo>
                  <a:pt x="12408" y="21600"/>
                </a:lnTo>
                <a:lnTo>
                  <a:pt x="0" y="21600"/>
                </a:lnTo>
                <a:lnTo>
                  <a:pt x="9192" y="10800"/>
                </a:lnTo>
                <a:close/>
              </a:path>
            </a:pathLst>
          </a:cu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ашивка 5"/>
          <p:cNvSpPr/>
          <p:nvPr/>
        </p:nvSpPr>
        <p:spPr>
          <a:xfrm rot="16200000">
            <a:off x="-252000" y="3355920"/>
            <a:ext cx="2232000" cy="1225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70" y="0"/>
                </a:lnTo>
                <a:lnTo>
                  <a:pt x="21600" y="10800"/>
                </a:lnTo>
                <a:lnTo>
                  <a:pt x="15670" y="21600"/>
                </a:lnTo>
                <a:lnTo>
                  <a:pt x="0" y="21600"/>
                </a:lnTo>
                <a:lnTo>
                  <a:pt x="593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ашивка 6"/>
          <p:cNvSpPr/>
          <p:nvPr/>
        </p:nvSpPr>
        <p:spPr>
          <a:xfrm rot="16200000">
            <a:off x="-108360" y="4220280"/>
            <a:ext cx="1944720" cy="12254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94" y="0"/>
                </a:lnTo>
                <a:lnTo>
                  <a:pt x="21600" y="10800"/>
                </a:lnTo>
                <a:lnTo>
                  <a:pt x="14794" y="21600"/>
                </a:lnTo>
                <a:lnTo>
                  <a:pt x="0" y="21600"/>
                </a:lnTo>
                <a:lnTo>
                  <a:pt x="6806" y="10800"/>
                </a:lnTo>
                <a:close/>
              </a:path>
            </a:pathLst>
          </a:custGeom>
          <a:solidFill>
            <a:srgbClr val="cc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ашивка 8"/>
          <p:cNvSpPr/>
          <p:nvPr/>
        </p:nvSpPr>
        <p:spPr>
          <a:xfrm rot="16200000">
            <a:off x="73800" y="5122080"/>
            <a:ext cx="1579680" cy="1225440"/>
          </a:xfrm>
          <a:custGeom>
            <a:avLst/>
            <a:gdLst>
              <a:gd name="textAreaLeft" fmla="*/ 0 w 1579680"/>
              <a:gd name="textAreaRight" fmla="*/ 1580040 w 157968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220" y="0"/>
                </a:lnTo>
                <a:lnTo>
                  <a:pt x="21600" y="10800"/>
                </a:lnTo>
                <a:lnTo>
                  <a:pt x="13220" y="21600"/>
                </a:lnTo>
                <a:lnTo>
                  <a:pt x="0" y="21600"/>
                </a:lnTo>
                <a:lnTo>
                  <a:pt x="8380" y="10800"/>
                </a:lnTo>
                <a:close/>
              </a:path>
            </a:pathLst>
          </a:cu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Равнобедренный треугольник 9"/>
          <p:cNvSpPr/>
          <p:nvPr/>
        </p:nvSpPr>
        <p:spPr>
          <a:xfrm>
            <a:off x="237960" y="5803920"/>
            <a:ext cx="1238400" cy="720720"/>
          </a:xfrm>
          <a:prstGeom prst="triangle">
            <a:avLst>
              <a:gd name="adj" fmla="val 50000"/>
            </a:avLst>
          </a:prstGeom>
          <a:solidFill>
            <a:srgbClr val="9848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ашивка 11"/>
          <p:cNvSpPr/>
          <p:nvPr/>
        </p:nvSpPr>
        <p:spPr>
          <a:xfrm rot="16200000">
            <a:off x="143640" y="1375560"/>
            <a:ext cx="1440000" cy="1225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07" y="0"/>
                </a:lnTo>
                <a:lnTo>
                  <a:pt x="21600" y="10800"/>
                </a:lnTo>
                <a:lnTo>
                  <a:pt x="12407" y="21600"/>
                </a:lnTo>
                <a:lnTo>
                  <a:pt x="0" y="21600"/>
                </a:lnTo>
                <a:lnTo>
                  <a:pt x="919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358920" y="56214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КЛ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4"/>
          <p:cNvSpPr/>
          <p:nvPr/>
        </p:nvSpPr>
        <p:spPr>
          <a:xfrm>
            <a:off x="250920" y="448452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15"/>
          <p:cNvSpPr/>
          <p:nvPr/>
        </p:nvSpPr>
        <p:spPr>
          <a:xfrm>
            <a:off x="144360" y="348948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МЕЖУТОЧНЫЕ РЕЗУЛЬТА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144360" y="242244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ЕЧ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7"/>
          <p:cNvSpPr/>
          <p:nvPr/>
        </p:nvSpPr>
        <p:spPr>
          <a:xfrm>
            <a:off x="162000" y="1752480"/>
            <a:ext cx="140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ОЗДЕЙСТВИ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авая фигурная скобка 18"/>
          <p:cNvSpPr/>
          <p:nvPr/>
        </p:nvSpPr>
        <p:spPr>
          <a:xfrm>
            <a:off x="1565280" y="4557600"/>
            <a:ext cx="270000" cy="959040"/>
          </a:xfrm>
          <a:custGeom>
            <a:avLst/>
            <a:gdLst>
              <a:gd name="textAreaLeft" fmla="*/ 0 w 270000"/>
              <a:gd name="textAreaRight" fmla="*/ 97560 w 270000"/>
              <a:gd name="textAreaTop" fmla="*/ 6840 h 959040"/>
              <a:gd name="textAreaBottom" fmla="*/ 952200 h 95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54"/>
                  <a:pt x="10800" y="507"/>
                </a:cubicBezTo>
                <a:lnTo>
                  <a:pt x="10800" y="10293"/>
                </a:lnTo>
                <a:cubicBezTo>
                  <a:pt x="10800" y="10547"/>
                  <a:pt x="16200" y="10800"/>
                  <a:pt x="21600" y="10800"/>
                </a:cubicBezTo>
                <a:cubicBezTo>
                  <a:pt x="16200" y="10800"/>
                  <a:pt x="10800" y="11054"/>
                  <a:pt x="10800" y="11307"/>
                </a:cubicBezTo>
                <a:lnTo>
                  <a:pt x="10800" y="21093"/>
                </a:lnTo>
                <a:cubicBezTo>
                  <a:pt x="10800" y="21347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1979640" y="5635800"/>
            <a:ext cx="453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Доступны ли финансовые, человеческие, материальные ресурсы вовремя, в нужном количестве, необходимого качеств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1951200" y="447192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Ведет ли реализация ДЕЯТЕЛЬНОСТИ к ожидаемым продукта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Проводятся ли мероприятия согласна графика и в рамках бюджет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946160" y="370836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Как оценивают эффективность работы бенефици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1946160" y="299736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Позволяют ли ПРОМЕЖУТОЧНЫЕ РЕЗУЛЬТАТЫ достичь КОНЕЧНЫХ РЕЗУЛЬТАТОВ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23"/>
          <p:cNvSpPr/>
          <p:nvPr/>
        </p:nvSpPr>
        <p:spPr>
          <a:xfrm>
            <a:off x="1979640" y="1620720"/>
            <a:ext cx="453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Определение изменений на уровне ВОЗДЕЙСТВИЯ требует больших затрат времени и, следовательно, связано с оценкой, а не с мониторинго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24"/>
          <p:cNvSpPr/>
          <p:nvPr/>
        </p:nvSpPr>
        <p:spPr>
          <a:xfrm>
            <a:off x="6831000" y="3170160"/>
            <a:ext cx="2205000" cy="311148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</a:rPr>
              <a:t>Что является причиной задержек или непредвиденных результатов? Должно ли происходящее подтолкнуть менеджеров к изменению плана деятельност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Правая фигурная скобка 27"/>
          <p:cNvSpPr/>
          <p:nvPr/>
        </p:nvSpPr>
        <p:spPr>
          <a:xfrm>
            <a:off x="6442200" y="3240000"/>
            <a:ext cx="269640" cy="2997360"/>
          </a:xfrm>
          <a:custGeom>
            <a:avLst/>
            <a:gdLst>
              <a:gd name="textAreaLeft" fmla="*/ 0 w 269640"/>
              <a:gd name="textAreaRight" fmla="*/ 97200 w 269640"/>
              <a:gd name="textAreaTop" fmla="*/ 6840 h 2997360"/>
              <a:gd name="textAreaBottom" fmla="*/ 2990520 h 299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На какие вопросы отвечает оценк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ашивка 4"/>
          <p:cNvSpPr/>
          <p:nvPr/>
        </p:nvSpPr>
        <p:spPr>
          <a:xfrm rot="16200000">
            <a:off x="143640" y="2167200"/>
            <a:ext cx="1439640" cy="1225440"/>
          </a:xfrm>
          <a:custGeom>
            <a:avLst/>
            <a:gdLst>
              <a:gd name="textAreaLeft" fmla="*/ 0 w 1439640"/>
              <a:gd name="textAreaRight" fmla="*/ 1440000 w 14396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08" y="0"/>
                </a:lnTo>
                <a:lnTo>
                  <a:pt x="21600" y="10800"/>
                </a:lnTo>
                <a:lnTo>
                  <a:pt x="12408" y="21600"/>
                </a:lnTo>
                <a:lnTo>
                  <a:pt x="0" y="21600"/>
                </a:lnTo>
                <a:lnTo>
                  <a:pt x="9192" y="10800"/>
                </a:lnTo>
                <a:close/>
              </a:path>
            </a:pathLst>
          </a:custGeom>
          <a:solidFill>
            <a:srgbClr val="ff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Нашивка 5"/>
          <p:cNvSpPr/>
          <p:nvPr/>
        </p:nvSpPr>
        <p:spPr>
          <a:xfrm rot="16200000">
            <a:off x="-252000" y="3355920"/>
            <a:ext cx="2232000" cy="122544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70" y="0"/>
                </a:lnTo>
                <a:lnTo>
                  <a:pt x="21600" y="10800"/>
                </a:lnTo>
                <a:lnTo>
                  <a:pt x="15670" y="21600"/>
                </a:lnTo>
                <a:lnTo>
                  <a:pt x="0" y="21600"/>
                </a:lnTo>
                <a:lnTo>
                  <a:pt x="5930" y="108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ашивка 6"/>
          <p:cNvSpPr/>
          <p:nvPr/>
        </p:nvSpPr>
        <p:spPr>
          <a:xfrm rot="16200000">
            <a:off x="-108360" y="4220280"/>
            <a:ext cx="1944720" cy="122544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94" y="0"/>
                </a:lnTo>
                <a:lnTo>
                  <a:pt x="21600" y="10800"/>
                </a:lnTo>
                <a:lnTo>
                  <a:pt x="14794" y="21600"/>
                </a:lnTo>
                <a:lnTo>
                  <a:pt x="0" y="21600"/>
                </a:lnTo>
                <a:lnTo>
                  <a:pt x="6806" y="10800"/>
                </a:lnTo>
                <a:close/>
              </a:path>
            </a:pathLst>
          </a:custGeom>
          <a:solidFill>
            <a:srgbClr val="cc66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Группа 13"/>
          <p:cNvGrpSpPr/>
          <p:nvPr/>
        </p:nvGrpSpPr>
        <p:grpSpPr>
          <a:xfrm>
            <a:off x="237960" y="4944960"/>
            <a:ext cx="1238400" cy="1579680"/>
            <a:chOff x="237960" y="4944960"/>
            <a:chExt cx="1238400" cy="1579680"/>
          </a:xfrm>
        </p:grpSpPr>
        <p:sp>
          <p:nvSpPr>
            <p:cNvPr id="208" name="Нашивка 8"/>
            <p:cNvSpPr/>
            <p:nvPr/>
          </p:nvSpPr>
          <p:spPr>
            <a:xfrm rot="16200000">
              <a:off x="73440" y="5121720"/>
              <a:ext cx="1579680" cy="1225800"/>
            </a:xfrm>
            <a:custGeom>
              <a:avLst/>
              <a:gdLst>
                <a:gd name="textAreaLeft" fmla="*/ 0 w 1579680"/>
                <a:gd name="textAreaRight" fmla="*/ 1580040 w 1579680"/>
                <a:gd name="textAreaTop" fmla="*/ 0 h 1225800"/>
                <a:gd name="textAreaBottom" fmla="*/ 1226160 h 122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226" y="0"/>
                  </a:lnTo>
                  <a:lnTo>
                    <a:pt x="21600" y="10800"/>
                  </a:lnTo>
                  <a:lnTo>
                    <a:pt x="13226" y="21600"/>
                  </a:lnTo>
                  <a:lnTo>
                    <a:pt x="0" y="21600"/>
                  </a:lnTo>
                  <a:lnTo>
                    <a:pt x="8374" y="10800"/>
                  </a:lnTo>
                  <a:close/>
                </a:path>
              </a:pathLst>
            </a:cu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Равнобедренный треугольник 9"/>
            <p:cNvSpPr/>
            <p:nvPr/>
          </p:nvSpPr>
          <p:spPr>
            <a:xfrm>
              <a:off x="237960" y="5803920"/>
              <a:ext cx="1238400" cy="720720"/>
            </a:xfrm>
            <a:prstGeom prst="triangle">
              <a:avLst>
                <a:gd name="adj" fmla="val 50000"/>
              </a:avLst>
            </a:prstGeom>
            <a:solidFill>
              <a:srgbClr val="9848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Нашивка 11"/>
          <p:cNvSpPr/>
          <p:nvPr/>
        </p:nvSpPr>
        <p:spPr>
          <a:xfrm rot="16200000">
            <a:off x="143640" y="1375560"/>
            <a:ext cx="1440000" cy="1225440"/>
          </a:xfrm>
          <a:custGeom>
            <a:avLst/>
            <a:gdLst>
              <a:gd name="textAreaLeft" fmla="*/ 0 w 1440000"/>
              <a:gd name="textAreaRight" fmla="*/ 1440000 w 144000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2407" y="0"/>
                </a:lnTo>
                <a:lnTo>
                  <a:pt x="21600" y="10800"/>
                </a:lnTo>
                <a:lnTo>
                  <a:pt x="12407" y="21600"/>
                </a:lnTo>
                <a:lnTo>
                  <a:pt x="0" y="21600"/>
                </a:lnTo>
                <a:lnTo>
                  <a:pt x="919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2"/>
          <p:cNvSpPr/>
          <p:nvPr/>
        </p:nvSpPr>
        <p:spPr>
          <a:xfrm>
            <a:off x="358920" y="562140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КЛА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4"/>
          <p:cNvSpPr/>
          <p:nvPr/>
        </p:nvSpPr>
        <p:spPr>
          <a:xfrm>
            <a:off x="250920" y="4484520"/>
            <a:ext cx="12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15"/>
          <p:cNvSpPr/>
          <p:nvPr/>
        </p:nvSpPr>
        <p:spPr>
          <a:xfrm>
            <a:off x="144360" y="348948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МЕЖУТОЧНЫЕ РЕЗУЛЬТА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144360" y="2422440"/>
            <a:ext cx="140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КОНЕЧНЫ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РЕЗУЛЬТАТЫ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17"/>
          <p:cNvSpPr/>
          <p:nvPr/>
        </p:nvSpPr>
        <p:spPr>
          <a:xfrm>
            <a:off x="162000" y="1752480"/>
            <a:ext cx="140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ВОЗДЕЙСТВИЕ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Правая фигурная скобка 18"/>
          <p:cNvSpPr/>
          <p:nvPr/>
        </p:nvSpPr>
        <p:spPr>
          <a:xfrm>
            <a:off x="1646280" y="4624560"/>
            <a:ext cx="189000" cy="1841400"/>
          </a:xfrm>
          <a:custGeom>
            <a:avLst/>
            <a:gdLst>
              <a:gd name="textAreaLeft" fmla="*/ 0 w 189000"/>
              <a:gd name="textAreaRight" fmla="*/ 68040 w 189000"/>
              <a:gd name="textAreaTop" fmla="*/ 4680 h 1841400"/>
              <a:gd name="textAreaBottom" fmla="*/ 18367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5"/>
                </a:cubicBezTo>
                <a:lnTo>
                  <a:pt x="10800" y="10615"/>
                </a:lnTo>
                <a:cubicBezTo>
                  <a:pt x="10800" y="10708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5"/>
                </a:cubicBezTo>
                <a:lnTo>
                  <a:pt x="10800" y="21415"/>
                </a:lnTo>
                <a:cubicBezTo>
                  <a:pt x="10800" y="21508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19"/>
          <p:cNvSpPr/>
          <p:nvPr/>
        </p:nvSpPr>
        <p:spPr>
          <a:xfrm>
            <a:off x="1969920" y="5219640"/>
            <a:ext cx="6697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030a0"/>
                </a:solidFill>
                <a:latin typeface="Calibri"/>
              </a:rPr>
              <a:t>Целесообраз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Имелись ли необходимые ресурсы вовремя, в нужном количестве, нужного качеств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Была ли деятельность реализована согласно графика и в рамках бюджет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Насколько рационален, экономичен был способ достижения результатов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Правая фигурная скобка 26"/>
          <p:cNvSpPr/>
          <p:nvPr/>
        </p:nvSpPr>
        <p:spPr>
          <a:xfrm>
            <a:off x="1627200" y="2568600"/>
            <a:ext cx="190440" cy="1841400"/>
          </a:xfrm>
          <a:custGeom>
            <a:avLst/>
            <a:gdLst>
              <a:gd name="textAreaLeft" fmla="*/ 0 w 190440"/>
              <a:gd name="textAreaRight" fmla="*/ 68760 w 190440"/>
              <a:gd name="textAreaTop" fmla="*/ 4680 h 1841400"/>
              <a:gd name="textAreaBottom" fmla="*/ 1836720 h 184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3"/>
                  <a:pt x="10800" y="186"/>
                </a:cubicBezTo>
                <a:lnTo>
                  <a:pt x="10800" y="10614"/>
                </a:lnTo>
                <a:cubicBezTo>
                  <a:pt x="10800" y="10707"/>
                  <a:pt x="16200" y="10800"/>
                  <a:pt x="21600" y="10800"/>
                </a:cubicBezTo>
                <a:cubicBezTo>
                  <a:pt x="16200" y="10800"/>
                  <a:pt x="10800" y="10893"/>
                  <a:pt x="10800" y="10986"/>
                </a:cubicBezTo>
                <a:lnTo>
                  <a:pt x="10800" y="21414"/>
                </a:lnTo>
                <a:cubicBezTo>
                  <a:pt x="10800" y="21507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инус 2"/>
          <p:cNvSpPr/>
          <p:nvPr/>
        </p:nvSpPr>
        <p:spPr>
          <a:xfrm>
            <a:off x="1547640" y="1989000"/>
            <a:ext cx="405000" cy="86040"/>
          </a:xfrm>
          <a:custGeom>
            <a:avLst/>
            <a:gdLst/>
            <a:ahLst/>
            <a:rect l="l" t="t" r="r" b="b"/>
            <a:pathLst>
              <a:path w="404812" h="85725">
                <a:moveTo>
                  <a:pt x="53658" y="32781"/>
                </a:moveTo>
                <a:lnTo>
                  <a:pt x="351154" y="32781"/>
                </a:lnTo>
                <a:lnTo>
                  <a:pt x="351154" y="52944"/>
                </a:lnTo>
                <a:lnTo>
                  <a:pt x="53658" y="52944"/>
                </a:lnTo>
                <a:lnTo>
                  <a:pt x="53658" y="3278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9848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8"/>
          <p:cNvSpPr/>
          <p:nvPr/>
        </p:nvSpPr>
        <p:spPr>
          <a:xfrm>
            <a:off x="1969920" y="3119400"/>
            <a:ext cx="346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6228"/>
                </a:solidFill>
                <a:latin typeface="Calibri"/>
              </a:rPr>
              <a:t>Результатив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Были ли достигнуты цели и задач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Привели ли промежуточные результаты к конечны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9"/>
          <p:cNvSpPr/>
          <p:nvPr/>
        </p:nvSpPr>
        <p:spPr>
          <a:xfrm>
            <a:off x="5580000" y="3119400"/>
            <a:ext cx="3465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84807"/>
                </a:solidFill>
                <a:latin typeface="Calibri"/>
              </a:rPr>
              <a:t>Актуа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Соответствовали ли задачи программы нуждам бенефециаров и политике организац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0"/>
          <p:cNvSpPr/>
          <p:nvPr/>
        </p:nvSpPr>
        <p:spPr>
          <a:xfrm>
            <a:off x="1979640" y="1274760"/>
            <a:ext cx="3465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Воз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Какие изменения привнес проект/программа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Произошли ли  какие-либо незапланированные или непредвиденные изменения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580000" y="1252440"/>
            <a:ext cx="3465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Calibri"/>
              </a:rPr>
              <a:t>Устойч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9"/>
                </a:solidFill>
                <a:latin typeface="Calibri"/>
              </a:rPr>
              <a:t>Будет ли сохраняться положительный эффект после завершения поддержк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176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енеджмент проект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Овал 3"/>
          <p:cNvSpPr/>
          <p:nvPr/>
        </p:nvSpPr>
        <p:spPr>
          <a:xfrm>
            <a:off x="3059280" y="1268280"/>
            <a:ext cx="2592360" cy="18003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8"/>
          <p:cNvSpPr/>
          <p:nvPr/>
        </p:nvSpPr>
        <p:spPr>
          <a:xfrm>
            <a:off x="5940360" y="2565360"/>
            <a:ext cx="2592360" cy="18003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Овал 9"/>
          <p:cNvSpPr/>
          <p:nvPr/>
        </p:nvSpPr>
        <p:spPr>
          <a:xfrm>
            <a:off x="4351320" y="4653000"/>
            <a:ext cx="2592360" cy="18003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Овал 10"/>
          <p:cNvSpPr/>
          <p:nvPr/>
        </p:nvSpPr>
        <p:spPr>
          <a:xfrm>
            <a:off x="1042920" y="4653000"/>
            <a:ext cx="2592360" cy="180036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Овал 11"/>
          <p:cNvSpPr/>
          <p:nvPr/>
        </p:nvSpPr>
        <p:spPr>
          <a:xfrm>
            <a:off x="324000" y="2421000"/>
            <a:ext cx="2592360" cy="1800000"/>
          </a:xfrm>
          <a:prstGeom prst="ellipse">
            <a:avLst/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6" name="Прямая со стрелкой 13"/>
          <p:cNvCxnSpPr>
            <a:stCxn id="51" idx="6"/>
          </p:cNvCxnSpPr>
          <p:nvPr/>
        </p:nvCxnSpPr>
        <p:spPr>
          <a:xfrm>
            <a:off x="5651280" y="2168640"/>
            <a:ext cx="1152720" cy="39744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Прямая со стрелкой 15"/>
          <p:cNvCxnSpPr>
            <a:stCxn id="52" idx="4"/>
            <a:endCxn id="53" idx="7"/>
          </p:cNvCxnSpPr>
          <p:nvPr/>
        </p:nvCxnSpPr>
        <p:spPr>
          <a:xfrm flipH="1">
            <a:off x="6563880" y="4365720"/>
            <a:ext cx="672480" cy="551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Прямая со стрелкой 17"/>
          <p:cNvCxnSpPr>
            <a:stCxn id="53" idx="2"/>
          </p:cNvCxnSpPr>
          <p:nvPr/>
        </p:nvCxnSpPr>
        <p:spPr>
          <a:xfrm flipH="1">
            <a:off x="3634560" y="5552640"/>
            <a:ext cx="71676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Прямая со стрелкой 21"/>
          <p:cNvCxnSpPr>
            <a:stCxn id="54" idx="0"/>
            <a:endCxn id="55" idx="4"/>
          </p:cNvCxnSpPr>
          <p:nvPr/>
        </p:nvCxnSpPr>
        <p:spPr>
          <a:xfrm flipH="1" flipV="1">
            <a:off x="1618920" y="4220640"/>
            <a:ext cx="721440" cy="4327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Прямая со стрелкой 23"/>
          <p:cNvCxnSpPr>
            <a:stCxn id="55" idx="0"/>
            <a:endCxn id="51" idx="2"/>
          </p:cNvCxnSpPr>
          <p:nvPr/>
        </p:nvCxnSpPr>
        <p:spPr>
          <a:xfrm flipV="1">
            <a:off x="1619280" y="2167920"/>
            <a:ext cx="1440360" cy="25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TextBox 2"/>
          <p:cNvSpPr/>
          <p:nvPr/>
        </p:nvSpPr>
        <p:spPr>
          <a:xfrm>
            <a:off x="3419640" y="1700280"/>
            <a:ext cx="194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Определение потребносте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4"/>
          <p:cNvSpPr/>
          <p:nvPr/>
        </p:nvSpPr>
        <p:spPr>
          <a:xfrm>
            <a:off x="6264360" y="306864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Планирование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6"/>
          <p:cNvSpPr/>
          <p:nvPr/>
        </p:nvSpPr>
        <p:spPr>
          <a:xfrm>
            <a:off x="4680000" y="4965840"/>
            <a:ext cx="19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Выполнение и мониторинг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8"/>
          <p:cNvSpPr/>
          <p:nvPr/>
        </p:nvSpPr>
        <p:spPr>
          <a:xfrm>
            <a:off x="1368360" y="5091120"/>
            <a:ext cx="194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Оценка проек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9"/>
          <p:cNvSpPr/>
          <p:nvPr/>
        </p:nvSpPr>
        <p:spPr>
          <a:xfrm>
            <a:off x="611280" y="2708280"/>
            <a:ext cx="194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Извлеченные уроки и дальнейшее развити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Что такое индикат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99"/>
                </a:solidFill>
                <a:latin typeface="Calibri"/>
              </a:rPr>
              <a:t>Индикатор – это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Фа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Циф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Чувства или восприят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уждения</a:t>
            </a:r>
            <a:r>
              <a:rPr b="0" lang="en-US" sz="3200" spc="-1" strike="noStrike">
                <a:solidFill>
                  <a:srgbClr val="000099"/>
                </a:solidFill>
                <a:latin typeface="Calibri"/>
              </a:rPr>
              <a:t>/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оценк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оторые позволяют измерить изменение ситуации и подтверждают наличие/отсутствие прогресса в результатах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Что такое индикато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Это инструмент планирования, мониторинга и 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Использование индикаторов позволяет доказать наличие/отсутствие изменений в отличие от субъективного сужд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Различаются индикаторы: вклада (затрат), процесса (деятельности), промежуточных, конечных и долгосрочных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Индикаторы могут быть количественными и качественными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оличественные и качественные индикатор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оличественные индикаторы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цифровые измерители изменений, например, число людей в деревне, у которых есть швейные маш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Качественные индикаторы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–</a:t>
            </a: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измерители восприятия, например, уверенность в завтрашнем дне, которую дает этим людям обладание швейной машинкой как инструментом финансовой независим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дикаторы испол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Стрелка вверх 3"/>
          <p:cNvSpPr/>
          <p:nvPr/>
        </p:nvSpPr>
        <p:spPr>
          <a:xfrm>
            <a:off x="250920" y="1268280"/>
            <a:ext cx="2233440" cy="924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Стрелка вверх 4"/>
          <p:cNvSpPr/>
          <p:nvPr/>
        </p:nvSpPr>
        <p:spPr>
          <a:xfrm>
            <a:off x="262080" y="2247840"/>
            <a:ext cx="2232000" cy="9241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Стрелка вверх 5"/>
          <p:cNvSpPr/>
          <p:nvPr/>
        </p:nvSpPr>
        <p:spPr>
          <a:xfrm>
            <a:off x="262080" y="3338640"/>
            <a:ext cx="2232000" cy="92376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Стрелка вверх 6"/>
          <p:cNvSpPr/>
          <p:nvPr/>
        </p:nvSpPr>
        <p:spPr>
          <a:xfrm>
            <a:off x="262080" y="4365720"/>
            <a:ext cx="2232000" cy="9223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Стрелка вверх 7"/>
          <p:cNvSpPr/>
          <p:nvPr/>
        </p:nvSpPr>
        <p:spPr>
          <a:xfrm>
            <a:off x="293760" y="5373720"/>
            <a:ext cx="2232000" cy="9223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10"/>
          <p:cNvSpPr/>
          <p:nvPr/>
        </p:nvSpPr>
        <p:spPr>
          <a:xfrm>
            <a:off x="900000" y="573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сурс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extBox 11"/>
          <p:cNvSpPr/>
          <p:nvPr/>
        </p:nvSpPr>
        <p:spPr>
          <a:xfrm>
            <a:off x="719280" y="461160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658800" y="3506760"/>
            <a:ext cx="153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Промежуточные резльта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609480" y="2448000"/>
            <a:ext cx="153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Конечные результа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14"/>
          <p:cNvSpPr/>
          <p:nvPr/>
        </p:nvSpPr>
        <p:spPr>
          <a:xfrm>
            <a:off x="719280" y="1422360"/>
            <a:ext cx="133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54061"/>
                </a:solidFill>
                <a:latin typeface="Calibri"/>
              </a:rPr>
              <a:t>Долгосрочные результаты/ Воз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843280" y="1268280"/>
            <a:ext cx="3097080" cy="3111480"/>
          </a:xfrm>
          <a:prstGeom prst="rect">
            <a:avLst/>
          </a:prstGeom>
          <a:solidFill>
            <a:srgbClr val="37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итуа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(заболеваемость, уязвимость, качество жизн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ведение Услов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тношение, Убежд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нания, навыки, ум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16"/>
          <p:cNvSpPr/>
          <p:nvPr/>
        </p:nvSpPr>
        <p:spPr>
          <a:xfrm>
            <a:off x="2843280" y="4581360"/>
            <a:ext cx="3097080" cy="642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выполненных работ, качество, сро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17"/>
          <p:cNvSpPr/>
          <p:nvPr/>
        </p:nvSpPr>
        <p:spPr>
          <a:xfrm>
            <a:off x="2843280" y="5662440"/>
            <a:ext cx="3097080" cy="64260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ъем затрат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оимость затра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авая фигурная скобка 18"/>
          <p:cNvSpPr/>
          <p:nvPr/>
        </p:nvSpPr>
        <p:spPr>
          <a:xfrm>
            <a:off x="6227640" y="1268280"/>
            <a:ext cx="505080" cy="2862360"/>
          </a:xfrm>
          <a:custGeom>
            <a:avLst/>
            <a:gdLst>
              <a:gd name="textAreaLeft" fmla="*/ 0 w 505080"/>
              <a:gd name="textAreaRight" fmla="*/ 182520 w 505080"/>
              <a:gd name="textAreaTop" fmla="*/ 12960 h 2862360"/>
              <a:gd name="textAreaBottom" fmla="*/ 2849400 h 286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9"/>
                  <a:pt x="10800" y="317"/>
                </a:cubicBezTo>
                <a:lnTo>
                  <a:pt x="10800" y="10483"/>
                </a:lnTo>
                <a:cubicBezTo>
                  <a:pt x="10800" y="10642"/>
                  <a:pt x="16200" y="10800"/>
                  <a:pt x="21600" y="10800"/>
                </a:cubicBezTo>
                <a:cubicBezTo>
                  <a:pt x="16200" y="10800"/>
                  <a:pt x="10800" y="10959"/>
                  <a:pt x="10800" y="11117"/>
                </a:cubicBezTo>
                <a:lnTo>
                  <a:pt x="10800" y="21283"/>
                </a:lnTo>
                <a:cubicBezTo>
                  <a:pt x="10800" y="2144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авая фигурная скобка 19"/>
          <p:cNvSpPr/>
          <p:nvPr/>
        </p:nvSpPr>
        <p:spPr>
          <a:xfrm>
            <a:off x="6084720" y="4508640"/>
            <a:ext cx="574920" cy="1944720"/>
          </a:xfrm>
          <a:custGeom>
            <a:avLst/>
            <a:gdLst>
              <a:gd name="textAreaLeft" fmla="*/ 0 w 574920"/>
              <a:gd name="textAreaRight" fmla="*/ 207720 w 574920"/>
              <a:gd name="textAreaTop" fmla="*/ 14760 h 1944720"/>
              <a:gd name="textAreaBottom" fmla="*/ 192996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6"/>
                  <a:pt x="10800" y="532"/>
                </a:cubicBezTo>
                <a:lnTo>
                  <a:pt x="10800" y="10455"/>
                </a:lnTo>
                <a:cubicBezTo>
                  <a:pt x="10800" y="10721"/>
                  <a:pt x="16200" y="10987"/>
                  <a:pt x="21600" y="10987"/>
                </a:cubicBezTo>
                <a:cubicBezTo>
                  <a:pt x="16200" y="10987"/>
                  <a:pt x="10800" y="11253"/>
                  <a:pt x="10800" y="11519"/>
                </a:cubicBezTo>
                <a:lnTo>
                  <a:pt x="10800" y="21068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Прямоугольник 20" descr=""/>
          <p:cNvPicPr/>
          <p:nvPr/>
        </p:nvPicPr>
        <p:blipFill>
          <a:blip r:embed="rId1"/>
          <a:stretch/>
        </p:blipFill>
        <p:spPr>
          <a:xfrm>
            <a:off x="5962680" y="1378080"/>
            <a:ext cx="431640" cy="2687400"/>
          </a:xfrm>
          <a:prstGeom prst="rect">
            <a:avLst/>
          </a:prstGeom>
          <a:ln w="0">
            <a:noFill/>
          </a:ln>
        </p:spPr>
      </p:pic>
      <p:pic>
        <p:nvPicPr>
          <p:cNvPr id="247" name="Прямоугольник 21" descr=""/>
          <p:cNvPicPr/>
          <p:nvPr/>
        </p:nvPicPr>
        <p:blipFill>
          <a:blip r:embed="rId2"/>
          <a:stretch/>
        </p:blipFill>
        <p:spPr>
          <a:xfrm>
            <a:off x="5967360" y="4511520"/>
            <a:ext cx="40968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Индикаторы исполнения сравнивают достигнутые результаты с запланированными на каждом этапе реализации проекта/програм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ребования к индикатора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178920" y="1412640"/>
            <a:ext cx="3713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Достовер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Надеж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Чувстви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Умере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ыполн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3924360" y="1413000"/>
            <a:ext cx="4968720" cy="642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должны отражать изменения в состоянии наблюдаемого явления или собы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extBox 5"/>
          <p:cNvSpPr/>
          <p:nvPr/>
        </p:nvSpPr>
        <p:spPr>
          <a:xfrm>
            <a:off x="3917880" y="2133720"/>
            <a:ext cx="4969080" cy="14655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индикаторы должны быть надежными, то есть одинаковые измерения, проведенные разными людьми, должны давать одинаковые результаты при их повторном использовании для измерения того же объекта или явлен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3924360" y="3716280"/>
            <a:ext cx="4968720" cy="642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должны отражать изменения в состоянии наблюдаемого явления или событ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Box 7"/>
          <p:cNvSpPr/>
          <p:nvPr/>
        </p:nvSpPr>
        <p:spPr>
          <a:xfrm>
            <a:off x="3892680" y="4797360"/>
            <a:ext cx="4968720" cy="6426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стоимость измерения по данным индикаторам не должна выходить за рамки разумног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8"/>
          <p:cNvSpPr/>
          <p:nvPr/>
        </p:nvSpPr>
        <p:spPr>
          <a:xfrm>
            <a:off x="3940200" y="5915160"/>
            <a:ext cx="4967280" cy="36828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сбор данных должен быть осуществи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ХАРАКТЕРИСТИКИ ХОРОШЕГО ИНДИКАТОР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прямо и точно отражает достижения, когда большее (или меньшее) значение однозначно свидетельствует об улучшени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релевантен – измеряет факторы, отражающие цел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изменяется в зависимости от территории, группы, а также во времени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чувствителен к изменениям в политике, программах и организациях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может отслеживаться (лучше, если он уже доступен), периодически доступен, и для его отслеживания не требуется больших затра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Что измеряют индикатор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Эффективность:</a:t>
            </a: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 какой объем работы был нами проделан? Какой объем ресурсов нам для этого понадобился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Результативность:</a:t>
            </a: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 выполняем ли мы то, что намеревались сделать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Значимость и уместность:</a:t>
            </a: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 что думают люди, которым мы хотим помочь, отвечает ли наш проект их реальным нуждам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Воздействие: </a:t>
            </a: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достигает ли наша работа намеченной цели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Calibri"/>
              </a:rPr>
              <a:t>Устойчивость: </a:t>
            </a: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окажется ли польза для населения долгосрочной, даже после завершения проекта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начения индикатора</a:t>
            </a:r>
            <a:r>
              <a:rPr b="0" lang="ru-RU" sz="4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Базовое значение индикатора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– описывает ситуацию до начала прое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лановое значение индикатора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значение индикатора, которое мы хотим достич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Фактическое значение индикатора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 – уровень, достигнутый в процессе вмешатель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Отклонение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это разница между плановым и фактическими значениями (Отклонениям необходимо давать объяснения в отчетах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проведения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Группа 25"/>
          <p:cNvGrpSpPr/>
          <p:nvPr/>
        </p:nvGrpSpPr>
        <p:grpSpPr>
          <a:xfrm>
            <a:off x="1179360" y="1292400"/>
            <a:ext cx="7785360" cy="4800600"/>
            <a:chOff x="1179360" y="1292400"/>
            <a:chExt cx="7785360" cy="4800600"/>
          </a:xfrm>
        </p:grpSpPr>
        <p:sp>
          <p:nvSpPr>
            <p:cNvPr id="264" name="Овал 6"/>
            <p:cNvSpPr/>
            <p:nvPr/>
          </p:nvSpPr>
          <p:spPr>
            <a:xfrm>
              <a:off x="1179360" y="1628640"/>
              <a:ext cx="4537080" cy="4464360"/>
            </a:xfrm>
            <a:prstGeom prst="ellipse">
              <a:avLst/>
            </a:prstGeom>
            <a:solidFill>
              <a:srgbClr val="25406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Овал 5"/>
            <p:cNvSpPr/>
            <p:nvPr/>
          </p:nvSpPr>
          <p:spPr>
            <a:xfrm>
              <a:off x="1611000" y="2051280"/>
              <a:ext cx="3673440" cy="3600360"/>
            </a:xfrm>
            <a:prstGeom prst="ellipse">
              <a:avLst/>
            </a:prstGeom>
            <a:solidFill>
              <a:srgbClr val="37609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Овал 4"/>
            <p:cNvSpPr/>
            <p:nvPr/>
          </p:nvSpPr>
          <p:spPr>
            <a:xfrm>
              <a:off x="2115720" y="2578320"/>
              <a:ext cx="2664000" cy="2590920"/>
            </a:xfrm>
            <a:prstGeom prst="ellipse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Овал 3"/>
            <p:cNvSpPr/>
            <p:nvPr/>
          </p:nvSpPr>
          <p:spPr>
            <a:xfrm>
              <a:off x="2763720" y="3191040"/>
              <a:ext cx="1368360" cy="1365120"/>
            </a:xfrm>
            <a:prstGeom prst="ellipse">
              <a:avLst/>
            </a:prstGeom>
            <a:solidFill>
              <a:srgbClr val="b9cde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Прямая соединительная линия 2"/>
            <p:cNvSpPr/>
            <p:nvPr/>
          </p:nvSpPr>
          <p:spPr>
            <a:xfrm flipV="1">
              <a:off x="3563640" y="1628640"/>
              <a:ext cx="3024360" cy="2222640"/>
            </a:xfrm>
            <a:prstGeom prst="line">
              <a:avLst/>
            </a:prstGeom>
            <a:ln w="38160">
              <a:solidFill>
                <a:srgbClr val="c4bd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Прямая соединительная линия 8"/>
            <p:cNvSpPr/>
            <p:nvPr/>
          </p:nvSpPr>
          <p:spPr>
            <a:xfrm flipV="1">
              <a:off x="4427640" y="2349360"/>
              <a:ext cx="2160720" cy="1523880"/>
            </a:xfrm>
            <a:prstGeom prst="line">
              <a:avLst/>
            </a:prstGeom>
            <a:ln w="381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Прямая соединительная линия 10"/>
            <p:cNvSpPr/>
            <p:nvPr/>
          </p:nvSpPr>
          <p:spPr>
            <a:xfrm flipV="1">
              <a:off x="5003640" y="2925720"/>
              <a:ext cx="2664000" cy="1295280"/>
            </a:xfrm>
            <a:prstGeom prst="line">
              <a:avLst/>
            </a:prstGeom>
            <a:ln w="381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Прямая соединительная линия 15"/>
            <p:cNvSpPr/>
            <p:nvPr/>
          </p:nvSpPr>
          <p:spPr>
            <a:xfrm flipV="1">
              <a:off x="5140440" y="3873600"/>
              <a:ext cx="2816280" cy="103032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TextBox 16"/>
            <p:cNvSpPr/>
            <p:nvPr/>
          </p:nvSpPr>
          <p:spPr>
            <a:xfrm>
              <a:off x="5634000" y="129240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Calibri"/>
                </a:rPr>
                <a:t>Планирование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18"/>
            <p:cNvSpPr/>
            <p:nvPr/>
          </p:nvSpPr>
          <p:spPr>
            <a:xfrm>
              <a:off x="6336000" y="198000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Calibri"/>
                </a:rPr>
                <a:t>Сбор д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23"/>
            <p:cNvSpPr/>
            <p:nvPr/>
          </p:nvSpPr>
          <p:spPr>
            <a:xfrm>
              <a:off x="6768360" y="3501360"/>
              <a:ext cx="21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Calibri"/>
                </a:rPr>
                <a:t>Написание отчета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24"/>
            <p:cNvSpPr/>
            <p:nvPr/>
          </p:nvSpPr>
          <p:spPr>
            <a:xfrm>
              <a:off x="6714360" y="2531160"/>
              <a:ext cx="190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Calibri"/>
                </a:rPr>
                <a:t>Анализ данных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КЛАД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(INPU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773360"/>
            <a:ext cx="8640720" cy="43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Ресурсы необходимые для осуществления деятельности (финансовые, материальные, человеческие, информационны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и т.д.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бор данных должен быть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04a7b"/>
                </a:solidFill>
                <a:latin typeface="Calibri"/>
              </a:rPr>
              <a:t>Адекватным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 – адекватность зависит от правильности и надежности методов/инструментов, объективности собранной информации и результатов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04a7b"/>
                </a:solidFill>
                <a:latin typeface="Calibri"/>
              </a:rPr>
              <a:t>Надежным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 – под надежностью понимается возможность метода приносить постоянные результаты во время проведения нескольких тестов в различное врем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24"/>
              </a:spcBef>
              <a:buClr>
                <a:srgbClr val="604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604a7b"/>
                </a:solidFill>
                <a:latin typeface="Calibri"/>
              </a:rPr>
              <a:t>Точным</a:t>
            </a:r>
            <a:r>
              <a:rPr b="0" lang="ru-RU" sz="25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– настолько близким к правде насколько это возможно. </a:t>
            </a:r>
            <a:r>
              <a:rPr b="1" lang="ru-RU" sz="2500" spc="-1" strike="noStrike">
                <a:solidFill>
                  <a:srgbClr val="604a7b"/>
                </a:solidFill>
                <a:latin typeface="Calibri"/>
              </a:rPr>
              <a:t>Информация может быть адекватной 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(уровень средней заработной платы составляет от 30000 до 50000 тенге), </a:t>
            </a:r>
            <a:r>
              <a:rPr b="1" lang="ru-RU" sz="2500" spc="-1" strike="noStrike">
                <a:solidFill>
                  <a:srgbClr val="604a7b"/>
                </a:solidFill>
                <a:latin typeface="Calibri"/>
              </a:rPr>
              <a:t>но не точной </a:t>
            </a: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(средняя заработная плата составляет 35000 тенг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284720" y="4149720"/>
            <a:ext cx="365112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Calibri"/>
              </a:rPr>
              <a:t>80% пингвинов сам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2" descr="http://darokeana.ru/wp-content/uploads/2012/02/pingvinyi.jpg"/>
          <p:cNvPicPr/>
          <p:nvPr/>
        </p:nvPicPr>
        <p:blipFill>
          <a:blip r:embed="rId1"/>
          <a:stretch/>
        </p:blipFill>
        <p:spPr>
          <a:xfrm>
            <a:off x="250920" y="184320"/>
            <a:ext cx="5715000" cy="333360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4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2691000" cy="26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1"/>
          <p:cNvSpPr/>
          <p:nvPr/>
        </p:nvSpPr>
        <p:spPr>
          <a:xfrm>
            <a:off x="250920" y="260280"/>
            <a:ext cx="878508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'Если я предположу, что между Землёй и Марсом вокруг Солнца по эллиптической орбите летает фарфоровый чайник, никто не сможет опровергнуть моё утверждение, особенно если я аккуратно добавлю, что чайник настолько мал, что не виден даже самыми мощнейшими телескопами'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6" descr=""/>
          <p:cNvPicPr/>
          <p:nvPr/>
        </p:nvPicPr>
        <p:blipFill>
          <a:blip r:embed="rId1"/>
          <a:stretch/>
        </p:blipFill>
        <p:spPr>
          <a:xfrm>
            <a:off x="449280" y="3068640"/>
            <a:ext cx="3095640" cy="3444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8" descr="http://images.clipartlogo.com/files/ss/original/119/119463973/mars-on-a-white-background-mesh.jpg"/>
          <p:cNvPicPr/>
          <p:nvPr/>
        </p:nvPicPr>
        <p:blipFill>
          <a:blip r:embed="rId2"/>
          <a:stretch/>
        </p:blipFill>
        <p:spPr>
          <a:xfrm>
            <a:off x="5076720" y="2762280"/>
            <a:ext cx="3349800" cy="283680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10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11" descr=""/>
          <p:cNvPicPr/>
          <p:nvPr/>
        </p:nvPicPr>
        <p:blipFill>
          <a:blip r:embed="rId3"/>
          <a:stretch/>
        </p:blipFill>
        <p:spPr>
          <a:xfrm rot="20189400">
            <a:off x="3343320" y="2558880"/>
            <a:ext cx="17906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ервичные да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Данные из первых уст, которые предоставляют сырые, непроанализированные, неинтерпретированные факты и информа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99"/>
                </a:solidFill>
                <a:latin typeface="Calibri"/>
              </a:rPr>
              <a:t>Например: формы оценки тренинга, анкеты определения степени удовлетворенности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торичные данны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505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Calibri"/>
              </a:rPr>
              <a:t>Это данные, которые НЕ собираются непосредственно в рамках проекта, но при этом могут быть использованы для нужд проекта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Демографическая статист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тчеты органов здравоохранения, образования, социальной защиты, центра занят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тчеты по оценке проектов других НП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Результаты социологических опро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5364000" y="1844640"/>
            <a:ext cx="345600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оличественные и качественные дан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560" y="1125360"/>
            <a:ext cx="40338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Calibri"/>
              </a:rPr>
              <a:t>Количественные данны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alibri"/>
              </a:rPr>
              <a:t>Позволяют оценить и истолковать объект исследования с помощью цифр, %, бал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Calibri"/>
              </a:rPr>
              <a:t>Используют структурированные исследовательские техники (опрос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3152"/>
                </a:solidFill>
                <a:latin typeface="Calibri"/>
              </a:rPr>
              <a:t>Позволяют получить точные данные, поддающиеся статистическому анализу и сравне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Calibri"/>
              </a:rPr>
              <a:t>60% населения охвачены профилактическими программ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Объект 2"/>
          <p:cNvSpPr/>
          <p:nvPr/>
        </p:nvSpPr>
        <p:spPr>
          <a:xfrm>
            <a:off x="4500720" y="1125360"/>
            <a:ext cx="43192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99"/>
                </a:solidFill>
                <a:latin typeface="Calibri"/>
              </a:rPr>
              <a:t>Качественные данные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3152"/>
                </a:solidFill>
                <a:latin typeface="Calibri"/>
              </a:rPr>
              <a:t>Описывают объект исследования с помощью слов (наблюдения, описания, суждения и т.д.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Используют полуструктурированные исследовательские техники (наблюдения, фокус-группы и опросы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3152"/>
                </a:solidFill>
                <a:latin typeface="Calibri"/>
              </a:rPr>
              <a:t>Позволяют получить более глубокое представление о существующих установках, убеждениях, мотивах поведения люд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660033"/>
                </a:solidFill>
                <a:latin typeface="Calibri"/>
              </a:rPr>
              <a:t>По данным, полученным в результате проведения фокус-групп, во время информационной кампании, печатные материалы, содержащие профилактическую информацию попадались на глаза чаще в транспорте, нежели в общественных места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риангуляция 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125360"/>
            <a:ext cx="3610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99"/>
                </a:solidFill>
                <a:latin typeface="Calibri"/>
              </a:rPr>
              <a:t>это одновременное использование нескольких различных источников и/или методов сбора данных. Триангуляция облегчает процесс перекресной проверки данных и снижает уровень их искажения, что делает данные более точными, достоверными и полны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4067280" y="1757520"/>
            <a:ext cx="4892400" cy="4997160"/>
          </a:xfrm>
          <a:prstGeom prst="rect">
            <a:avLst/>
          </a:prstGeom>
          <a:ln w="0">
            <a:noFill/>
          </a:ln>
        </p:spPr>
      </p:pic>
      <p:sp>
        <p:nvSpPr>
          <p:cNvPr id="300" name="TextBox 10"/>
          <p:cNvSpPr/>
          <p:nvPr/>
        </p:nvSpPr>
        <p:spPr>
          <a:xfrm>
            <a:off x="4427640" y="1806480"/>
            <a:ext cx="151272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наблюдал ситуацию изнутри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5"/>
          <p:cNvSpPr/>
          <p:nvPr/>
        </p:nvSpPr>
        <p:spPr>
          <a:xfrm>
            <a:off x="6156360" y="981000"/>
            <a:ext cx="151128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слышал, что урожайность улучшилась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7524720" y="2022480"/>
            <a:ext cx="151128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Я изучил дан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ыбо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Это часть целевой группы, при опросе которой собирается информация обо всей целевой групп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Если Вы не проведете качественную/хорошую выборку, у Вас могут появиться ошибки или несоответствия/отклон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Подготовка методологии и инструментария для сбора данных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ятно 1 3"/>
          <p:cNvSpPr/>
          <p:nvPr/>
        </p:nvSpPr>
        <p:spPr>
          <a:xfrm>
            <a:off x="468360" y="1557360"/>
            <a:ext cx="1942920" cy="107964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ятно 1 4"/>
          <p:cNvSpPr/>
          <p:nvPr/>
        </p:nvSpPr>
        <p:spPr>
          <a:xfrm>
            <a:off x="2627280" y="1341360"/>
            <a:ext cx="2151000" cy="16560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ятно 1 5"/>
          <p:cNvSpPr/>
          <p:nvPr/>
        </p:nvSpPr>
        <p:spPr>
          <a:xfrm>
            <a:off x="5148360" y="1373040"/>
            <a:ext cx="1727280" cy="12607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ятно 1 6"/>
          <p:cNvSpPr/>
          <p:nvPr/>
        </p:nvSpPr>
        <p:spPr>
          <a:xfrm rot="1560600">
            <a:off x="6708600" y="2031840"/>
            <a:ext cx="2498760" cy="142560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900000" y="191304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TextBox 8"/>
          <p:cNvSpPr/>
          <p:nvPr/>
        </p:nvSpPr>
        <p:spPr>
          <a:xfrm>
            <a:off x="2913120" y="1763640"/>
            <a:ext cx="150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Языковая коррект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9"/>
          <p:cNvSpPr/>
          <p:nvPr/>
        </p:nvSpPr>
        <p:spPr>
          <a:xfrm>
            <a:off x="5292720" y="17319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ради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0"/>
          <p:cNvSpPr/>
          <p:nvPr/>
        </p:nvSpPr>
        <p:spPr>
          <a:xfrm rot="1158600">
            <a:off x="7075800" y="236520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фициальное разреш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2" descr="http://www.hrm.ua/community/uploads/images/00/18/28/2011/07/21/5db190.jpg"/>
          <p:cNvPicPr/>
          <p:nvPr/>
        </p:nvPicPr>
        <p:blipFill>
          <a:blip r:embed="rId1"/>
          <a:stretch/>
        </p:blipFill>
        <p:spPr>
          <a:xfrm>
            <a:off x="88920" y="3125880"/>
            <a:ext cx="2773440" cy="25002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http://biz-anatomy.ru/wp-content/uploads/2014/02/interview-1.jpg"/>
          <p:cNvPicPr/>
          <p:nvPr/>
        </p:nvPicPr>
        <p:blipFill>
          <a:blip r:embed="rId2"/>
          <a:stretch/>
        </p:blipFill>
        <p:spPr>
          <a:xfrm>
            <a:off x="3227400" y="3500280"/>
            <a:ext cx="2639880" cy="28576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Картинки по запросу обучение"/>
          <p:cNvPicPr/>
          <p:nvPr/>
        </p:nvPicPr>
        <p:blipFill>
          <a:blip r:embed="rId3"/>
          <a:stretch/>
        </p:blipFill>
        <p:spPr>
          <a:xfrm>
            <a:off x="6051600" y="3597120"/>
            <a:ext cx="2476440" cy="1847880"/>
          </a:xfrm>
          <a:prstGeom prst="rect">
            <a:avLst/>
          </a:prstGeom>
          <a:ln w="0">
            <a:noFill/>
          </a:ln>
        </p:spPr>
      </p:pic>
      <p:sp>
        <p:nvSpPr>
          <p:cNvPr id="317" name="TextBox 11"/>
          <p:cNvSpPr/>
          <p:nvPr/>
        </p:nvSpPr>
        <p:spPr>
          <a:xfrm>
            <a:off x="324000" y="5805360"/>
            <a:ext cx="2814480" cy="6426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уководство для сбора да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5"/>
          <p:cNvSpPr/>
          <p:nvPr/>
        </p:nvSpPr>
        <p:spPr>
          <a:xfrm>
            <a:off x="3236760" y="5889600"/>
            <a:ext cx="2814840" cy="91692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Тестирование инструментов сбора дан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6224760" y="5703840"/>
            <a:ext cx="2303280" cy="642600"/>
          </a:xfrm>
          <a:prstGeom prst="rect">
            <a:avLst/>
          </a:prstGeom>
          <a:solidFill>
            <a:srgbClr val="623c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бучение интервьюер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Овальная выноска 13"/>
          <p:cNvSpPr/>
          <p:nvPr/>
        </p:nvSpPr>
        <p:spPr>
          <a:xfrm>
            <a:off x="3629160" y="2708280"/>
            <a:ext cx="2671560" cy="853920"/>
          </a:xfrm>
          <a:prstGeom prst="wedgeEllipseCallout">
            <a:avLst>
              <a:gd name="adj1" fmla="val -10796"/>
              <a:gd name="adj2" fmla="val 82810"/>
            </a:avLst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3703680" y="2776680"/>
            <a:ext cx="259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аше отношение к социологическим вопросам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Методы сбора данных зависят от вида информаци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ую информацию мне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Calibri"/>
              </a:rPr>
              <a:t>необходимо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получ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акую информацию я бы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Calibri"/>
              </a:rPr>
              <a:t>хотел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получи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колько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Calibri"/>
              </a:rPr>
              <a:t>времени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и </a:t>
            </a:r>
            <a:r>
              <a:rPr b="0" lang="ru-RU" sz="3200" spc="-1" strike="noStrike" u="sng">
                <a:solidFill>
                  <a:srgbClr val="000099"/>
                </a:solidFill>
                <a:uFillTx/>
                <a:latin typeface="Calibri"/>
              </a:rPr>
              <a:t>ресурсов</a:t>
            </a: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 необходимо для сбора информаци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Кто обладает этой информацией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ЕЯТЕЛЬНОСТЬ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(ACTIVITI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2133720"/>
            <a:ext cx="82296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Совокупность заданий, работ и т.п., которые необходимо выполнить для получения запланированных 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ПРОМЕЖУТОЧНЫХ РЕЗУЛЬТАТОВ 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OUTPUTS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5560" y="27432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лючевые методы сбора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Анкетирование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Интервь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Наблюдение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Calibri"/>
              </a:rPr>
              <a:t>Изучение документаци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АНАЛИЗ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Заголовок 1"/>
          <p:cNvSpPr/>
          <p:nvPr/>
        </p:nvSpPr>
        <p:spPr>
          <a:xfrm>
            <a:off x="5968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нализ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Объект 2"/>
          <p:cNvSpPr/>
          <p:nvPr/>
        </p:nvSpPr>
        <p:spPr>
          <a:xfrm>
            <a:off x="609480" y="14032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- процесс преобразования собранных данных в удобную для использования информаци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2"/>
          <p:cNvSpPr/>
          <p:nvPr/>
        </p:nvSpPr>
        <p:spPr>
          <a:xfrm>
            <a:off x="5600880" y="6119640"/>
            <a:ext cx="35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Сотрудники про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16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17" descr=""/>
          <p:cNvPicPr/>
          <p:nvPr/>
        </p:nvPicPr>
        <p:blipFill>
          <a:blip r:embed="rId1"/>
          <a:stretch/>
        </p:blipFill>
        <p:spPr>
          <a:xfrm>
            <a:off x="144360" y="3819600"/>
            <a:ext cx="5435640" cy="28303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6"/>
          <p:cNvSpPr/>
          <p:nvPr/>
        </p:nvSpPr>
        <p:spPr>
          <a:xfrm>
            <a:off x="297000" y="3228840"/>
            <a:ext cx="121572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Что мы наблюда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1612800" y="2967120"/>
            <a:ext cx="124956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что мы обнаружи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2916360" y="3228840"/>
            <a:ext cx="1079280" cy="733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 какому выводу мы пришли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19"/>
          <p:cNvSpPr/>
          <p:nvPr/>
        </p:nvSpPr>
        <p:spPr>
          <a:xfrm>
            <a:off x="4067280" y="3625920"/>
            <a:ext cx="16430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что мы порекомендуе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1"/>
          <p:cNvSpPr/>
          <p:nvPr/>
        </p:nvSpPr>
        <p:spPr>
          <a:xfrm>
            <a:off x="7335720" y="3193920"/>
            <a:ext cx="166716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И что мы теперь запланируем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2"/>
          <p:cNvSpPr/>
          <p:nvPr/>
        </p:nvSpPr>
        <p:spPr>
          <a:xfrm>
            <a:off x="5991120" y="3005280"/>
            <a:ext cx="1224000" cy="9464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к нам на это реагировать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17"/>
          <p:cNvSpPr/>
          <p:nvPr/>
        </p:nvSpPr>
        <p:spPr>
          <a:xfrm>
            <a:off x="641520" y="2390760"/>
            <a:ext cx="31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Calibri"/>
              </a:rPr>
              <a:t>Команда оценщ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21" descr="http://rjob.ru/upload/iblock/555/555d764a6ee165e28da515137e87baea.jpg"/>
          <p:cNvPicPr/>
          <p:nvPr/>
        </p:nvPicPr>
        <p:blipFill>
          <a:blip r:embed="rId2"/>
          <a:stretch/>
        </p:blipFill>
        <p:spPr>
          <a:xfrm>
            <a:off x="5902200" y="3900600"/>
            <a:ext cx="2773440" cy="22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Для чего проводится анализ данных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Объект 2"/>
          <p:cNvSpPr/>
          <p:nvPr/>
        </p:nvSpPr>
        <p:spPr>
          <a:xfrm>
            <a:off x="468360" y="1600200"/>
            <a:ext cx="82296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ринятие управленческих реш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Мониторинг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ерераспределение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оиск проблемных зон/выбор варианта ре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Удовлетворение информационных потреб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Объект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ЭТАПЫ АНАЛИЗ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Этапы анализа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Нашивка 1"/>
          <p:cNvSpPr/>
          <p:nvPr/>
        </p:nvSpPr>
        <p:spPr>
          <a:xfrm>
            <a:off x="250920" y="1989000"/>
            <a:ext cx="1657080" cy="576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ашивка 5"/>
          <p:cNvSpPr/>
          <p:nvPr/>
        </p:nvSpPr>
        <p:spPr>
          <a:xfrm>
            <a:off x="250920" y="2757600"/>
            <a:ext cx="1657080" cy="57600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Нашивка 8"/>
          <p:cNvSpPr/>
          <p:nvPr/>
        </p:nvSpPr>
        <p:spPr>
          <a:xfrm>
            <a:off x="250920" y="3573360"/>
            <a:ext cx="1657080" cy="576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Нашивка 9"/>
          <p:cNvSpPr/>
          <p:nvPr/>
        </p:nvSpPr>
        <p:spPr>
          <a:xfrm>
            <a:off x="250920" y="4365720"/>
            <a:ext cx="1657080" cy="57600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Нашивка 10"/>
          <p:cNvSpPr/>
          <p:nvPr/>
        </p:nvSpPr>
        <p:spPr>
          <a:xfrm>
            <a:off x="250920" y="5157720"/>
            <a:ext cx="1657080" cy="57492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5" y="0"/>
                </a:lnTo>
                <a:lnTo>
                  <a:pt x="21600" y="10800"/>
                </a:lnTo>
                <a:lnTo>
                  <a:pt x="17855" y="21600"/>
                </a:lnTo>
                <a:lnTo>
                  <a:pt x="0" y="21600"/>
                </a:lnTo>
                <a:lnTo>
                  <a:pt x="374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TextBox 2"/>
          <p:cNvSpPr/>
          <p:nvPr/>
        </p:nvSpPr>
        <p:spPr>
          <a:xfrm>
            <a:off x="2124000" y="1905120"/>
            <a:ext cx="5462640" cy="6426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одготовка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TextBox 12"/>
          <p:cNvSpPr/>
          <p:nvPr/>
        </p:nvSpPr>
        <p:spPr>
          <a:xfrm>
            <a:off x="2124000" y="2722680"/>
            <a:ext cx="5462640" cy="6426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Анализ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13"/>
          <p:cNvSpPr/>
          <p:nvPr/>
        </p:nvSpPr>
        <p:spPr>
          <a:xfrm>
            <a:off x="2124000" y="3502080"/>
            <a:ext cx="5462640" cy="6426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оверка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14"/>
          <p:cNvSpPr/>
          <p:nvPr/>
        </p:nvSpPr>
        <p:spPr>
          <a:xfrm>
            <a:off x="2124000" y="4294080"/>
            <a:ext cx="5462640" cy="6426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Предоставление данны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5"/>
          <p:cNvSpPr/>
          <p:nvPr/>
        </p:nvSpPr>
        <p:spPr>
          <a:xfrm>
            <a:off x="2124000" y="5157720"/>
            <a:ext cx="5462640" cy="64260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Выработка рекомендаци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609480" y="20509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611280" y="286056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18"/>
          <p:cNvSpPr/>
          <p:nvPr/>
        </p:nvSpPr>
        <p:spPr>
          <a:xfrm>
            <a:off x="611280" y="3676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611280" y="44686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20"/>
          <p:cNvSpPr/>
          <p:nvPr/>
        </p:nvSpPr>
        <p:spPr>
          <a:xfrm>
            <a:off x="611280" y="526104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ашивка 3"/>
          <p:cNvSpPr/>
          <p:nvPr/>
        </p:nvSpPr>
        <p:spPr>
          <a:xfrm>
            <a:off x="250920" y="711360"/>
            <a:ext cx="1657080" cy="5745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5" y="0"/>
                </a:lnTo>
                <a:lnTo>
                  <a:pt x="21600" y="10800"/>
                </a:lnTo>
                <a:lnTo>
                  <a:pt x="17855" y="21600"/>
                </a:lnTo>
                <a:lnTo>
                  <a:pt x="0" y="21600"/>
                </a:lnTo>
                <a:lnTo>
                  <a:pt x="3745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4"/>
          <p:cNvSpPr/>
          <p:nvPr/>
        </p:nvSpPr>
        <p:spPr>
          <a:xfrm>
            <a:off x="609480" y="77328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дготовка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Объект 2"/>
          <p:cNvSpPr/>
          <p:nvPr/>
        </p:nvSpPr>
        <p:spPr>
          <a:xfrm>
            <a:off x="250920" y="2421000"/>
            <a:ext cx="36734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риведение данных в более удобную для анализа форм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5" descr="http://files8.adme.ru/files/news/part_36/362505/7332255-R3L8T8D-600-36484.gif"/>
          <p:cNvPicPr/>
          <p:nvPr/>
        </p:nvPicPr>
        <p:blipFill>
          <a:blip r:embed="rId1"/>
          <a:stretch/>
        </p:blipFill>
        <p:spPr>
          <a:xfrm>
            <a:off x="3708360" y="1569960"/>
            <a:ext cx="528012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ЭТАПЫ АНАЛИЗ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Анализ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Нашивка 4"/>
          <p:cNvSpPr/>
          <p:nvPr/>
        </p:nvSpPr>
        <p:spPr>
          <a:xfrm>
            <a:off x="611280" y="711360"/>
            <a:ext cx="1655640" cy="5745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969840" y="814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25280" y="1866960"/>
          <a:ext cx="8839440" cy="3566880"/>
        </p:xfrm>
        <a:graphic>
          <a:graphicData uri="http://schemas.openxmlformats.org/drawingml/2006/table">
            <a:tbl>
              <a:tblPr/>
              <a:tblGrid>
                <a:gridCol w="4419720"/>
                <a:gridCol w="4419720"/>
              </a:tblGrid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писательный анали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рпретативный анализ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3079440"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писание основных результатов (условий, состояний и обстоятельств, выявленных на основании полученных данных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БЪЯСНЕНИЕ ТОГО, ЧТО ПРОИЗОШ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Помогает осмыслить, объяснить или установит взаимосвязь между полученными результатам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99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БЪЯСНЕНИЕ ПРИЧИНЫ ТОГО, ЧТО ПРОИЗОШЛО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ЭТАПЫ АНАЛИЗ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верка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ашивка 4"/>
          <p:cNvSpPr/>
          <p:nvPr/>
        </p:nvSpPr>
        <p:spPr>
          <a:xfrm>
            <a:off x="604800" y="711360"/>
            <a:ext cx="1655640" cy="5745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5"/>
          <p:cNvSpPr/>
          <p:nvPr/>
        </p:nvSpPr>
        <p:spPr>
          <a:xfrm>
            <a:off x="963720" y="814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Объект 2"/>
          <p:cNvSpPr/>
          <p:nvPr/>
        </p:nvSpPr>
        <p:spPr>
          <a:xfrm>
            <a:off x="468360" y="1600200"/>
            <a:ext cx="822960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Выявление дополнительных вторичных источ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Триангуляция дан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Сравнение с подобными исследования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роведение дополнительного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Picture 5" descr="Картинки по запросу проверка"/>
          <p:cNvPicPr/>
          <p:nvPr/>
        </p:nvPicPr>
        <p:blipFill>
          <a:blip r:embed="rId1"/>
          <a:stretch/>
        </p:blipFill>
        <p:spPr>
          <a:xfrm>
            <a:off x="2998800" y="4119480"/>
            <a:ext cx="31669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ЭТАПЫ АНАЛИЗ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Заголовок 1"/>
          <p:cNvSpPr/>
          <p:nvPr/>
        </p:nvSpPr>
        <p:spPr>
          <a:xfrm>
            <a:off x="755640" y="396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едставление данны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Объект 2"/>
          <p:cNvSpPr/>
          <p:nvPr/>
        </p:nvSpPr>
        <p:spPr>
          <a:xfrm>
            <a:off x="2484360" y="1600200"/>
            <a:ext cx="6213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инцип светофор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результаты, которые отклоняются от плановых значений и, скорее всего, проект не достигнет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результаты, которые несколько отклоняются от плановых показателей, но все же, вероятно, что проект достигнет 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результаты, которые идут в ногу с целевыми значениями индикат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Нашивка 5"/>
          <p:cNvSpPr/>
          <p:nvPr/>
        </p:nvSpPr>
        <p:spPr>
          <a:xfrm>
            <a:off x="214200" y="711360"/>
            <a:ext cx="1656000" cy="5745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573120" y="8143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5" descr="http://uid.cduttkirspb.ru/images/274.jpg"/>
          <p:cNvPicPr/>
          <p:nvPr/>
        </p:nvPicPr>
        <p:blipFill>
          <a:blip r:embed="rId1"/>
          <a:stretch/>
        </p:blipFill>
        <p:spPr>
          <a:xfrm>
            <a:off x="0" y="1539720"/>
            <a:ext cx="23814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</a:rPr>
              <a:t>ЭТАПЫ АНАЛИЗА ДАНН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Заголовок 1"/>
          <p:cNvSpPr/>
          <p:nvPr/>
        </p:nvSpPr>
        <p:spPr>
          <a:xfrm>
            <a:off x="1258920" y="396720"/>
            <a:ext cx="7726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ыработка рекоменда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ашивка 4"/>
          <p:cNvSpPr/>
          <p:nvPr/>
        </p:nvSpPr>
        <p:spPr>
          <a:xfrm>
            <a:off x="108000" y="681120"/>
            <a:ext cx="1655640" cy="574560"/>
          </a:xfrm>
          <a:custGeom>
            <a:avLst/>
            <a:gdLst>
              <a:gd name="textAreaLeft" fmla="*/ 0 w 1655640"/>
              <a:gd name="textAreaRight" fmla="*/ 1656000 w 16556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52" y="0"/>
                </a:lnTo>
                <a:lnTo>
                  <a:pt x="21600" y="10800"/>
                </a:lnTo>
                <a:lnTo>
                  <a:pt x="17852" y="21600"/>
                </a:lnTo>
                <a:lnTo>
                  <a:pt x="0" y="21600"/>
                </a:lnTo>
                <a:lnTo>
                  <a:pt x="3748" y="10800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TextBox 5"/>
          <p:cNvSpPr/>
          <p:nvPr/>
        </p:nvSpPr>
        <p:spPr>
          <a:xfrm>
            <a:off x="466560" y="784080"/>
            <a:ext cx="9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Этап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Объект 2"/>
          <p:cNvSpPr/>
          <p:nvPr/>
        </p:nvSpPr>
        <p:spPr>
          <a:xfrm>
            <a:off x="466560" y="1600200"/>
            <a:ext cx="82314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Каждая рекомендация должна быть обоснова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Рекомендации должны быть </a:t>
            </a: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SMA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S -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конкрет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M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измери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A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достижи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R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-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актуаль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32523"/>
                </a:solidFill>
                <a:latin typeface="Calibri"/>
              </a:rPr>
              <a:t>T</a:t>
            </a: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99"/>
                </a:solidFill>
                <a:latin typeface="Calibri"/>
              </a:rPr>
              <a:t>с установленными срока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Заголовок 1"/>
          <p:cNvSpPr/>
          <p:nvPr/>
        </p:nvSpPr>
        <p:spPr>
          <a:xfrm>
            <a:off x="900000" y="396720"/>
            <a:ext cx="77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четность важнейшая часть мониторинга и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5" descr="http://alyonalavrova.com/wp-content/uploads/2013/10/%D0%BE%D1%82%D1%87%D0%B5%D1%82-%D0%BE-%D1%80%D0%B0%D0%B1%D0%BE%D1%82%D0%B5.png"/>
          <p:cNvPicPr/>
          <p:nvPr/>
        </p:nvPicPr>
        <p:blipFill>
          <a:blip r:embed="rId1"/>
          <a:stretch/>
        </p:blipFill>
        <p:spPr>
          <a:xfrm>
            <a:off x="2343240" y="1539720"/>
            <a:ext cx="483876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ОМЕЖУТОЧНЫЕ РЕЗУЛЬТАТЫ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(OUTPUT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Продукты и услуги, полученные в результате деятельности, совокупность которых ведет к достижению </a:t>
            </a:r>
            <a:r>
              <a:rPr b="1" lang="ru-RU" sz="4000" spc="-1" strike="noStrike">
                <a:solidFill>
                  <a:srgbClr val="000099"/>
                </a:solidFill>
                <a:latin typeface="Calibri"/>
              </a:rPr>
              <a:t>КОНЕЧНЫХ РЕЗУЛЬТАТОВ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 (</a:t>
            </a:r>
            <a:r>
              <a:rPr b="1" lang="en-US" sz="4000" spc="-1" strike="noStrike">
                <a:solidFill>
                  <a:srgbClr val="000099"/>
                </a:solidFill>
                <a:latin typeface="Calibri"/>
              </a:rPr>
              <a:t>OUTCOMES</a:t>
            </a:r>
            <a:r>
              <a:rPr b="0" lang="en-US" sz="4000" spc="-1" strike="noStrike">
                <a:solidFill>
                  <a:srgbClr val="000099"/>
                </a:solidFill>
                <a:latin typeface="Calibri"/>
              </a:rPr>
              <a:t>)</a:t>
            </a:r>
            <a:r>
              <a:rPr b="0" lang="ru-RU" sz="4000" spc="-1" strike="noStrike">
                <a:solidFill>
                  <a:srgbClr val="000099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ИТЕРИИ КАЧЕСТВА ОТЧЕТ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Заголовок 1"/>
          <p:cNvSpPr/>
          <p:nvPr/>
        </p:nvSpPr>
        <p:spPr>
          <a:xfrm>
            <a:off x="900000" y="396720"/>
            <a:ext cx="772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ритерии качества отче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Объект 2"/>
          <p:cNvSpPr/>
          <p:nvPr/>
        </p:nvSpPr>
        <p:spPr>
          <a:xfrm>
            <a:off x="46836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Актуальность и полезность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только то, что необходи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Своевременность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информация – «скоропортящийся продукт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олнота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столько, сколько необходи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Надежность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только подтвержденные данны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Простота и удобство использования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ясный, краткий, доступный для пони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Рентабельность </a:t>
            </a: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– время и день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ОТЧЕТ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Заголовок 1"/>
          <p:cNvSpPr/>
          <p:nvPr/>
        </p:nvSpPr>
        <p:spPr>
          <a:xfrm>
            <a:off x="884160" y="104760"/>
            <a:ext cx="77263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чет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233280" y="809640"/>
          <a:ext cx="8659800" cy="5837400"/>
        </p:xfrm>
        <a:graphic>
          <a:graphicData uri="http://schemas.openxmlformats.org/drawingml/2006/table">
            <a:tbl>
              <a:tblPr/>
              <a:tblGrid>
                <a:gridCol w="3691080"/>
                <a:gridCol w="4968720"/>
              </a:tblGrid>
              <a:tr h="320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утренняя отчет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шняя отчет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40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Целевая аудитор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0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Команда сотрудников проекта/программы и организация-исполнител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Заинтересованные стороны вне команды сотрудников проекта и организации-исполнителя (доноры, бенефициары, партнеры, международные организации, правительство, фон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сновное назначе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Информирование лиц, ответственных за управление проектом и принятие решений по проекту (отчетность по результатам мониторин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Подотчетность, обеспечения доверия, сбор средств, освещение проблем и способов их разреш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Периодич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По потребностям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Реже, периодичес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Содержани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Детальное, расширенное, для удовлетворения различных управленческих запросо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Сжатое, в виде выдержек из внутренних отчетов. Построено на основании требований целевой аудито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76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Форма представл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пределяется командой проекта и служит укреплению организационной культуры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99"/>
                          </a:solidFill>
                          <a:latin typeface="Calibri"/>
                        </a:rPr>
                        <a:t>Определяется внешними требованиями или предпочтениями целевой аудитор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6040" y="3312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тчет должен содерж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Объект 2"/>
          <p:cNvSpPr/>
          <p:nvPr/>
        </p:nvSpPr>
        <p:spPr>
          <a:xfrm>
            <a:off x="250920" y="907920"/>
            <a:ext cx="864216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1. Резюме: предоставьте краткое изложение основных параметров оценки, выводов по результатам оценки и рекоменд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2. Введение: дайте пояснения цели оценки, ее причину (оценка, анализ воздействия, оценка процесс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3. Методология: объясните, как вы разработали вопросы, укажите источники данных (респондентов), и как вы собрали дан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4. Выводы: опишите результаты анализа данн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5. Рекомендации: опишите рекомендации, основанные на результатах оцен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6. Приложения: включите списки опрошенных, анализ анкет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Calibri"/>
              </a:rPr>
              <a:t>* Для доноров можно подготовить презентацию, содержащую основные тезисы отче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Заголовок 1"/>
          <p:cNvSpPr/>
          <p:nvPr/>
        </p:nvSpPr>
        <p:spPr>
          <a:xfrm>
            <a:off x="446040" y="33480"/>
            <a:ext cx="8229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екомендации по составлению от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Объект 2"/>
          <p:cNvSpPr/>
          <p:nvPr/>
        </p:nvSpPr>
        <p:spPr>
          <a:xfrm>
            <a:off x="611280" y="907920"/>
            <a:ext cx="7921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Заранее запланируйте написание отчета и отведите на это достаточно време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Привлекайте к отчету других сотрудников. Но ответственность должен нести один челов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Переведите отчет на соответствующий язы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Включите в отчет раздел «Резюме» или «Обзор проекта» с кратким описанием хода выполнения проекта и выделением основных вопросов/мероприятий, которые требуют вним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Излагайте свои мысли ясно, сжато, избегая длинных предложений, употребления профессионального языка, избыточных статистических данных и специальных технических термин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Заголовок 1"/>
          <p:cNvSpPr/>
          <p:nvPr/>
        </p:nvSpPr>
        <p:spPr>
          <a:xfrm>
            <a:off x="446040" y="33480"/>
            <a:ext cx="8229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екомендации по составлению от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Объект 2"/>
          <p:cNvSpPr/>
          <p:nvPr/>
        </p:nvSpPr>
        <p:spPr>
          <a:xfrm>
            <a:off x="250920" y="836640"/>
            <a:ext cx="86421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освятите один из разделов отчета определению конкретных действий, которые необходимо предпринять по итогам отчета и с учетом выработанных рекомендаций, а также круга ответственных лиц и сроков выполнения этих действ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Используйте форматирование (жирный шрифт или подчеркивание) для выделения ключевых момен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Используйте графики, фотографии, цитаты и примеры в качестве пояснения к представленной информ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Будьте точны, уравновешены и беспристраст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Заголовок 1"/>
          <p:cNvSpPr/>
          <p:nvPr/>
        </p:nvSpPr>
        <p:spPr>
          <a:xfrm>
            <a:off x="446040" y="33480"/>
            <a:ext cx="822960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екомендации по составлению отче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Объект 2"/>
          <p:cNvSpPr/>
          <p:nvPr/>
        </p:nvSpPr>
        <p:spPr>
          <a:xfrm>
            <a:off x="611280" y="907920"/>
            <a:ext cx="7921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Используйте логическое разбиение на разделы для структурирования и организации содержания отч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Избегайте ненужной информации и лишних сл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оддерживайте принятых донором форматов и руководящих указаний, касающихся стиля и использования терминологии, и надлежайшим образом используйте логотипы доно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Проверяйте орфографию и пунктуаци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Заголовок 1"/>
          <p:cNvSpPr/>
          <p:nvPr/>
        </p:nvSpPr>
        <p:spPr>
          <a:xfrm>
            <a:off x="446040" y="33480"/>
            <a:ext cx="82296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правление знаниями и хранение информ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Объект 2"/>
          <p:cNvSpPr/>
          <p:nvPr/>
        </p:nvSpPr>
        <p:spPr>
          <a:xfrm>
            <a:off x="611280" y="907920"/>
            <a:ext cx="7921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Объект 2"/>
          <p:cNvSpPr/>
          <p:nvPr/>
        </p:nvSpPr>
        <p:spPr>
          <a:xfrm>
            <a:off x="250920" y="1844640"/>
            <a:ext cx="864216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истематические процессы, благодаря которым создаются, сохраняются, распределяются и применяются основные элементы интеллектуального капитала, необходимые для успеха организации (Wikipedia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Заголовок 1"/>
          <p:cNvSpPr/>
          <p:nvPr/>
        </p:nvSpPr>
        <p:spPr>
          <a:xfrm>
            <a:off x="446040" y="33480"/>
            <a:ext cx="82296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чем хранить информац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Объект 2"/>
          <p:cNvSpPr/>
          <p:nvPr/>
        </p:nvSpPr>
        <p:spPr>
          <a:xfrm>
            <a:off x="611280" y="907920"/>
            <a:ext cx="7921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Объект 2"/>
          <p:cNvSpPr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Затем, чтобы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Иметь доступ к документа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Находить документы легко и быстр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редотвратить отток организационных и потребительских знани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Создать и укрепить организационную памя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Calibri"/>
              </a:rPr>
              <a:t>Пройти аудит файлов (электронных, на бумажном носителе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Рекомендации по составлению отче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Заголовок 1"/>
          <p:cNvSpPr/>
          <p:nvPr/>
        </p:nvSpPr>
        <p:spPr>
          <a:xfrm>
            <a:off x="446040" y="33480"/>
            <a:ext cx="822960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Что и как документирова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Объект 2"/>
          <p:cNvSpPr/>
          <p:nvPr/>
        </p:nvSpPr>
        <p:spPr>
          <a:xfrm>
            <a:off x="611280" y="907920"/>
            <a:ext cx="7921440" cy="56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Объект 2"/>
          <p:cNvSpPr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Необходимо хранить электронные версии в упорядоченном виде на сервере организации и делать копию на съемный жесткий диск или флеш-карту. Печатные версии документов необходимо хранить в соответствующих папк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Документы для хран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Контакты (базы данных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тчет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Достижение успеха (истории успех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Ноу-хау, успешные методы, подходы (лучшие практик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Полученные знания извне (руководства, инструкции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Мониторинг и оценку проек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Упоминания в прессе (медиа мониторинг, пресс клиппинг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Консультации бенефициаров (книга учета консультаций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Calibri"/>
              </a:rPr>
              <a:t>ЛОГИКО-СТРУКТУРНАЯ </a:t>
            </a:r>
            <a:r>
              <a:rPr b="1" lang="en-US" sz="3500" spc="-1" strike="noStrike">
                <a:solidFill>
                  <a:srgbClr val="002060"/>
                </a:solidFill>
                <a:latin typeface="Calibri"/>
              </a:rPr>
              <a:t>C</a:t>
            </a:r>
            <a:r>
              <a:rPr b="1" lang="ru-RU" sz="3500" spc="-1" strike="noStrike">
                <a:solidFill>
                  <a:srgbClr val="002060"/>
                </a:solidFill>
                <a:latin typeface="Calibri"/>
              </a:rPr>
              <a:t>ХЕМА ПРОЕКТА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3"/>
          <p:cNvSpPr/>
          <p:nvPr/>
        </p:nvSpPr>
        <p:spPr>
          <a:xfrm>
            <a:off x="2187720" y="1741320"/>
            <a:ext cx="66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Если мы получаем конечные результаты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outcome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 проекта, то мы продвигаемся к достижению цели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goal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 проекта, получая долгосрочный результат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impact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Прямоугольник 4"/>
          <p:cNvSpPr/>
          <p:nvPr/>
        </p:nvSpPr>
        <p:spPr>
          <a:xfrm>
            <a:off x="2478240" y="2749680"/>
            <a:ext cx="619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Если мы достигаем всех промежуточных результатов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output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, то решаем задачи проекта, т.е. получаем конечные результаты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outcome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Прямоугольник 5"/>
          <p:cNvSpPr/>
          <p:nvPr/>
        </p:nvSpPr>
        <p:spPr>
          <a:xfrm>
            <a:off x="3124080" y="3770280"/>
            <a:ext cx="55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Если мы успешно выполняем запланированную деятельность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ctivities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, то это ведет нас к достижению промежуточных результатов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output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Прямоугольник 6"/>
          <p:cNvSpPr/>
          <p:nvPr/>
        </p:nvSpPr>
        <p:spPr>
          <a:xfrm>
            <a:off x="4348080" y="48672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Если мы имеем необходимые ресурсы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input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, то можем проводить деятельность  (</a:t>
            </a:r>
            <a:r>
              <a:rPr b="0" lang="en-US" sz="1800" spc="-1" strike="noStrike">
                <a:solidFill>
                  <a:srgbClr val="000099"/>
                </a:solidFill>
                <a:latin typeface="Calibri"/>
              </a:rPr>
              <a:t>activities</a:t>
            </a:r>
            <a:r>
              <a:rPr b="0" lang="ru-RU" sz="1800" spc="-1" strike="noStrike">
                <a:solidFill>
                  <a:srgbClr val="000099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Прямоугольник 7"/>
          <p:cNvSpPr/>
          <p:nvPr/>
        </p:nvSpPr>
        <p:spPr>
          <a:xfrm>
            <a:off x="387360" y="4867200"/>
            <a:ext cx="3600360" cy="922320"/>
          </a:xfrm>
          <a:prstGeom prst="rect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Прямоугольник 8"/>
          <p:cNvSpPr/>
          <p:nvPr/>
        </p:nvSpPr>
        <p:spPr>
          <a:xfrm>
            <a:off x="387360" y="3973680"/>
            <a:ext cx="2448000" cy="8935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Прямоугольник 10"/>
          <p:cNvSpPr/>
          <p:nvPr/>
        </p:nvSpPr>
        <p:spPr>
          <a:xfrm>
            <a:off x="387360" y="2892600"/>
            <a:ext cx="1986120" cy="10810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Прямоугольник 11"/>
          <p:cNvSpPr/>
          <p:nvPr/>
        </p:nvSpPr>
        <p:spPr>
          <a:xfrm>
            <a:off x="387360" y="1984320"/>
            <a:ext cx="1440000" cy="908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ОНЕЧНЫЙ РЕЗУЛЬТАТ</a:t>
            </a:r>
            <a:br>
              <a:rPr sz="4400"/>
            </a:b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(OUTCOM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Изменения в поведении целевой группы, доступности услуг и возможностей, к которым привела совокупность </a:t>
            </a:r>
            <a:r>
              <a:rPr b="1" lang="ru-RU" sz="3700" spc="-1" strike="noStrike">
                <a:solidFill>
                  <a:srgbClr val="000099"/>
                </a:solidFill>
                <a:latin typeface="Calibri"/>
              </a:rPr>
              <a:t>ПРОМЕЖУТОЧНЫХ РЕЗУЛЬТАТОВ 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en-US" sz="3700" spc="-1" strike="noStrike">
                <a:solidFill>
                  <a:srgbClr val="000099"/>
                </a:solidFill>
                <a:latin typeface="Calibri"/>
              </a:rPr>
              <a:t>OUTPUTS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99"/>
                </a:solidFill>
                <a:latin typeface="Calibri"/>
              </a:rPr>
              <a:t>КОНЕЧНЫЕ РЕЗУЛЬТАТЫ 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en-US" sz="3700" spc="-1" strike="noStrike">
                <a:solidFill>
                  <a:srgbClr val="000099"/>
                </a:solidFill>
                <a:latin typeface="Calibri"/>
              </a:rPr>
              <a:t>OUTCOMES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) способствуют достижению </a:t>
            </a:r>
            <a:r>
              <a:rPr b="1" lang="ru-RU" sz="3700" spc="-1" strike="noStrike">
                <a:solidFill>
                  <a:srgbClr val="000099"/>
                </a:solidFill>
                <a:latin typeface="Calibri"/>
              </a:rPr>
              <a:t>ВОЗДЕЙСТВИЯ 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en-US" sz="3700" spc="-1" strike="noStrike">
                <a:solidFill>
                  <a:srgbClr val="000099"/>
                </a:solidFill>
                <a:latin typeface="Calibri"/>
              </a:rPr>
              <a:t>IMPACT</a:t>
            </a:r>
            <a:r>
              <a:rPr b="0" lang="ru-RU" sz="3700" spc="-1" strike="noStrike">
                <a:solidFill>
                  <a:srgbClr val="000099"/>
                </a:solidFill>
                <a:latin typeface="Calibri"/>
              </a:rPr>
              <a:t>).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Calibri"/>
              </a:rPr>
              <a:t>ЛОГИЧЕСКАЯ СХЕМА</a:t>
            </a:r>
            <a:r>
              <a:rPr b="0" lang="ru-RU" sz="3800" spc="-1" strike="noStrike">
                <a:solidFill>
                  <a:srgbClr val="002060"/>
                </a:solidFill>
                <a:latin typeface="Calibri"/>
              </a:rPr>
              <a:t> – это описание логики проекта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Объект 2"/>
          <p:cNvSpPr/>
          <p:nvPr/>
        </p:nvSpPr>
        <p:spPr>
          <a:xfrm>
            <a:off x="250920" y="1700280"/>
            <a:ext cx="864216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Каких изменений мы хотим достичь (результаты трех уровней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Как мы этого достигнем (деятельнос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Как мы будем измерять изменения (индикаторы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Где и как собирать информацию (средства верификац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Calibri"/>
              </a:rPr>
              <a:t>Что необходимо принять во внимание (набор допущений/риск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Логическая схем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395280" y="1268280"/>
          <a:ext cx="8388360" cy="5635800"/>
        </p:xfrm>
        <a:graphic>
          <a:graphicData uri="http://schemas.openxmlformats.org/drawingml/2006/table">
            <a:tbl>
              <a:tblPr/>
              <a:tblGrid>
                <a:gridCol w="2097000"/>
                <a:gridCol w="2097360"/>
                <a:gridCol w="2097000"/>
                <a:gridCol w="2097000"/>
              </a:tblGrid>
              <a:tr h="21099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ируемые достижения проек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что мы хотим сделать и чего мы хотим достичь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ства верифика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где/как получить информацию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пущения/рис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что еще необходимо принять во вним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98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действие /Долгосрочные результаты(impa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702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ечные результаты (outc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608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межуточные результаты (outpu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еятельность (activiti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3400"/>
            <a:ext cx="822960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ри планировании мониторинга и оценки проекта необходимо учесть следующие моменты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Объект 2"/>
          <p:cNvSpPr/>
          <p:nvPr/>
        </p:nvSpPr>
        <p:spPr>
          <a:xfrm>
            <a:off x="250920" y="1773360"/>
            <a:ext cx="86421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Определить, что мы собираемся мониторить и отслеживать. Это зависит от того, для кого мы проводим оценку. Стейкхолдеры заинтересованы в различных результатах оценки, в зависимости от своих интересов и приоритетов. Например, органы местного самоуправления могут руководствоваться достижением целей стратегии социально-экономического развития региона.  А женщины небольшого поселка, могут назвать проект успешным, если в результате их повседневная жизнь стала легче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Определить индикаторы, по которым будет отслеживаться ход проекта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Установить источники информации для проведения мониторинга. Источником информации могут выступать: бенефициары, сотрудники проекта, представители партнеров, документ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Объект 2"/>
          <p:cNvSpPr/>
          <p:nvPr/>
        </p:nvSpPr>
        <p:spPr>
          <a:xfrm>
            <a:off x="250920" y="476280"/>
            <a:ext cx="864216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Выбрать методы сбора информации и определить какими ресурсами мы располагаем (временными, денежными, человеческим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Определить частоту и график сбора информации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Назначить ответственных за получение необходимой информации  и договориться с теми, кто эту информацию будет предоставля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Весь путь информации от источника к отчету может быть отражен в одном документе, понятном любому специалисту. В нем же могут быть отражены ответственные за заполнение форм, специалисты, их обрабатывающие, специалисты, проводящие анализ, место хранения документ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Определить технологию обработки, анализа и хранения получаемой информации, а также ответственных за эти процессы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Спланировать, как и кому будут переданы данные мониторинга, а также кто и как будет их использовать. Необходимо определиться, какую информацию, в каком виде, как часто и кому предоставля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Шаги планирован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Объект 2"/>
          <p:cNvSpPr/>
          <p:nvPr/>
        </p:nvSpPr>
        <p:spPr>
          <a:xfrm>
            <a:off x="250920" y="1557360"/>
            <a:ext cx="86421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Определение цели оцен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Определение уже имеющейся в организации/проекте информации и выявление информационных пробелов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Разработка вопросов, ответы на которые предполагается получить в ходе оцен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Определение возможных подходов к проведению оценки, сбору и анализу данных, новым источникам информации и т.п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Принятие решения о том, будет ли это внутренняя или внешняя оценка; определение умений и навыков, которые необходимы отдельному эксперту или команде для проведения оценк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99"/>
                </a:solidFill>
                <a:latin typeface="Calibri"/>
              </a:rPr>
              <a:t>Составление примерного графика и сметы рабо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График проведения 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395280" y="1413000"/>
          <a:ext cx="8209080" cy="5111640"/>
        </p:xfrm>
        <a:graphic>
          <a:graphicData uri="http://schemas.openxmlformats.org/drawingml/2006/table">
            <a:tbl>
              <a:tblPr/>
              <a:tblGrid>
                <a:gridCol w="5048280"/>
                <a:gridCol w="961920"/>
                <a:gridCol w="825480"/>
                <a:gridCol w="755640"/>
                <a:gridCol w="617760"/>
              </a:tblGrid>
              <a:tr h="900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тапы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-2 нед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-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, изучение задач, выбор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, разработка и тестирование инструмента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дан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, отчета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уждение и внесение изменении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аботка отчета и подготовка окончательного докумен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Расчет количества рабочих днеи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24000" y="1557360"/>
          <a:ext cx="8424720" cy="4678200"/>
        </p:xfrm>
        <a:graphic>
          <a:graphicData uri="http://schemas.openxmlformats.org/drawingml/2006/table">
            <a:tbl>
              <a:tblPr/>
              <a:tblGrid>
                <a:gridCol w="3122640"/>
                <a:gridCol w="1715760"/>
                <a:gridCol w="1576440"/>
                <a:gridCol w="2009880"/>
              </a:tblGrid>
              <a:tr h="725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Этап оцен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Количество днеи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пециалист по оценк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Специалист по анализу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бор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ализ данны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2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отчета, презента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725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суждение и внесение изменении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  <a:tr h="1097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работка отчета и подготовка окончательного докумен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Оплата труд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179280" y="1557360"/>
          <a:ext cx="8640720" cy="3260880"/>
        </p:xfrm>
        <a:graphic>
          <a:graphicData uri="http://schemas.openxmlformats.org/drawingml/2006/table">
            <a:tbl>
              <a:tblPr/>
              <a:tblGrid>
                <a:gridCol w="3510000"/>
                <a:gridCol w="981000"/>
                <a:gridCol w="1710000"/>
                <a:gridCol w="1585800"/>
                <a:gridCol w="853920"/>
              </a:tblGrid>
              <a:tr h="1050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вка в день, тенг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исло сотрудник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, тенг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1da"/>
                    </a:solidFill>
                  </a:tcPr>
                </a:tc>
              </a:tr>
              <a:tr h="946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к, задействованный в проведении оценки полный рабочий д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к, задействованный в проведении оценки част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6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трудник НПО-партне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6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49360"/>
          <a:ext cx="8207280" cy="5737320"/>
        </p:xfrm>
        <a:graphic>
          <a:graphicData uri="http://schemas.openxmlformats.org/drawingml/2006/table">
            <a:tbl>
              <a:tblPr/>
              <a:tblGrid>
                <a:gridCol w="504720"/>
                <a:gridCol w="1295640"/>
                <a:gridCol w="1224000"/>
                <a:gridCol w="1295280"/>
                <a:gridCol w="1152360"/>
                <a:gridCol w="1008360"/>
                <a:gridCol w="1726920"/>
              </a:tblGrid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организ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5560">
                <a:tc gridSpan="7"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лан мониторинга и оценки проект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ель про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дача 1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12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ятельност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дикатор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од сбора информации, частота сбора, форма отче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ьные показ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вые показател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17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дикаторы вклада (деятельность, количественные индикаторы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гну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дикаторы промежуточных результатов (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гну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3520">
                <a:tc gridSpan="7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дикаторы конечного результата (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 rowSpan="3"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анируем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стигну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н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199"/>
                        </a:spcAft>
                        <a:tabLst>
                          <a:tab algn="l" pos="0"/>
                          <a:tab algn="l" pos="139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0400" marR="50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libri"/>
              </a:rPr>
              <a:t>Использование результатов мониторинга и оцен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Объект 2"/>
          <p:cNvSpPr/>
          <p:nvPr/>
        </p:nvSpPr>
        <p:spPr>
          <a:xfrm>
            <a:off x="250920" y="1628640"/>
            <a:ext cx="86421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99"/>
                </a:solidFill>
                <a:latin typeface="Calibri"/>
              </a:rPr>
              <a:t>Собранную в ходе мониторинга и оценки информацию можно использовать дл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принятия менеджерских решений (перераспределение нагрузки между специалистами, усиление методической работы с волонтерами, изменение рекламной стратегии и пр.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представления достижений проекта партнерам (презентация, отчет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результаты оценки, особенно яркие «истории успеха» можно использовать для продвижения организации, повышении ее извест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наиболее яркие изменения социальной ситуации, к которым был причастен проект,  можно поместить в годовой отч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привлечения дополнительных средств (при написании заявок на грант, сборе средств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alibri"/>
              </a:rPr>
              <a:t>отчетности перед донор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ДОЛГОСРОЧНЫЙ РЕЗУЛЬТАТ/ВОЗДЕЙСТВИЕ</a:t>
            </a:r>
            <a:br>
              <a:rPr sz="3000"/>
            </a:b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IMPACT</a:t>
            </a:r>
            <a:r>
              <a:rPr b="1" lang="ru-RU" sz="30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Предполагаемый долгосрочный эффект воздействия </a:t>
            </a:r>
            <a:r>
              <a:rPr b="1" lang="ru-RU" sz="3000" spc="-1" strike="noStrike">
                <a:solidFill>
                  <a:srgbClr val="000099"/>
                </a:solidFill>
                <a:latin typeface="Calibri"/>
              </a:rPr>
              <a:t>КОНЕЧНЫХ РЕЗУЛЬТАТОВ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Calibri"/>
              </a:rPr>
              <a:t>OUTCOMES</a:t>
            </a:r>
            <a:r>
              <a:rPr b="0" lang="en-US" sz="3000" spc="-1" strike="noStrike">
                <a:solidFill>
                  <a:srgbClr val="000099"/>
                </a:solidFill>
                <a:latin typeface="Calibri"/>
              </a:rPr>
              <a:t>) 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проекта на ситуацию и/или целевую групп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99"/>
                </a:solidFill>
                <a:latin typeface="Calibri"/>
              </a:rPr>
              <a:t>ДОЛГОСРОЧНЫЕ РЕЗУЛЬТАТЫ</a:t>
            </a:r>
            <a:r>
              <a:rPr b="0" lang="ru-RU" sz="3000" spc="-1" strike="noStrike">
                <a:solidFill>
                  <a:srgbClr val="000099"/>
                </a:solidFill>
                <a:latin typeface="Calibri"/>
              </a:rPr>
              <a:t>, отсроченные качественные изменения (снижение уязвимости целевых групп к негативным факторам окружающей среды, улучшение качества жизни), ради которых работает проек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Этика проведения мониторинга и оце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Прямоугольник 3"/>
          <p:cNvSpPr/>
          <p:nvPr/>
        </p:nvSpPr>
        <p:spPr>
          <a:xfrm>
            <a:off x="539640" y="105264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Основой оценки программ может быть только точная и достоверная информац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Исполнение работы по оценке должно быть компетентным.  Специалисты должны обладать достаточным образованием, знаниями и навыками для выполнения задач, возникающих при проведении оце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ециалисты по оценке программ гарантируют честность и открытость всего процесса оцен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Специалисты по оценке программ уважают безопасность и достоинство людей, с которыми они взаимодействую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Calibri"/>
              </a:rPr>
              <a:t>Все стороны, которые занимаются наблюдением, управлением и реализацией оценки, должны уважать права человека и культурное разнообразие, обычаи, религиозные верования и практи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 algn="just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При разработке материалов тренинга использов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Прямоугольник 3"/>
          <p:cNvSpPr/>
          <p:nvPr/>
        </p:nvSpPr>
        <p:spPr>
          <a:xfrm>
            <a:off x="324000" y="1052640"/>
            <a:ext cx="8496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Institutional Capacity Building Team SHIELD Project International Rescue Committee. Monitoring and Evaluation Training Manual for CBOs and NGOs. Thai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Гусева Е.Г. Мониторинг и оценка проектов.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Центр развития некоммерческих организаций, Архангельск, 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Калачёва А.В., Власкина Т.В., Загайнова А.И. Руководство по мониторинг и оценке. Общероссийская общественная организаций Российский Красный Крест. Ресурсный центр по вопросам здравоохранения,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Общественное объединение Казахстанская Ассоциация по половому и репродуктивному здоровью. Руководство по Мониторингу и Оценке деятельности. Алматы, 200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Пособие по оценке для организаций инвалидов.  Ссылка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aupam.narod.ru/pages/sozial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posobie_po_ocenke_dlya_organizaciyj_invalidov/oglavlenie.html</a:t>
            </a: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497d"/>
                </a:solidFill>
                <a:latin typeface="Calibri"/>
              </a:rPr>
              <a:t>Центр социально-экономических исследований. Как провести мониторинг и оценку эффективности разработки и реализации социальных проектов НПО. Проект «Открытый бюджет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ерархия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722920" y="5446800"/>
            <a:ext cx="3313080" cy="6426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Arial"/>
              </a:rPr>
              <a:t>Необходимые ресурсы, имеющиеся и запрашиваем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5580000" y="4572000"/>
            <a:ext cx="3313080" cy="36828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Arial"/>
              </a:rPr>
              <a:t>Мероприятия, мер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319720" y="3502080"/>
            <a:ext cx="3573360" cy="64260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Arial"/>
              </a:rPr>
              <a:t>Непосредственные изменения, к которым привела ДЕЯТЕЛЬН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148360" y="2433600"/>
            <a:ext cx="3722760" cy="916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Arial"/>
              </a:rPr>
              <a:t>Изменения, к которым привела совокупность ПРОМЕЖУТОЧНЫХ РЕЗУЛЬТА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4067280" y="1413000"/>
            <a:ext cx="4681440" cy="916920"/>
          </a:xfrm>
          <a:prstGeom prst="rect">
            <a:avLst/>
          </a:prstGeom>
          <a:noFill/>
          <a:ln w="93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alibri"/>
                <a:ea typeface="Arial"/>
              </a:rPr>
              <a:t>Предполагаемый, долгосрочный эффект ВОЗДЕЙСТВИЯ КОНЕЧНЫХ РЕЗУЛЬТАТОВ проекта на ситуацию и/или целевую групп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Равнобедренный треугольник 1"/>
          <p:cNvSpPr/>
          <p:nvPr/>
        </p:nvSpPr>
        <p:spPr>
          <a:xfrm>
            <a:off x="133200" y="1270080"/>
            <a:ext cx="5446800" cy="511164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ая соединительная линия 4"/>
          <p:cNvSpPr/>
          <p:nvPr/>
        </p:nvSpPr>
        <p:spPr>
          <a:xfrm>
            <a:off x="673200" y="5373720"/>
            <a:ext cx="4248000" cy="0"/>
          </a:xfrm>
          <a:prstGeom prst="line">
            <a:avLst/>
          </a:prstGeom>
          <a:ln w="316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3"/>
          <p:cNvSpPr/>
          <p:nvPr/>
        </p:nvSpPr>
        <p:spPr>
          <a:xfrm>
            <a:off x="1177920" y="4365720"/>
            <a:ext cx="3168720" cy="0"/>
          </a:xfrm>
          <a:prstGeom prst="line">
            <a:avLst/>
          </a:prstGeom>
          <a:ln w="3168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ая соединительная линия 14"/>
          <p:cNvSpPr/>
          <p:nvPr/>
        </p:nvSpPr>
        <p:spPr>
          <a:xfrm>
            <a:off x="1681200" y="3429000"/>
            <a:ext cx="2232000" cy="0"/>
          </a:xfrm>
          <a:prstGeom prst="line">
            <a:avLst/>
          </a:prstGeom>
          <a:ln w="316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ая соединительная линия 15"/>
          <p:cNvSpPr/>
          <p:nvPr/>
        </p:nvSpPr>
        <p:spPr>
          <a:xfrm>
            <a:off x="2112840" y="2565360"/>
            <a:ext cx="1368720" cy="0"/>
          </a:xfrm>
          <a:prstGeom prst="line">
            <a:avLst/>
          </a:prstGeom>
          <a:ln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73200" y="5589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alibri"/>
              </a:rPr>
              <a:t>Вклад/</a:t>
            </a:r>
            <a:r>
              <a:rPr b="1" lang="en-US" sz="3200" spc="-1" strike="noStrike">
                <a:solidFill>
                  <a:srgbClr val="000099"/>
                </a:solidFill>
                <a:latin typeface="Calibri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755640" y="4572000"/>
            <a:ext cx="4248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700" spc="-1" strike="noStrike">
                <a:solidFill>
                  <a:srgbClr val="000099"/>
                </a:solidFill>
                <a:latin typeface="Calibri"/>
              </a:rPr>
              <a:t>Деятельность</a:t>
            </a:r>
            <a:r>
              <a:rPr b="1" lang="en-US" sz="2700" spc="-1" strike="noStrike">
                <a:solidFill>
                  <a:srgbClr val="000099"/>
                </a:solidFill>
                <a:latin typeface="Calibri"/>
              </a:rPr>
              <a:t>/Activ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1525680" y="3328920"/>
            <a:ext cx="241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Calibri"/>
              </a:rPr>
              <a:t>Промежуточные результаты</a:t>
            </a:r>
            <a:r>
              <a:rPr b="1" lang="en-US" sz="2200" spc="-1" strike="noStrike">
                <a:solidFill>
                  <a:srgbClr val="000099"/>
                </a:solidFill>
                <a:latin typeface="Calibri"/>
              </a:rPr>
              <a:t>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9"/>
                </a:solidFill>
                <a:latin typeface="Calibri"/>
              </a:rPr>
              <a:t>Outp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1692360" y="2492280"/>
            <a:ext cx="223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0099"/>
                </a:solidFill>
                <a:latin typeface="Calibri"/>
              </a:rPr>
              <a:t>Конечные результат</a:t>
            </a: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alibri"/>
              </a:rPr>
              <a:t>Outc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754200" y="1995480"/>
            <a:ext cx="424944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300" spc="-1" strike="noStrike">
                <a:solidFill>
                  <a:srgbClr val="000099"/>
                </a:solidFill>
                <a:latin typeface="Calibri"/>
              </a:rPr>
              <a:t>Воздействие</a:t>
            </a:r>
            <a:r>
              <a:rPr b="1" lang="en-US" sz="1200" spc="-1" strike="noStrike">
                <a:solidFill>
                  <a:srgbClr val="000099"/>
                </a:solidFill>
                <a:latin typeface="Calibri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alibri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трелка вправо 2"/>
          <p:cNvSpPr/>
          <p:nvPr/>
        </p:nvSpPr>
        <p:spPr>
          <a:xfrm>
            <a:off x="3203640" y="1700280"/>
            <a:ext cx="709560" cy="17460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Стрелка вправо 6"/>
          <p:cNvSpPr/>
          <p:nvPr/>
        </p:nvSpPr>
        <p:spPr>
          <a:xfrm>
            <a:off x="3780000" y="2708280"/>
            <a:ext cx="1368360" cy="291960"/>
          </a:xfrm>
          <a:prstGeom prst="rightArrow">
            <a:avLst>
              <a:gd name="adj1" fmla="val 50000"/>
              <a:gd name="adj2" fmla="val 500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Стрелка вправо 10"/>
          <p:cNvSpPr/>
          <p:nvPr/>
        </p:nvSpPr>
        <p:spPr>
          <a:xfrm>
            <a:off x="4211640" y="3616200"/>
            <a:ext cx="1108080" cy="31752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Стрелка вправо 11"/>
          <p:cNvSpPr/>
          <p:nvPr/>
        </p:nvSpPr>
        <p:spPr>
          <a:xfrm>
            <a:off x="4716360" y="4572000"/>
            <a:ext cx="814320" cy="26208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Стрелка вправо 12"/>
          <p:cNvSpPr/>
          <p:nvPr/>
        </p:nvSpPr>
        <p:spPr>
          <a:xfrm>
            <a:off x="5219640" y="5589720"/>
            <a:ext cx="503280" cy="2919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ичинно-следствен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627280" y="1628640"/>
            <a:ext cx="41054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99"/>
                </a:solidFill>
                <a:latin typeface="Calibri"/>
              </a:rPr>
              <a:t>Планирование для достижения результатов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4"/>
          <p:cNvSpPr/>
          <p:nvPr/>
        </p:nvSpPr>
        <p:spPr>
          <a:xfrm>
            <a:off x="2627280" y="2205000"/>
            <a:ext cx="38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alibri"/>
              </a:rPr>
              <a:t>Реализация, мониторинг и оценка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0" name="Прямая со стрелкой 6"/>
          <p:cNvCxnSpPr/>
          <p:nvPr/>
        </p:nvCxnSpPr>
        <p:spPr>
          <a:xfrm flipH="1" flipV="1">
            <a:off x="467640" y="1789920"/>
            <a:ext cx="2088360" cy="1080"/>
          </a:xfrm>
          <a:prstGeom prst="straightConnector1">
            <a:avLst/>
          </a:prstGeom>
          <a:ln w="25560">
            <a:solidFill>
              <a:srgbClr val="c00000"/>
            </a:solidFill>
            <a:miter/>
            <a:tailEnd len="med" type="triangle" w="med"/>
          </a:ln>
        </p:spPr>
      </p:cxnSp>
      <p:grpSp>
        <p:nvGrpSpPr>
          <p:cNvPr id="101" name="Группа 11"/>
          <p:cNvGrpSpPr/>
          <p:nvPr/>
        </p:nvGrpSpPr>
        <p:grpSpPr>
          <a:xfrm>
            <a:off x="6516720" y="1773360"/>
            <a:ext cx="2062080" cy="46080"/>
            <a:chOff x="6516720" y="1773360"/>
            <a:chExt cx="2062080" cy="46080"/>
          </a:xfrm>
        </p:grpSpPr>
        <p:sp>
          <p:nvSpPr>
            <p:cNvPr id="102" name="Прямая соединительная линия 8"/>
            <p:cNvSpPr/>
            <p:nvPr/>
          </p:nvSpPr>
          <p:spPr>
            <a:xfrm>
              <a:off x="6516720" y="1790640"/>
              <a:ext cx="2016360" cy="0"/>
            </a:xfrm>
            <a:prstGeom prst="line">
              <a:avLst/>
            </a:prstGeom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Овал 10"/>
            <p:cNvSpPr/>
            <p:nvPr/>
          </p:nvSpPr>
          <p:spPr>
            <a:xfrm>
              <a:off x="8533080" y="1773360"/>
              <a:ext cx="45720" cy="460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Группа 12"/>
          <p:cNvGrpSpPr/>
          <p:nvPr/>
        </p:nvGrpSpPr>
        <p:grpSpPr>
          <a:xfrm>
            <a:off x="493200" y="2374560"/>
            <a:ext cx="2349720" cy="44280"/>
            <a:chOff x="493200" y="2374560"/>
            <a:chExt cx="2349720" cy="44280"/>
          </a:xfrm>
        </p:grpSpPr>
        <p:sp>
          <p:nvSpPr>
            <p:cNvPr id="105" name="Прямая соединительная линия 13"/>
            <p:cNvSpPr/>
            <p:nvPr/>
          </p:nvSpPr>
          <p:spPr>
            <a:xfrm flipH="1">
              <a:off x="538920" y="2401560"/>
              <a:ext cx="2304000" cy="0"/>
            </a:xfrm>
            <a:prstGeom prst="line">
              <a:avLst/>
            </a:prstGeom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Овал 14"/>
            <p:cNvSpPr/>
            <p:nvPr/>
          </p:nvSpPr>
          <p:spPr>
            <a:xfrm rot="10800000">
              <a:off x="493200" y="2374560"/>
              <a:ext cx="45720" cy="4428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07" name="Прямая со стрелкой 17"/>
          <p:cNvCxnSpPr/>
          <p:nvPr/>
        </p:nvCxnSpPr>
        <p:spPr>
          <a:xfrm flipV="1">
            <a:off x="6156360" y="2374560"/>
            <a:ext cx="2504160" cy="2160"/>
          </a:xfrm>
          <a:prstGeom prst="straightConnector1">
            <a:avLst/>
          </a:prstGeom>
          <a:ln w="255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108" name="Нашивка 18"/>
          <p:cNvSpPr/>
          <p:nvPr/>
        </p:nvSpPr>
        <p:spPr>
          <a:xfrm>
            <a:off x="108000" y="2997360"/>
            <a:ext cx="2016000" cy="12236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043" y="0"/>
                </a:lnTo>
                <a:lnTo>
                  <a:pt x="21600" y="10800"/>
                </a:lnTo>
                <a:lnTo>
                  <a:pt x="15043" y="21600"/>
                </a:lnTo>
                <a:lnTo>
                  <a:pt x="0" y="21600"/>
                </a:lnTo>
                <a:lnTo>
                  <a:pt x="6557" y="10800"/>
                </a:lnTo>
                <a:close/>
              </a:path>
            </a:pathLst>
          </a:custGeom>
          <a:solidFill>
            <a:srgbClr val="b9cde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Нашивка 19"/>
          <p:cNvSpPr/>
          <p:nvPr/>
        </p:nvSpPr>
        <p:spPr>
          <a:xfrm>
            <a:off x="2022480" y="2997360"/>
            <a:ext cx="2117880" cy="1223640"/>
          </a:xfrm>
          <a:custGeom>
            <a:avLst/>
            <a:gdLst>
              <a:gd name="textAreaLeft" fmla="*/ 0 w 2117880"/>
              <a:gd name="textAreaRight" fmla="*/ 2118240 w 211788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58" y="0"/>
                </a:lnTo>
                <a:lnTo>
                  <a:pt x="21600" y="10800"/>
                </a:lnTo>
                <a:lnTo>
                  <a:pt x="15358" y="21600"/>
                </a:lnTo>
                <a:lnTo>
                  <a:pt x="0" y="21600"/>
                </a:lnTo>
                <a:lnTo>
                  <a:pt x="6242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ашивка 20"/>
          <p:cNvSpPr/>
          <p:nvPr/>
        </p:nvSpPr>
        <p:spPr>
          <a:xfrm>
            <a:off x="3924360" y="2997360"/>
            <a:ext cx="2160360" cy="122364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82" y="0"/>
                </a:lnTo>
                <a:lnTo>
                  <a:pt x="21600" y="10800"/>
                </a:lnTo>
                <a:lnTo>
                  <a:pt x="15482" y="21600"/>
                </a:lnTo>
                <a:lnTo>
                  <a:pt x="0" y="21600"/>
                </a:lnTo>
                <a:lnTo>
                  <a:pt x="6118" y="10800"/>
                </a:lnTo>
                <a:close/>
              </a:path>
            </a:pathLst>
          </a:custGeom>
          <a:solidFill>
            <a:srgbClr val="3760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ашивка 21"/>
          <p:cNvSpPr/>
          <p:nvPr/>
        </p:nvSpPr>
        <p:spPr>
          <a:xfrm>
            <a:off x="5796000" y="2997360"/>
            <a:ext cx="1871640" cy="12236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537" y="0"/>
                </a:lnTo>
                <a:lnTo>
                  <a:pt x="21600" y="10800"/>
                </a:lnTo>
                <a:lnTo>
                  <a:pt x="14537" y="21600"/>
                </a:lnTo>
                <a:lnTo>
                  <a:pt x="0" y="21600"/>
                </a:lnTo>
                <a:lnTo>
                  <a:pt x="7063" y="10800"/>
                </a:lnTo>
                <a:close/>
              </a:path>
            </a:pathLst>
          </a:custGeom>
          <a:solidFill>
            <a:srgbClr val="25406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ашивка 22"/>
          <p:cNvSpPr/>
          <p:nvPr/>
        </p:nvSpPr>
        <p:spPr>
          <a:xfrm>
            <a:off x="7236000" y="2997360"/>
            <a:ext cx="1836720" cy="1223640"/>
          </a:xfrm>
          <a:custGeom>
            <a:avLst/>
            <a:gdLst>
              <a:gd name="textAreaLeft" fmla="*/ 0 w 1836720"/>
              <a:gd name="textAreaRight" fmla="*/ 1837080 w 183672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3" y="0"/>
                </a:lnTo>
                <a:lnTo>
                  <a:pt x="21600" y="10800"/>
                </a:lnTo>
                <a:lnTo>
                  <a:pt x="14403" y="21600"/>
                </a:lnTo>
                <a:lnTo>
                  <a:pt x="0" y="21600"/>
                </a:lnTo>
                <a:lnTo>
                  <a:pt x="7197" y="10800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23"/>
          <p:cNvSpPr/>
          <p:nvPr/>
        </p:nvSpPr>
        <p:spPr>
          <a:xfrm>
            <a:off x="755640" y="3284640"/>
            <a:ext cx="936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КЛА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4"/>
          <p:cNvSpPr/>
          <p:nvPr/>
        </p:nvSpPr>
        <p:spPr>
          <a:xfrm>
            <a:off x="2627280" y="3208320"/>
            <a:ext cx="151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5"/>
          <p:cNvSpPr/>
          <p:nvPr/>
        </p:nvSpPr>
        <p:spPr>
          <a:xfrm>
            <a:off x="4406760" y="3100320"/>
            <a:ext cx="175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ПРОМЕЖУТОЧНЫЕ РЕЗУЛЬТАТ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6"/>
          <p:cNvSpPr/>
          <p:nvPr/>
        </p:nvSpPr>
        <p:spPr>
          <a:xfrm>
            <a:off x="6300720" y="3287880"/>
            <a:ext cx="1754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КОНЕЧНЫЙ РЕЗУЛЬТА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7"/>
          <p:cNvSpPr/>
          <p:nvPr/>
        </p:nvSpPr>
        <p:spPr>
          <a:xfrm>
            <a:off x="7783560" y="3251160"/>
            <a:ext cx="1754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ОЗДЕЙСТВ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8"/>
          <p:cNvSpPr/>
          <p:nvPr/>
        </p:nvSpPr>
        <p:spPr>
          <a:xfrm>
            <a:off x="3924360" y="4581360"/>
            <a:ext cx="4735440" cy="71928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29"/>
          <p:cNvSpPr/>
          <p:nvPr/>
        </p:nvSpPr>
        <p:spPr>
          <a:xfrm>
            <a:off x="4535640" y="475308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7T07:41:51Z</dcterms:created>
  <dc:creator>Роза Абдуллаева</dc:creator>
  <dc:description/>
  <dc:language>en-US</dc:language>
  <cp:lastModifiedBy>User</cp:lastModifiedBy>
  <dcterms:modified xsi:type="dcterms:W3CDTF">2015-04-08T09:00:25Z</dcterms:modified>
  <cp:revision>93</cp:revision>
  <dc:subject/>
  <dc:title>Презентация PowerPoint</dc:title>
</cp:coreProperties>
</file>