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7584-63CC-4DC2-BD80-2D0A3F1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7B6B-0723-4ADA-9F31-75E6661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300F-DCDD-4A6A-8E6D-821DA2A3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5C61-BDEF-4E9B-96C4-CF7AAC35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D128-1004-4A95-8805-97A37AD2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6668-3ADC-406A-AEDF-0081088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980-D526-4CE5-8044-15D95D5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A1DB-B3AB-4491-95FB-75D8E81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534-C8E7-467D-92A7-FF74B52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BD68-9228-40EC-9735-EACF2DA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A8C5-D525-4924-8B23-0FF6244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6D32-F4F5-48DB-A07B-96D87A4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1B1-3924-4039-91D7-5B87061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8B6E-C40C-4FF6-9F78-F7D3517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1CCF-1777-4574-A380-F4554F21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48F9-E40F-47BB-99F9-6CD6746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1C51-C468-45EF-9E54-02BCF2CE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ED44-AC27-441D-915E-04B3CD5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5127-BB19-49D8-83FE-CC5AB8E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3957-A180-4AFC-9380-10D065B1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AB73-11F1-4C92-B586-BAFF51A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FAED-D814-459D-BD32-EAD658D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8D22-017B-4FB4-867E-251BF61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3B62-E448-43B4-9134-09C10E5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992-8CEC-465A-96BB-7E60ADDC1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72F3-C526-47FB-A8FE-4A0336E8C3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vshpi.com/news/id/111/" TargetMode="External"/><Relationship Id="rId4" Type="http://schemas.openxmlformats.org/officeDocument/2006/relationships/image" Target="../media/image1.png"/><Relationship Id="rId5" Type="http://schemas.openxmlformats.org/officeDocument/2006/relationships/hyperlink" Target="mailto:gulbagiza@bk.ru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706-8EEA-407F-A7C6-3A65573F75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Информационные стратегии НПО»</a:t>
            </a:r>
            <a:br>
              <a:rPr sz="48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61520" y="3225600"/>
            <a:ext cx="8139240" cy="271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Arial"/>
                <a:ea typeface="AngsanaUPC"/>
              </a:rPr>
              <a:t>Тренер</a:t>
            </a:r>
            <a:r>
              <a:rPr b="0" lang="ru-RU" sz="4400" spc="-1" strike="noStrike">
                <a:solidFill>
                  <a:srgbClr val="320e04"/>
                </a:solidFill>
                <a:latin typeface="Arial"/>
                <a:ea typeface="AngsanaUPC"/>
              </a:rPr>
              <a:t>  Тнимова Гульбаги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Arial"/>
              </a:rPr>
              <a:t>ОО «Центр гендерных исследований Ни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Arial"/>
              </a:rPr>
              <a:t>Консультант</a:t>
            </a:r>
            <a:r>
              <a:rPr b="0" lang="ru-RU" sz="4400" spc="-1" strike="noStrike">
                <a:solidFill>
                  <a:srgbClr val="320e04"/>
                </a:solidFill>
                <a:latin typeface="Arial"/>
              </a:rPr>
              <a:t> Махаббат Еспенов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320e04"/>
                </a:solidFill>
                <a:latin typeface="Arial"/>
              </a:rPr>
              <a:t>ОФ "КАМЕДА»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Рисунок 3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1254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C1FE-342C-46A2-91CA-2119C9D983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Авторитарный («жесткий») стиль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ожет оправданно использовать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руппе с неразвитыми материальными и высшими потребностями, на стадии активного роста организации, в экстремальных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нный стиль также умест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ситуациях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трудниками, только что нанятыми на работу, недостаточно знающими специфи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Возможные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следствия 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стоянного использования данного стиля: беднеет общение, снижается адаптация сотрудников к резким преобразованиям; деятельность нос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рутинный характер; творческий рост исключ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F41-CCF3-4E60-9F8F-9053BEF3F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мократичный стиль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ет применяться при условии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интересованности работников в получении результат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нициативности, ответственности. Данный стиль также эффективен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стабильно развивающих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рганизациях и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зможные последств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янного использования данного стиля: человек приспосабливается к зависимости от коллектива, теряет способность самостоятельно мыс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В экстремальных ситуациях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зможны проблемы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 при принятии реш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DB47-28C0-4292-B86D-19CF58042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Либеральный стиль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местен в ситуациях управления опытными специалист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меющими не редко превосходящие руководителя опыт и знания в своей сфере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иль характеризуется активным постоянным информированием специалистов о деятельности организации в целом для принятия ими более адекватных решений на основе собственного оп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Возможные последствия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постоянного использования данного стиля: дробление коллектива, изоляция личности, непонимание, хаос, отсутствие взаимопонимания, взаимопомощи, единого руководства. Все это может привести к тому, что усилия профессиональной деятельности будут направлены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на бесполезную борьбу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и отстаивание своих интересов и взгля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76A-8E30-46AE-8AB8-DE53E6FABD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ледует учитывать, ч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вторитарное руководств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б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ольшего объе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боты, чем демократичное. Однако, при авторитарном управлении присутствует низкая мотивация, меньшая оригинальность, меньшее дружелюбие в группах, отсутствие группового мышления и другие отрицательные фа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ри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беральном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стиле руковод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ъем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меньшается, качество работы снижае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является больше иг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1602-673A-4328-B310-C2DB02D44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3. СИТУАЦИОННЫЙ ПОДХОД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ход,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помимо личностных и поведенческих качест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ководителя, включает в изучение дополнительные, ситуационные факто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 этим факторам относятся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· потребности и личные качества подчиненн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· характер зад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· требования и воздействия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· имеющаяся у руководителя информ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сновное утверждение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ключается в требовании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азличных ситуаций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оответствующего стиля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 руко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ыбор стиля, адекватного ситуации,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определен, как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туационное лидерство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туа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идерство – определение стиля руководства в зависимости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ровня зрелости рабочей группы, степени ее квалификации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тремления к ее рос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9FB-694D-4A7A-83DA-6E33726081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2591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е существу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тимального стиля руководства, не зависящего от обстоятельст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спех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или эффекти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того или иного стиля управления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ависит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т трех факторов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, которые в комбинации могут дать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браз идеального руковод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й руководителя с подчиненны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ы рабочих за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вня власти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8" descr="Слайд 25"/>
          <p:cNvPicPr/>
          <p:nvPr/>
        </p:nvPicPr>
        <p:blipFill>
          <a:blip r:embed="rId4"/>
          <a:stretch/>
        </p:blipFill>
        <p:spPr>
          <a:xfrm>
            <a:off x="4788000" y="184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B26-D422-493F-978F-CA55FA836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cc"/>
                </a:solidFill>
                <a:latin typeface="Arial"/>
              </a:rPr>
              <a:t>Какие стили управления в Вашей организации? Какой стиль превалиру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должности есть в Вашей организ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21A-F527-43B1-B7C1-E323946FFB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управлении людьми нет готовых рецептов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Arial"/>
              </a:rPr>
              <a:t>Руководить – знач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Arial"/>
              </a:rPr>
              <a:t>уметь менять ст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30F4-5B25-4D1E-976E-47973A4FAC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ункционально-должностные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бязанности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, которые возникли в НПО за последние годы: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фандрайз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- специалист по сбору средств и привлечению ресурсов,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пециалист по маркетингу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 - сотрудник, ответственный за взаимовыгодный обме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миджмейкер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- ответственный за "лицо" НПО во внешнем мир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юрист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 - ответственный за правовое обеспечение работы НП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"интернетчик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- специалист по телекоммуникациям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неджер офиса - ответственный за организацию труда в офис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оординатор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по работе с добровольц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трудник службы безопас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- охрана сотрудников и имущества НП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D78-7784-4A14-AEF0-6197098F3C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Для подавляющего большинства НПО штат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ограничивается 3-7 сотрудниками. Как правило, это руководитель (директор) НПО, программный директор, главный бухгалтер, секретарь-референт (технический работник),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IT-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пециалист и, редко, менеджер офис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Часто используются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"совмещ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" - сотрудники НПО кроме своих основных исполняют и некоторые новые обязанности (как правило, руководитель НПО берет на себя функции фандрайзера и имиджмейкера);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привлечение</a:t>
            </a:r>
            <a:r>
              <a:rPr b="0" lang="ru-RU" sz="2200" spc="-1" strike="noStrike">
                <a:solidFill>
                  <a:srgbClr val="ffcccc"/>
                </a:solidFill>
                <a:latin typeface="Arial"/>
              </a:rPr>
              <a:t> оплачиваемых внешних консультант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временное вовлеч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нешних консультантов на добровольной основе;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использование услуг</a:t>
            </a:r>
            <a:r>
              <a:rPr b="0" lang="ru-RU" sz="2200" spc="-1" strike="noStrike">
                <a:solidFill>
                  <a:srgbClr val="ffcccc"/>
                </a:solidFill>
                <a:latin typeface="Arial"/>
              </a:rPr>
              <a:t> инфраструктурных и ресурсных центров поддержки НПО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1DB6-3AEA-4F74-89EA-282AC26D2C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рганизаторы         </a:t>
            </a:r>
            <a:br>
              <a:rPr sz="3600"/>
            </a:b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Фонд Евразия Центральной Азии (ФЕЦА) и Экспертный Центр НПО 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проек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ициатива по развитию потенциала экспертов в сфере НП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ддержке компан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еврон в Казахста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Рисунок 3" descr="D:\Aidana Konarova\Desktop\баннер\Рисунок1.png"/>
          <p:cNvPicPr/>
          <p:nvPr/>
        </p:nvPicPr>
        <p:blipFill>
          <a:blip r:embed="rId1"/>
          <a:stretch/>
        </p:blipFill>
        <p:spPr>
          <a:xfrm>
            <a:off x="1643040" y="357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5" descr=""/>
          <p:cNvPicPr/>
          <p:nvPr/>
        </p:nvPicPr>
        <p:blipFill>
          <a:blip r:embed="rId2"/>
          <a:stretch/>
        </p:blipFill>
        <p:spPr>
          <a:xfrm>
            <a:off x="4211640" y="57340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6" descr="EFCA logo_color_no text"/>
          <p:cNvPicPr/>
          <p:nvPr/>
        </p:nvPicPr>
        <p:blipFill>
          <a:blip r:embed="rId3"/>
          <a:stretch/>
        </p:blipFill>
        <p:spPr>
          <a:xfrm>
            <a:off x="7500960" y="285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CACC-980F-4BE1-9F40-1E2ABB03BC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2.  Как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отивировать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сотрудников?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Наиболее простым решением большей части проблем является удовлетворение финансовых интере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ефинансовые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методы мотив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общественные объединения не столь часто могут пользоваться этим методом, а в каких-то случаях, этот метод может противоречить принципам организации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.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cc"/>
                </a:solidFill>
                <a:latin typeface="Arial"/>
              </a:rPr>
              <a:t>Люди достаточно часто проявляют желание совершить какое-либо действие вовсе не из-за денег.  Такие собственные поступки люди ценят более всего и вспоминают на закате жизни.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a_00e8df81"/>
          <p:cNvPicPr/>
          <p:nvPr/>
        </p:nvPicPr>
        <p:blipFill>
          <a:blip r:embed="rId2"/>
          <a:stretch/>
        </p:blipFill>
        <p:spPr>
          <a:xfrm>
            <a:off x="3564000" y="907920"/>
            <a:ext cx="15159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F97-F05C-4E40-98C8-52749C9690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Используете ли Вы в  деятельности НП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финанасовые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ы мотивиров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Если «да», то как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248C-871B-4914-A4CD-6FC3937DB8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Мотивы можно разделить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на </a:t>
            </a:r>
            <a:br>
              <a:rPr sz="2600"/>
            </a:b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«близкие»/«короткие» </a:t>
            </a:r>
            <a:br>
              <a:rPr sz="2600"/>
            </a:b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 «дальние»/ «протяженные», </a:t>
            </a:r>
            <a:br>
              <a:rPr sz="2600"/>
            </a:b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группировав их в 4 группы: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онные мотивы (обусловленные конкретной обстановко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отивы, связанные с той или иной деятельность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тивы, связанные с жизнью в коллектив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отивы, связанные с обществом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428-3D50-4711-A863-66D21603F5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ЕТОДЫ МОТИВИРОВАНИЯ,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РИЕНТИРОВАННЫЕ НА ОСНОВНЫ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ЧНЫЕ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ТРЕБНОСТИ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ет множество теорий о потребностях людей, как причи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еории  «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ирамиды потребностей» Абрахама Масло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человеком движет стремление удовлетворять свои потребности, которые ученый разделил на пять основных груп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7FD-2CEF-4AE3-8B2F-AE7EDB663E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AutoShape 6"/>
          <p:cNvSpPr/>
          <p:nvPr/>
        </p:nvSpPr>
        <p:spPr>
          <a:xfrm>
            <a:off x="1042920" y="1268280"/>
            <a:ext cx="6674040" cy="43880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4700520" y="993600"/>
            <a:ext cx="1187640" cy="822600"/>
          </a:xfrm>
          <a:prstGeom prst="cloudCallout">
            <a:avLst>
              <a:gd name="adj1" fmla="val -42787"/>
              <a:gd name="adj2" fmla="val 7445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5248440" y="1633680"/>
            <a:ext cx="1280880" cy="1006200"/>
          </a:xfrm>
          <a:prstGeom prst="cloudCallout">
            <a:avLst>
              <a:gd name="adj1" fmla="val -41518"/>
              <a:gd name="adj2" fmla="val 7361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ЕЛ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AutoShape 9"/>
          <p:cNvSpPr/>
          <p:nvPr/>
        </p:nvSpPr>
        <p:spPr>
          <a:xfrm>
            <a:off x="5888160" y="2455920"/>
            <a:ext cx="1280880" cy="1006560"/>
          </a:xfrm>
          <a:prstGeom prst="cloudCallout">
            <a:avLst>
              <a:gd name="adj1" fmla="val -41518"/>
              <a:gd name="adj2" fmla="val 791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ЛЮБ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AutoShape 10"/>
          <p:cNvSpPr/>
          <p:nvPr/>
        </p:nvSpPr>
        <p:spPr>
          <a:xfrm>
            <a:off x="6345360" y="3279600"/>
            <a:ext cx="1280880" cy="1097280"/>
          </a:xfrm>
          <a:prstGeom prst="cloudCallout">
            <a:avLst>
              <a:gd name="adj1" fmla="val -42856"/>
              <a:gd name="adj2" fmla="val 716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БЫ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6894360" y="4102200"/>
            <a:ext cx="1097280" cy="1189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ИМЕ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2496960" y="5157720"/>
            <a:ext cx="3932280" cy="39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ЫЖИ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2771640" y="4365720"/>
            <a:ext cx="356580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БЕЗОПАС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987640" y="3500280"/>
            <a:ext cx="2892600" cy="36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ПРИНАДЛЕЖ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3635280" y="2708280"/>
            <a:ext cx="16462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3635280" y="1989000"/>
            <a:ext cx="1368360" cy="35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 Black"/>
              </a:rPr>
              <a:t>СЛУЖ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D9CB-A1A2-4DDA-BD19-BFF1D9CE67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дивидуальная потребность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МЕТЬ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выжива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ОТИВ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иск материальной поддерж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услуг и инфор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еобходимость разрешения личных эмоциональных и психологических пробл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жизненных опор и причастности к значимому и источникам ресур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адежда выжить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ТОДЫ МОТИВИРОВАНИЯ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ПОМОЩИ И ЭМОЦИОНАЛЬНОЙ ПОД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ПРЕДОСТАВЛЕНИЯ ПОЛЕЗНОЙ УСЛУГИ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ОБЕСПЕЧЕНИЯ ПРИЧАСТНОСТИ К ИСТОЧНИКАМ ПОДДЕРЖ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ДЕМОНСТРАЦИИ ПЕРСПЕКТИВНЫХ ГАРАНТ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3348000" y="1628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C08-98E6-4F1A-9216-C0E17BA11F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дивидуальная потребность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ЫТЬ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безопасность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ОТИВ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вство вины, чувство дол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трах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самовыра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тремление к влиянию и в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формального стат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ЕТОДЫ МОТИВИР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ОБМЕНА УСЛУГАМИ/ТО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ГАРАНТИРОВАНИЯ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ПОДДЕРЖКИ ЖЕЛАЕМОЙ 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«КРЕДИТА ДОВЕ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ОБЕСПЕЧЕНИЯ ПРИЧАСТНОСТИ К РЕЗУЛЬТА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3348000" y="1628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512-912C-463A-A697-6FFE07A93D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дивидуальная потребность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ЮБИТЬ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принадлежность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ОТИВ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уважения и призн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иск друзей/общ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ание создать доверительные взаимо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еобходимость проявить заботу, принести польз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ение действенного милосердия, солидарности, религиозных нор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ТОДЫ МОТИВ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ПРОСЬБЫ О ПОМОЩ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ЕТОД ДЕМОНСТРАЦИИ ДОВЕР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ПРИЗНАНИЯ ИНДИВИДУАЛЬНЫХ ДОСТОИНСТ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ЕТОД ПРОЯВЛЕНИЯ ВНИМАНИЯ И З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«СОЗДАНИЯ ОЧАГ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ЕТОД АДЕКВАТНОЙ ОЦЕ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3348000" y="1628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B8B-D096-4A52-80AC-40863B7B59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дивидуальная потребность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ЛАТЬ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работа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ОТИВ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астность к важному/значим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Реализация профессионального опы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ение жизненного опы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Утверждение собственной значим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сть ощутить наполненность и смысл своей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ТОДЫ МОТИВ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ПРЕДЛОЖЕНИЯ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ЕТОД ДЕМОНСТРАЦИИ ЗНАЧИМ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УДОВЛЕТВОРЕНИЯ ОЖИДА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ЕТОД ПРИДАНИЯ СМЫСЛА И Ц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ПРЕДОСТАВЛЕНИЯ ПЛОЩАДКИ ДЛЯ ЭКСПЕРИМ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3348000" y="1628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14F-77C3-4977-AFE4-00DFBCFDE5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Индивидуальная потребность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«РАСТИ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служе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МОТИВ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ессиональное развит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еобходимость самореал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ание влиять на социальные изме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роявление своей позиции через действ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обретение новых знаний и нав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0" y="1483920"/>
            <a:ext cx="40384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ЕТОДЫ МОТИВИР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ПРЕДОСТАВЛЕНИЯ ПЛОЩАДКИ ДЛЯ ЭКСПЕРИМЕНТ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«ПРОБЫ СИЛ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«ПРОТИРАНИЯ СТЕКОЛ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МЕТОД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«РАЗГАДЫВАНИЯ МЕЧТ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3348000" y="1628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660-3421-4098-B816-D2D368E602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324000" y="189000"/>
            <a:ext cx="8424720" cy="2239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Модуль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ahoma"/>
              </a:rPr>
              <a:t>Эффективная команда сотрудников и доброволь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298764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2014 г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18" descr="49"/>
          <p:cNvPicPr/>
          <p:nvPr/>
        </p:nvPicPr>
        <p:blipFill>
          <a:blip r:embed="rId1"/>
          <a:stretch/>
        </p:blipFill>
        <p:spPr>
          <a:xfrm>
            <a:off x="2556000" y="2852640"/>
            <a:ext cx="4248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DD19-15B4-4D05-9BF5-E14B26503D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ЕФИНАНСОВЫЕ МЕТОДЫ МОТИВИРОВАНИЯ,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РИЕНТИРОВАННЫЕ НА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НОВНЫЕ СОЦИАЛЬНЫЕ ПОТРЕБНОСТИ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Большинство людей начинает испыты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заинтересованность в работе/деятельности, если удовлетворена хотя бы одна, или более, из трех основных социальных потребностей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ринадлеж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оказывать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лия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4FD-5173-4087-9111-931D84F3CB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етоды мотивирования людей с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еобладанием социальной потребности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требность в достижениях»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ение конкретности поручаемых зада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беспечение адекватности поручаемых заданий возможностям челове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учение контролировать и оценивать работу других, осуществлять поощ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фиксация успехов и достижений, разнообразные поощрения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ставление возможности освещать успехи и дости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и (например, на итоговых собраниях организац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 позитивном мотивировании эти люди могут быть эффективными администраторами, секретарями, профильными специалистами, работа которых требует индивиду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ветств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770E-FD30-44E0-B8D5-FCA572CE8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етоды мотивирования людей с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еобладанием социальной потребности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требность в принадлежности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благоприятной   дружеской атмосферы в команд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беспечение доброжелательного внимания лидеров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учение заданий требующих короткого времени исполнения; обеспечение значимой для организации работы, но не в связи с управле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ручение подготовки и ведения мероприятий, связанных с неформальной жизнью команды (праздники, вечеринки,      поездки, поздравления и т.п.); предложения разработки стиля, логотипа организации, др. символики.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 позитивном мотивировании эти люди могут быть эффективными социальными работниками, PR-специалистами, пресс-секретарями, фандрайзе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394-B014-4EBF-88DA-AC904E1A5C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етоды мотивирования людей с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еобладанием  социальной потребности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требность оказывать влияние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ожение сотрудничества в достижении высоких целей; предложение заданий, для которых необходимы качества лидера и наставни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ключение в деятельность связанную с разработкой стандартов управления, деятельности, проек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йствие развитию их экспертных, консультационных, тренерски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наставнических способностей и навык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 благоприятных условиях и позитив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тивировании эти люди становятся эффективными членами  руководящих органов, дон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C04-37B7-4917-9D0F-161107C7A7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ждый из нас в той или иной мере испытыв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се эти три потреб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большинства людей доминирующ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азывается одна из них, для некоторых – две. Люди, у которых все три мотива выражены одинаково сильно, встречаются ред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Важно помнить, что как индивидуальн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так и социальные потребности людей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зменяются!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EC5D-ECBD-435C-A117-791B370AD2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Команду можно сравнить с организмом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все органы здоровы и их работа слажена, то челове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щущает себя здоровым. Как только нарушается работа хотя б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го органа, появляется ощущение дискомфорта, которо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худшает общее самочувств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филактических целях м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зываем </a:t>
            </a: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поддержку всему организм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не отдельным ег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временный руководитель должен быть способен помогать 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чностям, и коман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09B0-816B-46F4-89AE-A9AFF8F26B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Характеристики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ысокоэффективной команд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едназначение и 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Результ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ценка и при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Дееспособ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довлетво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Коллектив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ворчески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5" descr="IMG_0588"/>
          <p:cNvPicPr/>
          <p:nvPr/>
        </p:nvPicPr>
        <p:blipFill>
          <a:blip r:embed="rId1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4B9-A9A0-42AF-8430-27CB2B86C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cccc"/>
                </a:solidFill>
                <a:latin typeface="Arial"/>
              </a:rPr>
              <a:t>Отвечает  ли Ваша организация этим критериям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Какие методы сплочения команды Вы знае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Что такое тимбилдинг? Квес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06FE-C82D-4A46-9A0B-E40849EDE7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Тимбилдинг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9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успешного сплочения сотрудников и добровольцев применяют 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имбилдинг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комплекс мероприятий, направленных на создание и сплочение команды.       Он включает в себя различные 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тоды и приемы сплочения коллектива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Picture 8" descr="IMG_5921"/>
          <p:cNvPicPr/>
          <p:nvPr/>
        </p:nvPicPr>
        <p:blipFill>
          <a:blip r:embed="rId2"/>
          <a:stretch/>
        </p:blipFill>
        <p:spPr>
          <a:xfrm>
            <a:off x="5364000" y="184464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9"/>
          <p:cNvSpPr/>
          <p:nvPr/>
        </p:nvSpPr>
        <p:spPr>
          <a:xfrm>
            <a:off x="684360" y="5661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ahoma"/>
              </a:rPr>
              <a:t>Термин "тимбилдинг" произошел от английских слов team - команда и building - постро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534-DF4B-453D-A945-7CBA662C4A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реди наиболее распространенных 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форм тимбилдинга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 можно выделить: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командные спортивные иг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мероприятия (пейнтбол, пешие и велосипедные походы, сплавы по реке и т.п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мероприятия творческого характе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командные конкуры, интеллектуальные соревнования, ролевые иг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активные тренинги, ориентированные на взаимодействие в коман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олее всего известен так называемый "веревочный курс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7" descr="IMG_1374"/>
          <p:cNvPicPr/>
          <p:nvPr/>
        </p:nvPicPr>
        <p:blipFill>
          <a:blip r:embed="rId4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37BF-55C7-4412-8670-9DDDEAE47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лан вебинара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74560" y="1412640"/>
            <a:ext cx="8569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99"/>
                </a:solidFill>
                <a:latin typeface="Arial"/>
              </a:rPr>
              <a:t>I. </a:t>
            </a:r>
            <a:r>
              <a:rPr b="1" lang="ru-RU" sz="3500" spc="-1" strike="noStrike">
                <a:solidFill>
                  <a:srgbClr val="ffff99"/>
                </a:solidFill>
                <a:latin typeface="Arial"/>
              </a:rPr>
              <a:t> Как 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управлять</a:t>
            </a:r>
            <a:r>
              <a:rPr b="1" lang="ru-RU" sz="3500" spc="-1" strike="noStrike">
                <a:solidFill>
                  <a:srgbClr val="ffff99"/>
                </a:solidFill>
                <a:latin typeface="Arial"/>
              </a:rPr>
              <a:t> человеческими ресурсами в НПО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2. Как </a:t>
            </a:r>
            <a:r>
              <a:rPr b="0" lang="ru-RU" sz="3500" spc="-1" strike="noStrike">
                <a:solidFill>
                  <a:srgbClr val="cc0000"/>
                </a:solidFill>
                <a:latin typeface="Arial"/>
              </a:rPr>
              <a:t>мотивировать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деятельность в НПО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6C38-15A1-4FD8-8023-7E6C887384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ценарии тимбилдинга могут быть разным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17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вольно востребованы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ценарии ролевых иг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ные на сюжетах известных фильмов или кни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6" descr="IMG_1352"/>
          <p:cNvPicPr/>
          <p:nvPr/>
        </p:nvPicPr>
        <p:blipFill>
          <a:blip r:embed="rId2"/>
          <a:stretch/>
        </p:blipFill>
        <p:spPr>
          <a:xfrm>
            <a:off x="485928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D21-9282-46CD-AA14-4D5A6375BB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ще один популярный формат тимбилдинга - эт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вест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(приключение). 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соревнование подразумевает достижение определенной цели путем выполнения последовательности задан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полнение одного задания дает возможность приступить к следующему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вид тимбилдинга позволяет сплотить команду и наладить взаимодействие между ее членами.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6" descr="IMG_1200"/>
          <p:cNvPicPr/>
          <p:nvPr/>
        </p:nvPicPr>
        <p:blipFill>
          <a:blip r:embed="rId1"/>
          <a:stretch/>
        </p:blipFill>
        <p:spPr>
          <a:xfrm>
            <a:off x="4643280" y="22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94E1-5376-496F-918A-C59C651E8B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ворческие мероприятия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 могут быть самыми разнообразны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ще всего они подразумевают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командную работу над определенным проектом: газетой, фильмом, фотовыстав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никам могут даже предложить открыть свой ресторан, снабдив все команды одинаковым набором продуктов. Все это помогает не только проявить творческие способности, но и научить сотрудников и добровольцев распределять обязанности при работе в команде.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34B-F15D-4536-9696-D91C46941B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Косвенно к тимбилдингу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ожно отнести празднование дней рождения сотрудников и Нового года, вечеринки по другим поводам.</a:t>
            </a:r>
            <a:r>
              <a:rPr b="0" lang="ru-RU" sz="3200" spc="-1" strike="noStrike">
                <a:solidFill>
                  <a:srgbClr val="ffcc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мбилдинг предотвращает конфликты в коллективе и помогает создать сплоченную и эффективную команду сотрудников и добровольцев, готовых усердно трудиться на благо общего дела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Н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учшими формами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тимбилдинга являются «обучение через развлечение» и  проведение благотворительных акций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 совместно сотрудниками и добровольцами.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CAD-6C1F-4E06-96E2-2399C7312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аким образом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зна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--- как </a:t>
            </a:r>
            <a:r>
              <a:rPr b="0" lang="ru-RU" sz="3200" spc="-1" strike="noStrike">
                <a:solidFill>
                  <a:srgbClr val="ffcccc"/>
                </a:solidFill>
                <a:latin typeface="Arial"/>
              </a:rPr>
              <a:t>руководи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оман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--- как </a:t>
            </a:r>
            <a:r>
              <a:rPr b="0" lang="ru-RU" sz="3200" spc="-1" strike="noStrike">
                <a:solidFill>
                  <a:srgbClr val="ffcccc"/>
                </a:solidFill>
                <a:latin typeface="Arial"/>
              </a:rPr>
              <a:t>мотивтр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--- как </a:t>
            </a:r>
            <a:r>
              <a:rPr b="0" lang="ru-RU" sz="3200" spc="-1" strike="noStrike">
                <a:solidFill>
                  <a:srgbClr val="ffcccc"/>
                </a:solidFill>
                <a:latin typeface="Arial"/>
              </a:rPr>
              <a:t>сплоти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ома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5" descr="4432710_dsc_0156"/>
          <p:cNvPicPr/>
          <p:nvPr/>
        </p:nvPicPr>
        <p:blipFill>
          <a:blip r:embed="rId5"/>
          <a:stretch/>
        </p:blipFill>
        <p:spPr>
          <a:xfrm>
            <a:off x="1187280" y="3429000"/>
            <a:ext cx="6667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33C-91A8-4CCD-BB81-4ED7794697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лезные интернет ресурсы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чебно-методические материал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http://lib.convdocs.org/docs/index-3096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ысшая школа предпринима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://vshpi.com/news/id/111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почтовый адр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gulbagiza@bk.r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нимова Гульбаги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875-DCFE-4C47-9B4E-CFF5BA103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пра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планирования, маркетинга, взаимоотношений в коллективе, связей с общественностью, взаимодействия с государством обычно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читаются "вторичными" по отношению к основной деятельности НП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 именно недостатки в   управлении и организационном развитии НПО част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убят множество прекрасных и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3AF-290F-4855-AECB-D2F76DC302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 Black"/>
              </a:rPr>
              <a:t>Как управлять человеческими ресурсами в НПО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683-4A9A-4BE5-A298-DE4D6895B7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уществует немало теорий, ставящих своей целью классифицировать и выявлять общие закономерности различных стилей управления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195640" y="2205000"/>
            <a:ext cx="403848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Эти теории, в целом группируются в три подход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Личнос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вед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иту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iCANNDA23"/>
          <p:cNvPicPr/>
          <p:nvPr/>
        </p:nvPicPr>
        <p:blipFill>
          <a:blip r:embed="rId1"/>
          <a:stretch/>
        </p:blipFill>
        <p:spPr>
          <a:xfrm>
            <a:off x="5435640" y="4005360"/>
            <a:ext cx="1393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527-0233-4EDF-A283-77C9A2FF8F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1. ЛИЧНОСТНЫЙ ПОДХОД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наиболее ранний подход , который ставит своей целью </a:t>
            </a: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определить личностные качества и характеристики руководителей, приводящие к эффективности деятельност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ались такие качества руководителей как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ровень интеллекта, инициативность, уверенность в себе, компетентность, честность, внешние дан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094-38F6-4F96-B339-5C5B7CE7F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ский Анг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2. ПОВЕДЕНЧЕСКИЙ ПОДХОД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й подход сосредоточил внимание на поведении руководителей, их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стилях отношений с подчинен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 теорий поведенческого подхода: трехмерная модель Курта Левина (</a:t>
            </a: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авторитарный, демократич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либеральн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ли руковод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8:37:31Z</dcterms:created>
  <dc:creator>Светлана</dc:creator>
  <dc:description/>
  <dc:language>en-US</dc:language>
  <cp:lastModifiedBy>akonarova</cp:lastModifiedBy>
  <dcterms:modified xsi:type="dcterms:W3CDTF">2015-09-30T08:03:00Z</dcterms:modified>
  <cp:revision>162</cp:revision>
  <dc:subject/>
  <dc:title>«Концепция развития  социального добровольчества  в Санкт-Петербурге  на 2008-11 гг.»  /Постановление  Правительства  Санкт - Петербурга № 45 от 23.01.08/</dc:title>
</cp:coreProperties>
</file>