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741D-D868-48C4-AC90-5165D09A1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7EC-C47D-4567-9878-B05185A1407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66C-DDA3-4D04-9621-00D983E6917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4C9D-C46A-4C88-B972-824A9DFBBCC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9666-E934-4DAB-8FDC-5B1534A6395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2C5-F486-4C94-B402-6D653FDF4D7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E69-2F94-4DA3-B5E2-4D047958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482-46BA-4001-9A96-2CA91262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368-90A6-4CA3-8271-BE316AFC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114-C0AB-4912-AA7D-ADC3BE83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2F6-390B-4763-8003-EE0C9F22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C78D-8B41-4EB5-A942-54D8690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698E-78D0-42C5-BAF8-22C39F72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424D-3FC3-4002-ACD3-0FB0DA5B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03DD-2B75-455B-A79D-A4563DEB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3FE8-86EE-4623-88CA-4562879B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3B4F-7E15-4254-88E9-021EEBF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D75-1878-48CA-A6C3-F4B90AD4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598C-6B84-4DDA-954B-E27C3352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5406-414E-4A1C-9418-F2905BC8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DAE7-F041-4259-A333-255CE647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DD97-99E3-4302-B1AA-12B72FBF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1F41-8497-4BA3-A2E8-0507EF36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FFD-D145-498A-80B6-C99847A6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FDB-68DF-4877-BD00-CA38ED7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FFA-3192-4BE7-86B4-E8A66CB4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9C7-9BDE-4DA1-97CB-5C8F510B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B34-CFB4-45BB-B35F-778157C8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F0A-01CC-4153-8708-DBEAEE17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94B-E101-4FC1-8A41-74C2B5F7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2821-1B1B-4903-A41D-0595BC63FF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25C-5335-4F78-B964-7C6D9E5ED5F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levada.ru/10-03-2014/rossiyane-o-problemakh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ru-RU" sz="4200" spc="-1" strike="noStrike">
                <a:solidFill>
                  <a:srgbClr val="ffffcc"/>
                </a:solidFill>
                <a:latin typeface="Arial"/>
              </a:rPr>
              <a:t>Информационные стратегии НПО»</a:t>
            </a:r>
            <a:br>
              <a:rPr sz="5100"/>
            </a:b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1520" y="3224160"/>
            <a:ext cx="8139240" cy="271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Verdana"/>
                <a:ea typeface="AngsanaUPC"/>
              </a:rPr>
              <a:t>Тренер</a:t>
            </a:r>
            <a:r>
              <a:rPr b="0" lang="ru-RU" sz="4100" spc="-1" strike="noStrike">
                <a:solidFill>
                  <a:srgbClr val="320e04"/>
                </a:solidFill>
                <a:latin typeface="Verdana"/>
                <a:ea typeface="AngsanaUPC"/>
              </a:rPr>
              <a:t>  Тнимова Гульбагиза</a:t>
            </a:r>
            <a:endParaRPr b="0" lang="en-US" sz="4100" spc="-1" strike="noStrike">
              <a:solidFill>
                <a:srgbClr val="eaeaea"/>
              </a:solidFill>
              <a:latin typeface="Verdana"/>
            </a:endParaRPr>
          </a:p>
          <a:p>
            <a:pPr marL="27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Verdana"/>
              </a:rPr>
              <a:t>ОО «Центр гендерных исследований Нисса»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2700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Verdana"/>
              </a:rPr>
              <a:t>Консультант</a:t>
            </a:r>
            <a:r>
              <a:rPr b="0" lang="ru-RU" sz="4100" spc="-1" strike="noStrike">
                <a:solidFill>
                  <a:srgbClr val="320e04"/>
                </a:solidFill>
                <a:latin typeface="Verdana"/>
              </a:rPr>
              <a:t> Махаббат Еспенова </a:t>
            </a:r>
            <a:endParaRPr b="0" lang="en-US" sz="4100" spc="-1" strike="noStrike">
              <a:solidFill>
                <a:srgbClr val="eaeaea"/>
              </a:solidFill>
              <a:latin typeface="Verdana"/>
            </a:endParaRPr>
          </a:p>
          <a:p>
            <a:pPr marL="27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Verdana"/>
              </a:rPr>
              <a:t>                       </a:t>
            </a:r>
            <a:r>
              <a:rPr b="0" lang="ru-RU" sz="2600" spc="-1" strike="noStrike">
                <a:solidFill>
                  <a:srgbClr val="320e04"/>
                </a:solidFill>
                <a:latin typeface="Verdana"/>
              </a:rPr>
              <a:t>ОФ "КАМЕДА»                                   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5580000" y="5229360"/>
            <a:ext cx="1254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Вы думаете, что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даст власти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партнерство с НП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МСП для власти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267920"/>
            <a:ext cx="822960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Эффективность управления 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Лояльность населения 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Улучшение имиджа региона, повышение инвестпривлека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Гражданский контрол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мягчение общественной напряженности по острым социальным вопроса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Лаборатория и пилотная площадка для различных инноваци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Школа гражданского воспит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Реализация человеческого капитал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рганизационный и экспертный ресур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Реализация социальной политики как для бизнеса, так и для вла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казание социальных услуг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Социальное предпринимательств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47480" indent="-447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4" descr="\\Graficsuperserv\сетевая\logo.png"/>
          <p:cNvPicPr/>
          <p:nvPr/>
        </p:nvPicPr>
        <p:blipFill>
          <a:blip r:embed="rId1"/>
          <a:stretch/>
        </p:blipFill>
        <p:spPr>
          <a:xfrm>
            <a:off x="214200" y="142920"/>
            <a:ext cx="10000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Вы думаете, что даст партнерство </a:t>
            </a:r>
            <a:r>
              <a:rPr b="0" lang="ru-RU" sz="3200" spc="-1" strike="noStrike">
                <a:solidFill>
                  <a:srgbClr val="5d1003"/>
                </a:solidFill>
                <a:latin typeface="Verdana"/>
              </a:rPr>
              <a:t>для НП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МСП для НП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Ресурсная поддерж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Госзаказ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Административная поддерж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Самореализац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ыражение гражданской позиц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Рабочие мес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Реализация экспертного потенциа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Вы думаете, что даст партнерство </a:t>
            </a:r>
            <a:r>
              <a:rPr b="0" lang="ru-RU" sz="3200" spc="-1" strike="noStrike">
                <a:solidFill>
                  <a:srgbClr val="5d1003"/>
                </a:solidFill>
                <a:latin typeface="Verdana"/>
              </a:rPr>
              <a:t>для бизнес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МСП для бизнес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Известнос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Улучшение имиджа фирм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еклама товара, услуг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Освещение своей деятельности в С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Корпоративная культура для сотрудников фирмы, ее клиентов, покупателей, партнер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Улучшение внутрифирменных взаимоотношени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Улучшение взаимоотношений с инвестор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Доступ к рынка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бращение к целевым группа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Ассоциирование с высококачественным или престижным мероприят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Демонстрация социальной ответственност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6600" spc="-1" strike="noStrike">
                <a:solidFill>
                  <a:srgbClr val="fb5169"/>
                </a:solidFill>
                <a:latin typeface="Verdana"/>
              </a:rPr>
              <a:t>ПЯТЬ ГРУПП МЕХАНИЗМОВ ДЛЯ МСП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9640" y="549360"/>
            <a:ext cx="83296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Конкурсные механизмы</a:t>
            </a:r>
            <a:r>
              <a:rPr b="1" lang="ru-RU" sz="2400" spc="-1" strike="noStrike">
                <a:solidFill>
                  <a:srgbClr val="5d100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5d1003"/>
                </a:solidFill>
                <a:latin typeface="Verdana"/>
              </a:rPr>
              <a:t>- взаимодействие через конкурс</a:t>
            </a:r>
            <a:br>
              <a:rPr sz="2400"/>
            </a:br>
            <a:r>
              <a:rPr b="0" lang="ru-RU" sz="2400" spc="-1" strike="noStrike">
                <a:solidFill>
                  <a:srgbClr val="5d100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Социально-техноогические механизмы</a:t>
            </a:r>
            <a:r>
              <a:rPr b="1" lang="ru-RU" sz="2400" spc="-1" strike="noStrike">
                <a:solidFill>
                  <a:srgbClr val="5d100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5d1003"/>
                </a:solidFill>
                <a:latin typeface="Verdana"/>
              </a:rPr>
              <a:t>- социальная технология (ноу-хау), выгодно отличающаяся по эффективности использования на основе взаимодействия средств,  качества и результат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Организационно-структурные механизмы</a:t>
            </a:r>
            <a:r>
              <a:rPr b="1" lang="ru-RU" sz="2400" spc="-1" strike="noStrike">
                <a:solidFill>
                  <a:srgbClr val="5d100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5d1003"/>
                </a:solidFill>
                <a:latin typeface="Verdana"/>
              </a:rPr>
              <a:t>- когда власть (вместе с НПО) образует организационную структуру (юр.лицо), которой делегируется часть функций по решению социально-значимых задач через вовлечение граждан, при финансовой поддержке со стороны влас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d100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Процедурные механизмы</a:t>
            </a:r>
            <a:r>
              <a:rPr b="1" lang="ru-RU" sz="2400" spc="-1" strike="noStrike">
                <a:solidFill>
                  <a:srgbClr val="5d100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5d1003"/>
                </a:solidFill>
                <a:latin typeface="Verdana"/>
              </a:rPr>
              <a:t>- на основе правил сотрудничества при решении различных задач (без организации конкурсов, создания оргструктур или опоры на какие-либо новые технологии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d1003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Комплексные или комбинированные механизмы</a:t>
            </a:r>
            <a:r>
              <a:rPr b="1" lang="ru-RU" sz="2400" spc="-1" strike="noStrike">
                <a:solidFill>
                  <a:srgbClr val="5d100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5d1003"/>
                </a:solidFill>
                <a:latin typeface="Verdana"/>
              </a:rPr>
              <a:t>- системы взаимодействия, обладающие чертами, как минимум двух из названных выше тип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428760"/>
            <a:ext cx="75438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В целях создания эффективной системы реализации партнерства </a:t>
            </a: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должна быть сформирована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 многоуровневая институциональная структу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C:\Users\1\Desktop\635591.jpg"/>
          <p:cNvPicPr/>
          <p:nvPr/>
        </p:nvPicPr>
        <p:blipFill>
          <a:blip r:embed="rId1"/>
          <a:stretch/>
        </p:blipFill>
        <p:spPr>
          <a:xfrm>
            <a:off x="2124000" y="2349360"/>
            <a:ext cx="5715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768672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Организаторы        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Фонд Евразия Центральной Азии (ФЕЦА) и Экспертный Центр НПО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61080" indent="-279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61080" indent="-279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3ad"/>
                </a:solidFill>
                <a:latin typeface="Verdana"/>
              </a:rPr>
              <a:t>в рамках проект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61080" indent="-279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3ad"/>
                </a:solidFill>
                <a:latin typeface="Verdana"/>
              </a:rPr>
              <a:t>«</a:t>
            </a:r>
            <a:r>
              <a:rPr b="1" lang="ru-RU" sz="3200" spc="-1" strike="noStrike">
                <a:solidFill>
                  <a:srgbClr val="2323ad"/>
                </a:solidFill>
                <a:latin typeface="Verdana"/>
              </a:rPr>
              <a:t>Инициатива по развитию потенциала экспертов в сфере НПО </a:t>
            </a:r>
            <a:r>
              <a:rPr b="0" lang="ru-RU" sz="3200" spc="-1" strike="noStrike">
                <a:solidFill>
                  <a:srgbClr val="2323ad"/>
                </a:solidFill>
                <a:latin typeface="Verdana"/>
              </a:rPr>
              <a:t>»,</a:t>
            </a: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61080" indent="-279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и поддержке компани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61080" indent="-279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Шеврон в Казахстан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61080" indent="-279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61080" indent="-279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61080" indent="-279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Рисунок 3" descr="D:\Aidana Konarova\Desktop\баннер\Рисунок1.png"/>
          <p:cNvPicPr/>
          <p:nvPr/>
        </p:nvPicPr>
        <p:blipFill>
          <a:blip r:embed="rId1"/>
          <a:stretch/>
        </p:blipFill>
        <p:spPr>
          <a:xfrm>
            <a:off x="1643040" y="357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"/>
          <p:cNvPicPr/>
          <p:nvPr/>
        </p:nvPicPr>
        <p:blipFill>
          <a:blip r:embed="rId2"/>
          <a:stretch/>
        </p:blipFill>
        <p:spPr>
          <a:xfrm>
            <a:off x="4211640" y="57340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EFCA logo_color_no text"/>
          <p:cNvPicPr/>
          <p:nvPr/>
        </p:nvPicPr>
        <p:blipFill>
          <a:blip r:embed="rId3"/>
          <a:stretch/>
        </p:blipFill>
        <p:spPr>
          <a:xfrm>
            <a:off x="7500960" y="2858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Конкретные механизмы МСП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Фонды местных сообщест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Социальный заказ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Гранты и субсиди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Налоговые льготы НКО и донорам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Общественные палаты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убличные слушания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Общественная экспертиз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Институты по правам человека и по правам ребенка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Молодежный парламен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Общественные советы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Механизмы развития малого и среднего предпринимательств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Регулирование благотворительной деятельност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1" lang="ru-RU" sz="5400" spc="-1" strike="noStrike">
                <a:solidFill>
                  <a:srgbClr val="fb5169"/>
                </a:solidFill>
                <a:latin typeface="Verdana"/>
              </a:rPr>
              <a:t>ВИДЫ ПАРТНЕРСТВ на пересечении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129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Общественно государственное партнерство: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ec85e"/>
                </a:solidFill>
                <a:latin typeface="Arial"/>
              </a:rPr>
              <a:t>НПО +ВЛА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заимодействие осуществляется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через заключение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соглашений, договоров о сотрудничестве, организацию работы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общественно-государственных советов и комиссий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, проведение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остоянно действующих круглых столов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, а также посредством создания и развития инфраструктуры взаимодейств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Сфера  реализации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едоставление социальной, психологической, материальной и медицинской помощи, в том числе на дому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организация и проведение культурно-массовых,  досуговых и оздоровительных мероприяти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емонт, поставки оборудования, поддержка социальных учреждени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социальная адаптация, включая профориентацию, переквалификацию и в ряде случаев трудоустройств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авовая защита и правовое обучени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самоорганизация, организация групп взаимопомощ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и многое друго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5169"/>
                </a:solidFill>
                <a:latin typeface="Arial"/>
              </a:rPr>
              <a:t>«Знак ГТО на груди у него..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15 пилотных регион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Среди участников (Ярославская область):  правительство региона, ВУЗы, общество «Буревестник», ДОСААФ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егламенты, нормативные акты, организация соревнований, мероприят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3" descr="C:\Users\1\Desktop\151414222b6bbc80.jpg"/>
          <p:cNvPicPr/>
          <p:nvPr/>
        </p:nvPicPr>
        <p:blipFill>
          <a:blip r:embed="rId1"/>
          <a:stretch/>
        </p:blipFill>
        <p:spPr>
          <a:xfrm>
            <a:off x="1000080" y="421488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C:\Users\1\Desktop\МСП\для визуализации\931450_650824961600634_1494408721_n.jpg"/>
          <p:cNvPicPr/>
          <p:nvPr/>
        </p:nvPicPr>
        <p:blipFill>
          <a:blip r:embed="rId2"/>
          <a:stretch/>
        </p:blipFill>
        <p:spPr>
          <a:xfrm>
            <a:off x="5072040" y="4143240"/>
            <a:ext cx="3500640" cy="2487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\\Graficsuperserv\сетевая\САЙТЫ КОНТЕНТ\СОЧИ ГОРОД ПАРК\СОЧИ2\сочи1\1360311058_08.02.2013_31.jpg"/>
          <p:cNvPicPr/>
          <p:nvPr/>
        </p:nvPicPr>
        <p:blipFill>
          <a:blip r:embed="rId3"/>
          <a:stretch/>
        </p:blipFill>
        <p:spPr>
          <a:xfrm>
            <a:off x="5072040" y="1357200"/>
            <a:ext cx="348444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C:\Users\1\Desktop\МСП\для визуализации\________________0000.jpg"/>
          <p:cNvPicPr/>
          <p:nvPr/>
        </p:nvPicPr>
        <p:blipFill>
          <a:blip r:embed="rId1"/>
          <a:stretch/>
        </p:blipFill>
        <p:spPr>
          <a:xfrm>
            <a:off x="4786200" y="0"/>
            <a:ext cx="4194360" cy="2857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:\Users\1\Desktop\МСП\для визуализации\IMG_7902.jpg"/>
          <p:cNvPicPr/>
          <p:nvPr/>
        </p:nvPicPr>
        <p:blipFill>
          <a:blip r:embed="rId2"/>
          <a:stretch/>
        </p:blipFill>
        <p:spPr>
          <a:xfrm>
            <a:off x="4071960" y="3143160"/>
            <a:ext cx="4929120" cy="3284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Users\1\Desktop\МСП\для визуализации\sportsovpost_00013.jpg"/>
          <p:cNvPicPr/>
          <p:nvPr/>
        </p:nvPicPr>
        <p:blipFill>
          <a:blip r:embed="rId3"/>
          <a:stretch/>
        </p:blipFill>
        <p:spPr>
          <a:xfrm>
            <a:off x="0" y="3071880"/>
            <a:ext cx="4602240" cy="357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:\Users\1\Desktop\gto-pic668-668x444-65650 - копия.jpg"/>
          <p:cNvPicPr/>
          <p:nvPr/>
        </p:nvPicPr>
        <p:blipFill>
          <a:blip r:embed="rId4"/>
          <a:stretch/>
        </p:blipFill>
        <p:spPr>
          <a:xfrm>
            <a:off x="142920" y="0"/>
            <a:ext cx="42530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имер масштабного партнерства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НПО с властью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ЧАСТНО-ГОСУДАРСТВЕННОЕ ПАРТНЕРСТВО: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ЛАСТЬ+БИЗНЕС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926720"/>
            <a:ext cx="782964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оекты могут реализовываться на основании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концессионных соглашений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, соглашений о разделе продукции, арендных, инвестиционных и иных форм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договоров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, в которые включаются особые условия об участии государственной (муниципальной) стороны со своим объемом обязательств и прав в рамках проекта и о распределении прав на создаваемые объекты, продукцию и услуг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Сферы  реализации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25000"/>
            <a:ext cx="832932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Предприятия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пытно-внедренческие, научны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производственны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туристические, рекреационны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портовы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о строительству дорог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авиастроительная корпорац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государственная судоходная комп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мусоропереработк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здравоохран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b5169"/>
                </a:solidFill>
                <a:latin typeface="Arial"/>
              </a:rPr>
              <a:t>План вебинар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 такое межсекторальное партнерств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еханизмы МС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ыгоды партнерства для каждой и сторо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еханизмы партнерства при пересечен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\\Graficsuperserv\сетевая\САЙТЫ КОНТЕНТ\СОЧИ ГОРОД ПАРК\город\0008186463.fid_.jpg"/>
          <p:cNvPicPr/>
          <p:nvPr/>
        </p:nvPicPr>
        <p:blipFill>
          <a:blip r:embed="rId1"/>
          <a:stretch/>
        </p:blipFill>
        <p:spPr>
          <a:xfrm>
            <a:off x="6072120" y="2357280"/>
            <a:ext cx="2732040" cy="1906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\\Graficsuperserv\сетевая\САЙТЫ КОНТЕНТ\СОЧИ ГОРОД ПАРК\СОЧИ2\сочи1\толи.jpg"/>
          <p:cNvPicPr/>
          <p:nvPr/>
        </p:nvPicPr>
        <p:blipFill>
          <a:blip r:embed="rId2"/>
          <a:stretch/>
        </p:blipFill>
        <p:spPr>
          <a:xfrm>
            <a:off x="285840" y="1857240"/>
            <a:ext cx="2976480" cy="1981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\\Graficsuperserv\сетевая\САЙТЫ КОНТЕНТ\6 НКО\КЛИПЫ\165472_415769611853639_2111690146_n - копия.jpg"/>
          <p:cNvPicPr/>
          <p:nvPr/>
        </p:nvPicPr>
        <p:blipFill>
          <a:blip r:embed="rId3"/>
          <a:stretch/>
        </p:blipFill>
        <p:spPr>
          <a:xfrm>
            <a:off x="4286160" y="1000080"/>
            <a:ext cx="3156120" cy="2100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\\Graficsuperserv\сетевая\САЙТЫ КОНТЕНТ\1 ГБН\gbn1 - копия.jpg"/>
          <p:cNvPicPr/>
          <p:nvPr/>
        </p:nvPicPr>
        <p:blipFill>
          <a:blip r:embed="rId4"/>
          <a:stretch/>
        </p:blipFill>
        <p:spPr>
          <a:xfrm>
            <a:off x="5072040" y="4500720"/>
            <a:ext cx="2879640" cy="191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\\Graficsuperserv\сетевая\САЙТЫ КОНТЕНТ\6 НКО\МАРТ\7940c52eb09e52eca5ad6feec21caf3f.jpg"/>
          <p:cNvPicPr/>
          <p:nvPr/>
        </p:nvPicPr>
        <p:blipFill>
          <a:blip r:embed="rId5"/>
          <a:stretch/>
        </p:blipFill>
        <p:spPr>
          <a:xfrm>
            <a:off x="2000160" y="0"/>
            <a:ext cx="2643120" cy="208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C:\Users\1\Desktop\11597.jpg"/>
          <p:cNvPicPr/>
          <p:nvPr/>
        </p:nvPicPr>
        <p:blipFill>
          <a:blip r:embed="rId6"/>
          <a:stretch/>
        </p:blipFill>
        <p:spPr>
          <a:xfrm>
            <a:off x="785880" y="4286160"/>
            <a:ext cx="3000240" cy="1874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\\Graficsuperserv\сетевая\САЙТЫ КОНТЕНТ\6 НКО\КЛИПЫ\12.jpg"/>
          <p:cNvPicPr/>
          <p:nvPr/>
        </p:nvPicPr>
        <p:blipFill>
          <a:blip r:embed="rId7"/>
          <a:stretch/>
        </p:blipFill>
        <p:spPr>
          <a:xfrm>
            <a:off x="2428920" y="2643120"/>
            <a:ext cx="28465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«Доктор рядом»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уть программы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Предприниматели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 лицензией и не менее чем трехлетним опытом медицинской работы будут оказывать бесплатную первичную медпомощь владельцам полисов ОМ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омещения предоставляют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муниципалитет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5" name="Picture 9" descr="C:\Users\1\Desktop\468.jpg"/>
          <p:cNvPicPr/>
          <p:nvPr/>
        </p:nvPicPr>
        <p:blipFill>
          <a:blip r:embed="rId1"/>
          <a:stretch/>
        </p:blipFill>
        <p:spPr>
          <a:xfrm>
            <a:off x="4284720" y="189000"/>
            <a:ext cx="1387440" cy="1214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1\Desktop\МСП\для визуализации\9222b326279a64f1dc9ba55f02e0983b.jpg"/>
          <p:cNvPicPr/>
          <p:nvPr/>
        </p:nvPicPr>
        <p:blipFill>
          <a:blip r:embed="rId2"/>
          <a:stretch/>
        </p:blipFill>
        <p:spPr>
          <a:xfrm>
            <a:off x="5286240" y="40719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:\Users\1\Desktop\tab_m.jpg"/>
          <p:cNvPicPr/>
          <p:nvPr/>
        </p:nvPicPr>
        <p:blipFill>
          <a:blip r:embed="rId3"/>
          <a:stretch/>
        </p:blipFill>
        <p:spPr>
          <a:xfrm>
            <a:off x="5357880" y="1571760"/>
            <a:ext cx="348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Общественно-частное партнерство: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ПО+БИЗНЕС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280" y="1773000"/>
            <a:ext cx="8115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Благотворительные программ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Услуги для бизнес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овместные проект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Социальное предприниматель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Фандрайзин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Экспертное сопровожде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Программа  «Добрая сила»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85480" y="1571760"/>
            <a:ext cx="378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Механизмы:  «Добрая карта»,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о которой  бюджетники могут покупать продукты, лекарства, билеты в некоторые кинотеатры по сниженной цен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инимают такие карты более 200 учреждений г. Пер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5" descr="C:\Users\1\Desktop\МСП\для визуализации\625430_696007447082385_1114349947_n.jpg"/>
          <p:cNvPicPr/>
          <p:nvPr/>
        </p:nvPicPr>
        <p:blipFill>
          <a:blip r:embed="rId1"/>
          <a:stretch/>
        </p:blipFill>
        <p:spPr>
          <a:xfrm>
            <a:off x="4500720" y="2071800"/>
            <a:ext cx="43322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Смешанная форма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ПО+ВЛАСТЬ+БИЗНЕС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отрудничество государства, бизнеса и НПО в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развитии социальной сферы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, при котором согласованно с государством  реализует проекты, приоритетные для государства и обществ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b5169"/>
                </a:solidFill>
                <a:latin typeface="Verdana"/>
              </a:rPr>
              <a:t>Сферы применения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строительство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учебных заведений, больниц,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разработка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законопроектов, технических регламентов, стандартов,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создание сетей юридических консультаций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для граждан,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содействие развитию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отечественного кино и театра, книгоиздания и литературы и т.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Программа «Дорога к дому»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Механизмы 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b5169"/>
                </a:solidFill>
                <a:latin typeface="Verdana"/>
              </a:rPr>
              <a:t>Родительская академия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– для родителей, испытывающих трудности в воспитании дете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b5169"/>
                </a:solidFill>
                <a:latin typeface="Verdana"/>
              </a:rPr>
              <a:t>«СоРоКа»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-развивающий курс подростков,  способствует их соц.адаптаци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b5169"/>
                </a:solidFill>
                <a:latin typeface="Verdana"/>
              </a:rPr>
              <a:t>Биржа труда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ля юношей и девуше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b5169"/>
                </a:solidFill>
                <a:latin typeface="Verdana"/>
              </a:rPr>
              <a:t>Школа воспитания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дорового ребенка - на базе детских поликлини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b5169"/>
                </a:solidFill>
                <a:latin typeface="Verdana"/>
              </a:rPr>
              <a:t>Социальная скорая помощь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- для помощи детям при возникновении угрозы их жизни и здоровью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b5169"/>
                </a:solidFill>
                <a:latin typeface="Verdana"/>
              </a:rPr>
              <a:t>Проект «Вместе с мамой»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(в каждой женской консультации) - профилактика ранних отказов от новорожденных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3" descr="C:\Users\1\Desktop\МСП\для визуализации\542082_530522536964211_1657597137_n.jpg"/>
          <p:cNvPicPr/>
          <p:nvPr/>
        </p:nvPicPr>
        <p:blipFill>
          <a:blip r:embed="rId1"/>
          <a:stretch/>
        </p:blipFill>
        <p:spPr>
          <a:xfrm>
            <a:off x="4429080" y="2071800"/>
            <a:ext cx="4394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5169"/>
                </a:solidFill>
                <a:latin typeface="Arial"/>
              </a:rPr>
              <a:t>«Лучше иметь пчелу, чем собаку…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9" name="Picture 2" descr="C:\Users\1\Desktop\МСП\для визуализации\39a4113c-de55-4032-a789-dab2a38b76bb_6.jpg"/>
          <p:cNvPicPr/>
          <p:nvPr/>
        </p:nvPicPr>
        <p:blipFill>
          <a:blip r:embed="rId1"/>
          <a:stretch/>
        </p:blipFill>
        <p:spPr>
          <a:xfrm>
            <a:off x="1143000" y="1900080"/>
            <a:ext cx="65721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7168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fb5169"/>
                </a:solidFill>
                <a:latin typeface="Verdana"/>
              </a:rPr>
              <a:t>КОМУ ПОМОГАЕТ  </a:t>
            </a:r>
            <a:r>
              <a:rPr b="1" lang="ru-RU" sz="5400" spc="-1" strike="noStrike">
                <a:solidFill>
                  <a:srgbClr val="2323ad"/>
                </a:solidFill>
                <a:latin typeface="Verdana"/>
              </a:rPr>
              <a:t>БИЗНЕС</a:t>
            </a:r>
            <a:r>
              <a:rPr b="1" lang="ru-RU" sz="5400" spc="-1" strike="noStrike">
                <a:solidFill>
                  <a:srgbClr val="fb5169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2323ad"/>
                </a:solidFill>
                <a:latin typeface="Arial"/>
              </a:rPr>
              <a:t>Бизнес</a:t>
            </a: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 намерен сотрудничать в первую очередь с теми НПО, которые в состоянии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12139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запускать и реализовывать социальные проекты на территориях деятельности компани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отслеживать их эффективнос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рганизовывать различные акции  мероприятия для населе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грамотно информиров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тчитываться о ходе проек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0029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5169"/>
                </a:solidFill>
                <a:latin typeface="Arial"/>
              </a:rPr>
              <a:t>Формы сотрудничества  НПО с </a:t>
            </a:r>
            <a:r>
              <a:rPr b="1" lang="ru-RU" sz="2800" spc="-1" strike="noStrike">
                <a:solidFill>
                  <a:srgbClr val="2323ad"/>
                </a:solidFill>
                <a:latin typeface="Arial"/>
              </a:rPr>
              <a:t>коммерческими организациям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356840"/>
            <a:ext cx="83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Благотворительнос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Промоушн.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Некоммерческие организации  выступают в роли рекламного агентств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Частные пожертвован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сотрудников коммерческих организаций, членов их семей, их друзей, пенсионер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Использование труда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сотрудников коммерческих организаций в НПО. При этом заработную плату сотрудникам продолжают платить компани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Продажа билетов.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Коммерческая организация покупает билеты на мероприятия, проводимые НПО, а затем распространяет их среди сотрудников и контраген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Verdana"/>
              </a:rPr>
              <a:t>и друг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440" y="290520"/>
            <a:ext cx="80758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Факторы незрелости сектора НП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благотворительность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еще не стала неотъемлемой частью жизн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захстанского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общества и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не являются привычным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явлением ни для граждан, ни для бизнес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законодательство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не поощряет налоговыми льготам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деятельность коммерческих организаций, осуществляемую в целях выполнения  социальной миссии организации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не являясь заметной частью экономик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, НПО не стали влиятельным участником диалога с властью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казахстанские НПО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не привыкли рассматривать и анализировать свою деятельность с экономической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точки зрения, то есть не как организация, выполняющая социальную миссию, но как организация, имеющая доходы и расход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00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озможные </a:t>
            </a:r>
            <a:r>
              <a:rPr b="1" lang="ru-RU" sz="3200" spc="-1" strike="noStrike">
                <a:solidFill>
                  <a:srgbClr val="eec85e"/>
                </a:solidFill>
                <a:latin typeface="Arial"/>
              </a:rPr>
              <a:t>услуги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ec85e"/>
                </a:solidFill>
                <a:latin typeface="Arial"/>
              </a:rPr>
              <a:t>НПО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для бизнес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3640" y="691920"/>
            <a:ext cx="8329320" cy="54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услуги по организации благотворительной деятельности для благополучател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консультации по разработке проект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консультации по правовым и бухгалтерским вопросам для благополучател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консультации по правовым и бухгалтерским вопросам для донор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консультации и услуги по оценке эффективности проектов для донор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редварительная оценка проектов для донор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организация экстренных кампаний по привлечению средств для благополучател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редоставление информаци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о возможности оказания услуг на основе бартера, совместного использования технических и информационных усл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предоставление информации о благотворительных программах коммерческих фирм и предприятий для благополучател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редоставление информаци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о наиболее актуальных социальных проблемах региона для донор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разработка фандрайзинговых ид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подбор фандрайзинговых ид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выбор направлений благотворительной деятельности для доноров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планирование благотворительной деятельности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одбор индивидуальных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фандрайзинговых идей и проектов, оптимально подходящих заказчику (донору),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о принципу  стратегического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планирова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 нужно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сделат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чтобы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власт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нас услышал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Менеджер по взаимодействию с органами власти </a:t>
            </a:r>
            <a:r>
              <a:rPr b="0" lang="en-US" sz="2400" spc="-1" strike="noStrike">
                <a:solidFill>
                  <a:srgbClr val="eec85e"/>
                </a:solidFill>
                <a:latin typeface="Arial"/>
              </a:rPr>
              <a:t>GR</a:t>
            </a:r>
            <a:r>
              <a:rPr b="0" lang="ru-RU" sz="2000" spc="-1" strike="noStrike">
                <a:solidFill>
                  <a:srgbClr val="eec85e"/>
                </a:solidFill>
                <a:latin typeface="Arial"/>
              </a:rPr>
              <a:t>— это ответственное лицо, осуществляющее управление отношениями с органами власти.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Специалист по GR должен уметь строить доверительные и позитивные отношения между  организацией  и властью с помощью установления неформального диалога в целях устойчивого развития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142848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«Джиарщик» должен быть человеком, похожим на чиновников  по ряду критерий, чтобы ему было проще налаживать с ними отноше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2" name="Picture 3" descr="C:\Users\1\Desktop\454163.jpg"/>
          <p:cNvPicPr/>
          <p:nvPr/>
        </p:nvPicPr>
        <p:blipFill>
          <a:blip r:embed="rId1"/>
          <a:stretch/>
        </p:blipFill>
        <p:spPr>
          <a:xfrm>
            <a:off x="2050920" y="3284640"/>
            <a:ext cx="5265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2932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Итак, вы решили обратиться с предложением</a:t>
            </a:r>
            <a:br>
              <a:rPr sz="3200"/>
            </a:br>
            <a:br>
              <a:rPr sz="3200"/>
            </a:br>
            <a:r>
              <a:rPr b="1" lang="ru-RU" sz="1800" spc="-1" strike="noStrike">
                <a:solidFill>
                  <a:srgbClr val="eec85e"/>
                </a:solidFill>
                <a:latin typeface="Arial"/>
              </a:rPr>
              <a:t>подготовьте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0840" y="1933560"/>
            <a:ext cx="3917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.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исьмо-обращение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к руководителю органа власти или организац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2.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риложения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, в которых будут содержаться конкретные предложения</a:t>
            </a: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на ближайший период и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описание истории успеха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5" name="Picture 4" descr="C:\Users\1\Desktop\МСП\для визуализации\95405.jpg"/>
          <p:cNvPicPr/>
          <p:nvPr/>
        </p:nvPicPr>
        <p:blipFill>
          <a:blip r:embed="rId1"/>
          <a:stretch/>
        </p:blipFill>
        <p:spPr>
          <a:xfrm>
            <a:off x="4549680" y="2357280"/>
            <a:ext cx="437040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5169"/>
                </a:solidFill>
                <a:latin typeface="Verdana"/>
              </a:rPr>
              <a:t>Письмо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бращение к руководителю по имени отчеству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краткая информация  о том, кто обращается, чем занимает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писание цели обращения – основного предложения о сотрудничеств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просьба о назначении встреч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ямые контакты, общие реквизиты организации и адре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5169"/>
                </a:solidFill>
                <a:latin typeface="Verdana"/>
              </a:rPr>
              <a:t>Приложе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краткая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справка об обращающейся организации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: учредитель, основные цели и направления деятельности, ключевые успехи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распечатка презентации о возможном сотрудничеств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(не больше 10 слайдов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Переговоры и их возможное  содержание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0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резентация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организации, предложе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Выгоды и эффекты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, которые будут получены в ходе сотрудничества и почему без НКО этот эффект полноценно достигнут быть не мож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Где и как будет размещена информация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о совместном мероприят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Заключение официального соглашения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о сотрудничеств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Договоренность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о том, какое ближайшее совместное мероприятие может быть осуществлено и ког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Договоренность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о процедурах взаимодействи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Заключение договора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на проведение таких работ и оказания усл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оговор должен содержать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все условия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проведения работ и календарные план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редоставление консультантов, экспертов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в рабочие группы и комиссии, создаваемые органами исполнительной, законодательной власти для решений конкретных зада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Организация тематических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круглых столов, рабочих групп, конференций и приглашение на обучение, в том числе совместное со специалистами НКО, специалистов государственных и муниципальных организац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5169"/>
                </a:solidFill>
                <a:latin typeface="Arial"/>
              </a:rPr>
              <a:t>Ошибки взаимодейств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1. Не ждите, что представители органов власти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найдут вас с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2. Не начинайте знакомство с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конфли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3. Недостаточно представиться или обратиться с предложением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однократн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4.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Не вставайте на чью-либо сторону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без изучения мнения всех сторо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5.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Не обходитесь устным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закреплением договоренност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2" name="Picture 2" descr="C:\Users\1\Desktop\МСП\для визуализации\10170726_856519041040579_812094181_n.jpg"/>
          <p:cNvPicPr/>
          <p:nvPr/>
        </p:nvPicPr>
        <p:blipFill>
          <a:blip r:embed="rId1"/>
          <a:stretch/>
        </p:blipFill>
        <p:spPr>
          <a:xfrm>
            <a:off x="4714920" y="2286000"/>
            <a:ext cx="4075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Verdana"/>
              </a:rPr>
              <a:t>Требования к проекту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b5169"/>
                </a:solidFill>
                <a:latin typeface="Arial"/>
              </a:rPr>
              <a:t>Основа социального государ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2560" y="1599840"/>
            <a:ext cx="8543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lang="ru-RU" sz="2800" spc="-1" strike="noStrike">
                <a:solidFill>
                  <a:srgbClr val="2323ad"/>
                </a:solidFill>
                <a:latin typeface="Verdana"/>
              </a:rPr>
              <a:t>не добросердечие властей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а </a:t>
            </a:r>
            <a:r>
              <a:rPr b="0" lang="ru-RU" sz="2800" spc="-1" strike="noStrike">
                <a:solidFill>
                  <a:srgbClr val="fb5169"/>
                </a:solidFill>
                <a:latin typeface="Verdana"/>
              </a:rPr>
              <a:t>самоорганизация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2323ad"/>
                </a:solidFill>
                <a:latin typeface="Verdana"/>
              </a:rPr>
              <a:t>активных, альтруистически настроенных и ответственных граждан, совместно определяющих задачи госорганов</a:t>
            </a:r>
            <a:r>
              <a:rPr b="0" lang="ru-RU" sz="2800" spc="-1" strike="noStrike">
                <a:solidFill>
                  <a:srgbClr val="2658aa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b5169"/>
                </a:solidFill>
                <a:latin typeface="Verdana"/>
              </a:rPr>
              <a:t>контролирующих работу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2323ad"/>
                </a:solidFill>
                <a:latin typeface="Verdana"/>
              </a:rPr>
              <a:t>этих органов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и </a:t>
            </a:r>
            <a:r>
              <a:rPr b="0" lang="ru-RU" sz="2800" spc="-1" strike="noStrike">
                <a:solidFill>
                  <a:srgbClr val="fb5169"/>
                </a:solidFill>
                <a:latin typeface="Verdana"/>
              </a:rPr>
              <a:t>дополняющих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2323ad"/>
                </a:solidFill>
                <a:latin typeface="Verdana"/>
              </a:rPr>
              <a:t>ее разнообразной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b5169"/>
                </a:solidFill>
                <a:latin typeface="Verdana"/>
              </a:rPr>
              <a:t>деятельностью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2323ad"/>
                </a:solidFill>
                <a:latin typeface="Verdana"/>
              </a:rPr>
              <a:t>общественных структу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2323ad"/>
                </a:solidFill>
                <a:latin typeface="Verdana"/>
              </a:rPr>
              <a:t>Переход от исчерпавшего себя государственного патернализма к общественно-государственному партнерству в постановке и решении социальных пробле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C:\Users\1\Desktop\f8eibe.jpg"/>
          <p:cNvPicPr/>
          <p:nvPr/>
        </p:nvPicPr>
        <p:blipFill>
          <a:blip r:embed="rId1"/>
          <a:stretch/>
        </p:blipFill>
        <p:spPr>
          <a:xfrm>
            <a:off x="6300720" y="1484280"/>
            <a:ext cx="214308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758360" cy="13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Проект должен быть надлежащим образом «упакован», подготовлен по ключевым пункта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7120" y="1356840"/>
            <a:ext cx="83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команда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(сотрудничество разработчика проекта с командой с тщательной проработкой взаимных обязательств при формировании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одтверждение востребованност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(включая сегментацию потребителей и определение партнеров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финансовая модель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: формирование и оптимизация затрат, модель ценообразова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результаты  тестирования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и проверки масштабируемости проект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план выхода на финансирование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: соизмерение рисков, инструменты их оптимизации, траектории поиска  </a:t>
            </a: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57160" y="433080"/>
            <a:ext cx="72295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Узловой элемент деятельности НПО - это социальная проблем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9680" y="1571400"/>
            <a:ext cx="8186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ост цен, бедность и безработица более всего волнуют насел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В целом, кроме основных проблем, волнующих практически все социально-демографические группы, молодёжь (18-24 года) тревожит проблема наркомании (30%), пожилое население – недоступность медицины (31%) и кризис морали (30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Жителей крупных городов чаще остальных заботят вопросы, связанные с приезжими и мигрантами (39%),  рост преступности (28%) и рост национализма (25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levada.ru/10-03-2014/rossiyane-o-problemakh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8" name="Picture 4" descr="C:\Users\1\Desktop\3387.jpg"/>
          <p:cNvPicPr/>
          <p:nvPr/>
        </p:nvPicPr>
        <p:blipFill>
          <a:blip r:embed="rId2"/>
          <a:stretch/>
        </p:blipFill>
        <p:spPr>
          <a:xfrm>
            <a:off x="3203640" y="515772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При планировании проекта синхронизируйте временные периоды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Стратегия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- это, прежде всего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основные направления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деятельности организации, позволяющие внедрять всё новое и передовое, реализуя поставленные  цели на ближайшие го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для НПО, общественных организаций  и объединений  - это 2-3 го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для государственного сектора  - 4-7 лет (время между выборами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для бизнес-сектора, как правило, 5 ближайших лет, (но можно разрабатывать стратегию на 15-20 лет в зависимости от существования организации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5169"/>
                </a:solidFill>
                <a:latin typeface="Arial"/>
              </a:rPr>
              <a:t>Новые вызов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3" name="Picture 5" descr="C:\Users\1\Desktop\МСП\для визуализации\1381747_10153385922160655_519319850_n.jpg"/>
          <p:cNvPicPr/>
          <p:nvPr/>
        </p:nvPicPr>
        <p:blipFill>
          <a:blip r:embed="rId1"/>
          <a:stretch/>
        </p:blipFill>
        <p:spPr>
          <a:xfrm>
            <a:off x="1428840" y="1643040"/>
            <a:ext cx="58672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b5169"/>
                </a:solidFill>
                <a:latin typeface="Arial"/>
              </a:rPr>
              <a:t>Итак, сегодня Вы узна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 такое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МС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выстраивать партнерски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отношения  с государством и бизне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Ошибки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заимодейств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 что обратить внимание при подготовке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документов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для партнер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b5169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 Какие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аспекты те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освещенных в вебинарах, 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заинтересовали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с больше всег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 Какие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вопросы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можно было бы дать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более подробн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 Как Вам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подача материал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тренером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4 </a:t>
            </a:r>
            <a:r>
              <a:rPr b="0" lang="ru-RU" sz="3200" spc="-1" strike="noStrike">
                <a:solidFill>
                  <a:srgbClr val="eec85e"/>
                </a:solidFill>
                <a:latin typeface="Verdana"/>
              </a:rPr>
              <a:t>Ваши пожелания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!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68000" y="1874880"/>
            <a:ext cx="8186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23ad"/>
                </a:solidFill>
                <a:latin typeface="Verdana"/>
              </a:rPr>
              <a:t>Вопрос:</a:t>
            </a:r>
            <a:r>
              <a:rPr b="1" lang="ru-RU" sz="5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fb5169"/>
                </a:solidFill>
                <a:latin typeface="Verdana"/>
              </a:rPr>
              <a:t>ЧТО ТАКОЕ МЕЖСЕКТОРНОЕ ПАРТНЕРСТВО (МСП)</a:t>
            </a:r>
            <a:r>
              <a:rPr b="1" lang="ru-RU" sz="3200" spc="-1" strike="noStrike">
                <a:solidFill>
                  <a:srgbClr val="fb5169"/>
                </a:solidFill>
                <a:latin typeface="Verdana"/>
              </a:rPr>
              <a:t>  ?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НКО"/>
          <p:cNvPicPr/>
          <p:nvPr/>
        </p:nvPicPr>
        <p:blipFill>
          <a:blip r:embed="rId1"/>
          <a:stretch/>
        </p:blipFill>
        <p:spPr>
          <a:xfrm>
            <a:off x="1619280" y="1197000"/>
            <a:ext cx="6357960" cy="4578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8480" y="277920"/>
            <a:ext cx="68007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Межсекторное партнерств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Межсекторное социальное партнерство (МСП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8a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это конструктивное </a:t>
            </a:r>
            <a:r>
              <a:rPr b="1" lang="ru-RU" sz="2800" spc="-1" strike="noStrike">
                <a:solidFill>
                  <a:srgbClr val="5d1003"/>
                </a:solidFill>
                <a:latin typeface="Verdana"/>
              </a:rPr>
              <a:t>взаимодействие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организаций из двух или трех секторов </a:t>
            </a:r>
            <a:r>
              <a:rPr b="1" lang="ru-RU" sz="2800" spc="-1" strike="noStrike">
                <a:solidFill>
                  <a:srgbClr val="fb5169"/>
                </a:solidFill>
                <a:latin typeface="Verdana"/>
              </a:rPr>
              <a:t>(государство, бизнес, некоммерческий сектор),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«выгодное» населению территории и каждой из сторон и обеспечивающее синергетический эффект от «сложения» разных ресурсов при решении социальных пробле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5720" y="502920"/>
            <a:ext cx="72435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5169"/>
                </a:solidFill>
                <a:latin typeface="Arial"/>
              </a:rPr>
              <a:t>Механизм МСП-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овокупность </a:t>
            </a:r>
            <a:br>
              <a:rPr sz="32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)правил,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)способов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) технологий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)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окументаци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24000" y="3283200"/>
            <a:ext cx="8073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о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рганизации, обеспечению ресурсами, реализаци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овместных работ (проектов, акций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оторая встроена в схему функционирования социальной сферы на данной территории, направлена на решение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циально значимых  пробл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 учетом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ействующих нормативных и правовых актов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оспроизводима в будущем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без участия создател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4:44:39Z</dcterms:created>
  <dc:creator>Visual</dc:creator>
  <dc:description/>
  <dc:language>en-US</dc:language>
  <cp:lastModifiedBy>akonarova</cp:lastModifiedBy>
  <dcterms:modified xsi:type="dcterms:W3CDTF">2015-09-30T08:50:50Z</dcterms:modified>
  <cp:revision>158</cp:revision>
  <dc:subject/>
  <dc:title>Слайд 1</dc:title>
</cp:coreProperties>
</file>