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wmf" ContentType="image/x-wmf"/>
  <Override PartName="/ppt/media/image14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3.png" ContentType="image/png"/>
  <Override PartName="/ppt/media/image6.png" ContentType="image/png"/>
  <Override PartName="/ppt/media/image18.png" ContentType="image/png"/>
  <Override PartName="/ppt/media/image7.jpeg" ContentType="image/jpeg"/>
  <Override PartName="/ppt/media/image4.jpeg" ContentType="image/jpe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35A8-3A75-41FC-BF16-DA44FEF99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1073-1E0D-41C2-BCB2-34DEC811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E22B-7786-4140-A406-CE57291F6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7FF5-7A56-46D6-8909-01EE57EB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49AE-BE1C-4618-B649-BBF458C4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4CD2-B793-487A-9D96-F1A6C755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6F7D1-AC0A-4900-8687-FBDE0D4C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BA14-391A-47A1-9545-B539B1DB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FB19-2DB0-4EFC-BB5A-DA169938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190B-B9F6-44E5-B031-BE44C447A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9C34-F356-4E36-9FD1-8756941B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B83D-BA40-42CB-8DA1-4B26DE3E0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C706-7839-4B45-9726-3C71A9D3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FEAE-7A66-4DDD-A050-707D55F7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81FD-5615-457A-B781-D4600DEB7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134D9-F39A-4389-90FC-49E8BB42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8B4AD-FE53-4209-9484-58F00D8FB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53B6-60F5-44A3-A2C9-DDA04BABC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F7B7-66D5-4477-AEBC-36FF4DC7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7B034-4D31-4436-AA91-EAB16999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77ED7-68E7-4372-A218-C0A08613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AACA-D724-49FA-BED8-D6DD147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109F-002D-40FA-B46E-525B07E8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8A7E-FCDF-49F5-B9B9-C455A697B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9A6E4-A764-4B11-A293-B12FA1ED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61A78-D86A-45B8-92C6-5F77A404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FABB3-1E33-481B-A167-3091658A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1B896-EE6C-4FF3-8A87-3C9E22E0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31C8-C8E7-48F6-AA77-9CE85008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94A81-B94F-4CBE-B978-51EA386E6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3B54-B077-4B7A-B738-66FBB701C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795B-5342-4BF3-AA80-F86DAE1F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432A-EDF2-4530-8751-08C9B5C3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93A-E8F2-439C-B36E-BCE1CE80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542D8-DBB6-4E2F-85EE-04479A5C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3B04F-B8FB-4527-BF94-2A8F5E2E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BFE84-DB82-448B-BF3F-1B0CB67A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892A-FD21-4BDF-815B-F09D4986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A425-950D-40B4-BABB-8CA9DA2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58E07-2EC3-4881-B747-2371FF42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B4B02-99EB-42DA-9987-CBBE4A9C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A8E5-DF12-46F5-840A-6BCE550E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A53A-A387-400B-95EF-AE2C13219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11D2-67FE-4AED-94D2-0936960F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A8B-2D51-4E78-8273-F16E3AE9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7B8B-9DE3-4097-9A1A-840F818F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4BB7-47E7-48D2-860A-4155E413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FBB-3332-4F18-8F83-6A6CB9A8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ADCBC-D85C-4CD2-954F-52324B3A8198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35CC-35FA-4C4C-B327-4AEC00A8BD63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6ecf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6ec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e1f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17F7-9EA1-4FAA-8CDB-65F5EE7581CE}" type="slidenum">
              <a:rPr b="0" lang="en-US" sz="1200" spc="-1" strike="noStrike">
                <a:solidFill>
                  <a:srgbClr val="cce1f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bc0057">
                  <a:alpha val="45098"/>
                </a:srgbClr>
              </a:gs>
              <a:gs pos="100000">
                <a:srgbClr val="ffc0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d69200">
                  <a:alpha val="45098"/>
                </a:srgbClr>
              </a:gs>
              <a:gs pos="100000">
                <a:srgbClr val="f40069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5b6f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ea157a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feb80a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00addc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a566a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97FA-A916-4B9E-88E9-8D30B3486F91}" type="slidenum">
              <a:rPr b="0" lang="en-US" sz="1200" spc="-1" strike="noStrike">
                <a:solidFill>
                  <a:srgbClr val="4a566a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23800" y="950760"/>
            <a:ext cx="8523360" cy="2262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73356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Вебинар по институциональному развитию НПО в РК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«Развитие НПО через социальное партнерство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ай, 2014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3" descr="C:\Documents and Settings\NURZAUAR.ISSAEVA\My Documents\Documents NS\АИ\эскизззз\ready\эскиз А.jpg"/>
          <p:cNvPicPr/>
          <p:nvPr/>
        </p:nvPicPr>
        <p:blipFill>
          <a:blip r:embed="rId2"/>
          <a:stretch/>
        </p:blipFill>
        <p:spPr>
          <a:xfrm>
            <a:off x="685800" y="1295280"/>
            <a:ext cx="2057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03896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Constantia"/>
              </a:rPr>
              <a:t>Социальное партнерство играет все большую роль в обеспечении политической стабильности, формировании новых цивилизованных человеческих  отношений, определяет тенденции мирового общественного развития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Constantia"/>
              </a:rPr>
              <a:t>Будущее развитие общества зависит от гражданских традиций сотрудничества, наличия социального партнерств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«Межсекторное социальное партнерство»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5228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ая концепция рассматривает в качестве субъектов партнерства три основные сектора общества – власть, бизнес и некоммерческие организации, а в качестве предмета партнерства –– весь спектр социальных проблем.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ежсекторное социальное партнерство – это 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организаций из двух или трех секторов (государство, бизнес, некоммерческий сектор) при решении социальных проблем, обеспечивающее синергетический эффект от «сложения» разных ресурсов и “выгодное” каждой из сторон и населению»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Социальное партнерство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28600" y="1752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Quad Arrow 4"/>
          <p:cNvSpPr/>
          <p:nvPr/>
        </p:nvSpPr>
        <p:spPr>
          <a:xfrm>
            <a:off x="3200400" y="2666880"/>
            <a:ext cx="2286000" cy="1901880"/>
          </a:xfrm>
          <a:prstGeom prst="pie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циальное партнер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809880" y="1905120"/>
            <a:ext cx="1295640" cy="609480"/>
          </a:xfrm>
          <a:prstGeom prst="rect">
            <a:avLst/>
          </a:prstGeom>
          <a:solidFill>
            <a:srgbClr val="00addc"/>
          </a:solidFill>
          <a:ln w="25560">
            <a:solidFill>
              <a:srgbClr val="007e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Обще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477120" y="3200400"/>
            <a:ext cx="1066680" cy="685800"/>
          </a:xfrm>
          <a:prstGeom prst="rect">
            <a:avLst/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ВЛА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143000" y="3200400"/>
            <a:ext cx="1143000" cy="762120"/>
          </a:xfrm>
          <a:prstGeom prst="rect">
            <a:avLst/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БИЗН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Straight Arrow Connector 11"/>
          <p:cNvCxnSpPr>
            <a:stCxn id="226" idx="1"/>
            <a:endCxn id="228" idx="0"/>
          </p:cNvCxnSpPr>
          <p:nvPr/>
        </p:nvCxnSpPr>
        <p:spPr>
          <a:xfrm flipH="1">
            <a:off x="1714320" y="2209680"/>
            <a:ext cx="2095920" cy="991440"/>
          </a:xfrm>
          <a:prstGeom prst="straightConnector1">
            <a:avLst/>
          </a:prstGeom>
          <a:ln w="25560">
            <a:solidFill>
              <a:srgbClr val="00addc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30" name="Straight Arrow Connector 13"/>
          <p:cNvCxnSpPr>
            <a:stCxn id="226" idx="3"/>
            <a:endCxn id="227" idx="0"/>
          </p:cNvCxnSpPr>
          <p:nvPr/>
        </p:nvCxnSpPr>
        <p:spPr>
          <a:xfrm>
            <a:off x="5105160" y="2209680"/>
            <a:ext cx="1905480" cy="991440"/>
          </a:xfrm>
          <a:prstGeom prst="straightConnector1">
            <a:avLst/>
          </a:prstGeom>
          <a:ln w="25560">
            <a:solidFill>
              <a:srgbClr val="00addc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31" name="Rectangle 14"/>
          <p:cNvGrpSpPr/>
          <p:nvPr/>
        </p:nvGrpSpPr>
        <p:grpSpPr>
          <a:xfrm>
            <a:off x="2975040" y="4535640"/>
            <a:ext cx="2968560" cy="603000"/>
            <a:chOff x="2975040" y="4535640"/>
            <a:chExt cx="2968560" cy="603000"/>
          </a:xfrm>
        </p:grpSpPr>
        <p:pic>
          <p:nvPicPr>
            <p:cNvPr id="232" name="Rectangle 14" descr=""/>
            <p:cNvPicPr/>
            <p:nvPr/>
          </p:nvPicPr>
          <p:blipFill>
            <a:blip r:embed="rId1"/>
            <a:stretch/>
          </p:blipFill>
          <p:spPr>
            <a:xfrm>
              <a:off x="2975040" y="4535640"/>
              <a:ext cx="2968560" cy="60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3048120" y="4572000"/>
              <a:ext cx="2819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Создание структур С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ectangle 15"/>
          <p:cNvGrpSpPr/>
          <p:nvPr/>
        </p:nvGrpSpPr>
        <p:grpSpPr>
          <a:xfrm>
            <a:off x="2292480" y="5450040"/>
            <a:ext cx="4260600" cy="682560"/>
            <a:chOff x="2292480" y="5450040"/>
            <a:chExt cx="4260600" cy="682560"/>
          </a:xfrm>
        </p:grpSpPr>
        <p:pic>
          <p:nvPicPr>
            <p:cNvPr id="235" name="Rectangle 15" descr=""/>
            <p:cNvPicPr/>
            <p:nvPr/>
          </p:nvPicPr>
          <p:blipFill>
            <a:blip r:embed="rId2"/>
            <a:stretch/>
          </p:blipFill>
          <p:spPr>
            <a:xfrm>
              <a:off x="2292480" y="5450040"/>
              <a:ext cx="42606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362320" y="5486400"/>
              <a:ext cx="4114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nstantia"/>
                </a:rPr>
                <a:t>Выработка легитивных реш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Down Arrow 16"/>
          <p:cNvSpPr/>
          <p:nvPr/>
        </p:nvSpPr>
        <p:spPr>
          <a:xfrm>
            <a:off x="4114800" y="5029200"/>
            <a:ext cx="4842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8" name="Shape 29"/>
          <p:cNvCxnSpPr/>
          <p:nvPr/>
        </p:nvCxnSpPr>
        <p:spPr>
          <a:xfrm flipV="1">
            <a:off x="6476760" y="3962160"/>
            <a:ext cx="610200" cy="1791360"/>
          </a:xfrm>
          <a:prstGeom prst="bentConnector2">
            <a:avLst/>
          </a:prstGeom>
          <a:ln w="25560">
            <a:solidFill>
              <a:srgbClr val="00addc"/>
            </a:solidFill>
            <a:miter/>
            <a:tailEnd len="med" type="arrow" w="med"/>
          </a:ln>
        </p:spPr>
      </p:cxnSp>
      <p:cxnSp>
        <p:nvCxnSpPr>
          <p:cNvPr id="239" name="Shape 31"/>
          <p:cNvCxnSpPr>
            <a:endCxn id="228" idx="2"/>
          </p:cNvCxnSpPr>
          <p:nvPr/>
        </p:nvCxnSpPr>
        <p:spPr>
          <a:xfrm rot="10800000">
            <a:off x="1713960" y="3961800"/>
            <a:ext cx="648360" cy="1791360"/>
          </a:xfrm>
          <a:prstGeom prst="bentConnector2">
            <a:avLst/>
          </a:prstGeom>
          <a:ln w="25560">
            <a:solidFill>
              <a:srgbClr val="00addc"/>
            </a:solidFill>
            <a:miter/>
            <a:tailEnd len="med" type="arrow" w="med"/>
          </a:ln>
        </p:spPr>
      </p:cxnSp>
      <p:sp>
        <p:nvSpPr>
          <p:cNvPr id="240" name="Straight Connector 33"/>
          <p:cNvSpPr/>
          <p:nvPr/>
        </p:nvSpPr>
        <p:spPr>
          <a:xfrm flipH="1">
            <a:off x="4417560" y="6021360"/>
            <a:ext cx="3240" cy="457200"/>
          </a:xfrm>
          <a:prstGeom prst="line">
            <a:avLst/>
          </a:prstGeom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41"/>
          <p:cNvSpPr/>
          <p:nvPr/>
        </p:nvSpPr>
        <p:spPr>
          <a:xfrm>
            <a:off x="4419720" y="6477120"/>
            <a:ext cx="4267080" cy="1440"/>
          </a:xfrm>
          <a:prstGeom prst="line">
            <a:avLst/>
          </a:prstGeom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43"/>
          <p:cNvSpPr/>
          <p:nvPr/>
        </p:nvSpPr>
        <p:spPr>
          <a:xfrm flipH="1" flipV="1">
            <a:off x="456840" y="6477120"/>
            <a:ext cx="3962520" cy="1440"/>
          </a:xfrm>
          <a:prstGeom prst="line">
            <a:avLst/>
          </a:prstGeom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traight Connector 47"/>
          <p:cNvSpPr/>
          <p:nvPr/>
        </p:nvSpPr>
        <p:spPr>
          <a:xfrm flipV="1">
            <a:off x="8685360" y="2211120"/>
            <a:ext cx="2880" cy="4267080"/>
          </a:xfrm>
          <a:prstGeom prst="line">
            <a:avLst/>
          </a:prstGeom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49"/>
          <p:cNvSpPr/>
          <p:nvPr/>
        </p:nvSpPr>
        <p:spPr>
          <a:xfrm flipV="1">
            <a:off x="457200" y="2209680"/>
            <a:ext cx="1440" cy="4267440"/>
          </a:xfrm>
          <a:prstGeom prst="line">
            <a:avLst/>
          </a:prstGeom>
          <a:ln w="25560">
            <a:solidFill>
              <a:srgbClr val="00ad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51"/>
          <p:cNvCxnSpPr/>
          <p:nvPr/>
        </p:nvCxnSpPr>
        <p:spPr>
          <a:xfrm flipH="1" flipV="1">
            <a:off x="5180760" y="2208960"/>
            <a:ext cx="3506040" cy="2520"/>
          </a:xfrm>
          <a:prstGeom prst="straightConnector1">
            <a:avLst/>
          </a:prstGeom>
          <a:ln w="25560">
            <a:solidFill>
              <a:srgbClr val="00addc"/>
            </a:solidFill>
            <a:miter/>
            <a:tailEnd len="med" type="arrow" w="med"/>
          </a:ln>
        </p:spPr>
      </p:cxnSp>
      <p:cxnSp>
        <p:nvCxnSpPr>
          <p:cNvPr id="246" name="Straight Arrow Connector 53"/>
          <p:cNvCxnSpPr>
            <a:endCxn id="226" idx="1"/>
          </p:cNvCxnSpPr>
          <p:nvPr/>
        </p:nvCxnSpPr>
        <p:spPr>
          <a:xfrm>
            <a:off x="456840" y="2209320"/>
            <a:ext cx="3353400" cy="2520"/>
          </a:xfrm>
          <a:prstGeom prst="straightConnector1">
            <a:avLst/>
          </a:prstGeom>
          <a:ln w="25560">
            <a:solidFill>
              <a:srgbClr val="00addc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Социальные партнеры для НПО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Персонал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НП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Собственники и руководители бизнес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Профессиональные союзы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Органы государственной влас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5faa"/>
                </a:solidFill>
                <a:latin typeface="Constantia"/>
              </a:rPr>
              <a:t>  </a:t>
            </a: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Средства массовой информаци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ff33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435faa"/>
                </a:solidFill>
                <a:latin typeface="Constantia"/>
                <a:ea typeface="Times New Roman"/>
              </a:rPr>
              <a:t>Сообщества местного и регионального уровней (н-р, Палата предпринимателей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1b6ff"/>
                </a:solidFill>
                <a:latin typeface="Constantia"/>
              </a:rPr>
              <a:t>Какие задачи в каждом случае решаются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240" y="704520"/>
            <a:ext cx="89154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eea"/>
                </a:solidFill>
                <a:latin typeface="Times New Roman"/>
                <a:ea typeface="Times New Roman"/>
              </a:rPr>
              <a:t>Потенциальные клиенты программы СП</a:t>
            </a:r>
            <a:endParaRPr b="0" lang="en-US" sz="36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28240" y="17524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мпании, нуждающи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я в формировании положительного образа своего бизнеса, руководства, продукци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мпании, заинтересованны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в восстановлени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траченного имиджа в результате социального конфликт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мпании, проводящие агрессивные действия на рынк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и имеющие в связи с этим высокие социальные издержки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омпании, поддерживающие и продвигающие кандидатов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литические партии, движения на выборах разного уровня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политические деятели и партии, нуждающиеся в формировании социально-ориентированного имиджа их избирательной кампании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Механизм обратной связи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04920" y="1905120"/>
            <a:ext cx="2361960" cy="9144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Аффилированные структуры 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2438280" y="2666880"/>
            <a:ext cx="2667240" cy="137160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4e5b6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e5b6f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рсон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ствен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треби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рганы гос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изнес-партне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4343400" y="3429000"/>
            <a:ext cx="1981080" cy="7621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вер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ояльное отнош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трудниче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6400800" y="3733920"/>
            <a:ext cx="1981080" cy="60948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изирова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пут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743200" y="5029200"/>
            <a:ext cx="3276720" cy="1219320"/>
          </a:xfrm>
          <a:prstGeom prst="rect">
            <a:avLst/>
          </a:pr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ммерче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 рекламно-имидж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спех Комп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2945880" y="2049480"/>
            <a:ext cx="1347120" cy="70092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36147" dir="2700000" blurRad="0" rotWithShape="0">
              <a:srgbClr val="d6ecff"/>
            </a:outerShdw>
          </a:effectLst>
        </p:spPr>
        <p:txBody>
          <a:bodyPr anchor="ctr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AutoShape 45"/>
          <p:cNvSpPr/>
          <p:nvPr/>
        </p:nvSpPr>
        <p:spPr>
          <a:xfrm>
            <a:off x="5105520" y="2895480"/>
            <a:ext cx="1004760" cy="685800"/>
          </a:xfrm>
          <a:prstGeom prst="pie">
            <a:avLst/>
          </a:prstGeom>
          <a:solidFill>
            <a:srgbClr val="ff9966"/>
          </a:solidFill>
          <a:ln w="0">
            <a:noFill/>
          </a:ln>
          <a:effectLst>
            <a:outerShdw dist="17819" dir="2700000" blurRad="0" rotWithShape="0">
              <a:srgbClr val="d6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5"/>
          <p:cNvSpPr/>
          <p:nvPr/>
        </p:nvSpPr>
        <p:spPr>
          <a:xfrm>
            <a:off x="6324480" y="3276720"/>
            <a:ext cx="1143000" cy="609480"/>
          </a:xfrm>
          <a:prstGeom prst="pie">
            <a:avLst/>
          </a:prstGeom>
          <a:solidFill>
            <a:srgbClr val="ff9966"/>
          </a:solidFill>
          <a:ln w="0">
            <a:noFill/>
          </a:ln>
          <a:effectLst>
            <a:outerShdw dist="17819" dir="2700000" blurRad="0" rotWithShape="0">
              <a:srgbClr val="d6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4"/>
          <p:cNvSpPr/>
          <p:nvPr/>
        </p:nvSpPr>
        <p:spPr>
          <a:xfrm>
            <a:off x="7315200" y="4343400"/>
            <a:ext cx="271440" cy="1042920"/>
          </a:xfrm>
          <a:prstGeom prst="rect">
            <a:avLst/>
          </a:prstGeom>
          <a:solidFill>
            <a:srgbClr val="ff9966"/>
          </a:solidFill>
          <a:ln w="0">
            <a:noFill/>
          </a:ln>
          <a:effectLst>
            <a:outerShdw dist="17819" dir="2700000" blurRad="0" rotWithShape="0">
              <a:srgbClr val="d6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43"/>
          <p:cNvSpPr/>
          <p:nvPr/>
        </p:nvSpPr>
        <p:spPr>
          <a:xfrm>
            <a:off x="6019920" y="5257800"/>
            <a:ext cx="1600200" cy="514440"/>
          </a:xfrm>
          <a:prstGeom prst="leftArrow">
            <a:avLst>
              <a:gd name="adj1" fmla="val 50000"/>
              <a:gd name="adj2" fmla="val 74293"/>
            </a:avLst>
          </a:prstGeom>
          <a:solidFill>
            <a:srgbClr val="ff9966"/>
          </a:solidFill>
          <a:ln w="0">
            <a:noFill/>
          </a:ln>
          <a:effectLst>
            <a:outerShdw dist="17819" dir="2700000" blurRad="0" rotWithShape="0">
              <a:srgbClr val="d6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Задачи СП для НПО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0" y="2057040"/>
            <a:ext cx="63244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действие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беспечению социальной стабильности и общественного согласия на основе объективного учёта интересов всех слоев общества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lnSpc>
                <a:spcPct val="100000"/>
              </a:lnSpc>
              <a:spcBef>
                <a:spcPts val="700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роцессу консультаций и переговоров между сторонами социального партнёрства на всех уровнях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4" descr="http://www.op35.ru/storage/images/25471198f97068ce22192cfe3cbc226b.jpg"/>
          <p:cNvPicPr/>
          <p:nvPr/>
        </p:nvPicPr>
        <p:blipFill>
          <a:blip r:embed="rId1"/>
          <a:stretch/>
        </p:blipFill>
        <p:spPr>
          <a:xfrm>
            <a:off x="5867280" y="1676520"/>
            <a:ext cx="327672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124080" y="2286000"/>
            <a:ext cx="2819520" cy="609480"/>
          </a:xfrm>
          <a:prstGeom prst="rect">
            <a:avLst/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4"/>
          <p:cNvSpPr/>
          <p:nvPr/>
        </p:nvSpPr>
        <p:spPr>
          <a:xfrm>
            <a:off x="762120" y="3581280"/>
            <a:ext cx="2666880" cy="99072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АРИТЕТНОСТЬ ПРЕДСТАВИТЕЛЬ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5"/>
          <p:cNvSpPr/>
          <p:nvPr/>
        </p:nvSpPr>
        <p:spPr>
          <a:xfrm>
            <a:off x="5638680" y="3429000"/>
            <a:ext cx="2286000" cy="91440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УВАЖЕНИЕ И УЧЕТ ИНТЕ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6"/>
          <p:cNvSpPr/>
          <p:nvPr/>
        </p:nvSpPr>
        <p:spPr>
          <a:xfrm>
            <a:off x="4952880" y="4876920"/>
            <a:ext cx="2667240" cy="76176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ПОЛНОМОЧНОСТЬ И ОБЯЗА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7"/>
          <p:cNvSpPr/>
          <p:nvPr/>
        </p:nvSpPr>
        <p:spPr>
          <a:xfrm>
            <a:off x="1295280" y="5105520"/>
            <a:ext cx="2514600" cy="761760"/>
          </a:xfrm>
          <a:prstGeom prst="roundRect">
            <a:avLst>
              <a:gd name="adj" fmla="val 16667"/>
            </a:avLst>
          </a:prstGeom>
          <a:solidFill>
            <a:srgbClr val="00addc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374a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СОЦИАЛЬНОЕ ПАРТНЕ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9"/>
          <p:cNvSpPr/>
          <p:nvPr/>
        </p:nvSpPr>
        <p:spPr>
          <a:xfrm flipH="1">
            <a:off x="3731760" y="2897280"/>
            <a:ext cx="3240" cy="53316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1"/>
          <p:cNvSpPr/>
          <p:nvPr/>
        </p:nvSpPr>
        <p:spPr>
          <a:xfrm>
            <a:off x="2057400" y="3429000"/>
            <a:ext cx="1676520" cy="144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Elbow Connector 13"/>
          <p:cNvCxnSpPr>
            <a:endCxn id="268" idx="0"/>
          </p:cNvCxnSpPr>
          <p:nvPr/>
        </p:nvCxnSpPr>
        <p:spPr>
          <a:xfrm flipH="1" rot="16200000">
            <a:off x="2000160" y="3485520"/>
            <a:ext cx="153000" cy="38880"/>
          </a:xfrm>
          <a:prstGeom prst="bentConnector3">
            <a:avLst>
              <a:gd name="adj1" fmla="val 50000"/>
            </a:avLst>
          </a:prstGeom>
          <a:ln w="9360">
            <a:solidFill>
              <a:srgbClr val="5b9b27"/>
            </a:solidFill>
            <a:miter/>
          </a:ln>
        </p:spPr>
      </p:cxnSp>
      <p:sp>
        <p:nvSpPr>
          <p:cNvPr id="275" name="Straight Connector 17"/>
          <p:cNvSpPr/>
          <p:nvPr/>
        </p:nvSpPr>
        <p:spPr>
          <a:xfrm flipH="1">
            <a:off x="5103360" y="2897280"/>
            <a:ext cx="3240" cy="53316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9"/>
          <p:cNvSpPr/>
          <p:nvPr/>
        </p:nvSpPr>
        <p:spPr>
          <a:xfrm>
            <a:off x="5105520" y="3429000"/>
            <a:ext cx="1218960" cy="144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1"/>
          <p:cNvSpPr/>
          <p:nvPr/>
        </p:nvSpPr>
        <p:spPr>
          <a:xfrm>
            <a:off x="2057400" y="3429000"/>
            <a:ext cx="38160" cy="15228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24"/>
          <p:cNvSpPr/>
          <p:nvPr/>
        </p:nvSpPr>
        <p:spPr>
          <a:xfrm flipH="1">
            <a:off x="4722480" y="2897280"/>
            <a:ext cx="3240" cy="243828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26"/>
          <p:cNvSpPr/>
          <p:nvPr/>
        </p:nvSpPr>
        <p:spPr>
          <a:xfrm>
            <a:off x="4724280" y="5334120"/>
            <a:ext cx="228600" cy="144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8"/>
          <p:cNvSpPr/>
          <p:nvPr/>
        </p:nvSpPr>
        <p:spPr>
          <a:xfrm flipH="1">
            <a:off x="4113360" y="2897280"/>
            <a:ext cx="2880" cy="243828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0"/>
          <p:cNvSpPr/>
          <p:nvPr/>
        </p:nvSpPr>
        <p:spPr>
          <a:xfrm flipH="1" flipV="1">
            <a:off x="3809520" y="5334120"/>
            <a:ext cx="304920" cy="1440"/>
          </a:xfrm>
          <a:prstGeom prst="line">
            <a:avLst/>
          </a:prstGeom>
          <a:ln w="9360">
            <a:solidFill>
              <a:srgbClr val="5b9b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Задание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25142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Что значит для вас СП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акие задачи вы ставите по развитию СП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https://encrypted-tbn3.gstatic.com/images?q=tbn:ANd9GcRgJ4UoSbWaOJz_vyFQ-JM1Tb93jRJ5n7LaZ9KqaJm7Ew78aH1v5b0eRIXe"/>
          <p:cNvPicPr/>
          <p:nvPr/>
        </p:nvPicPr>
        <p:blipFill>
          <a:blip r:embed="rId1"/>
          <a:stretch/>
        </p:blipFill>
        <p:spPr>
          <a:xfrm>
            <a:off x="6477120" y="914400"/>
            <a:ext cx="228600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704520"/>
            <a:ext cx="838188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Организационное развитие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рганизация</a:t>
            </a:r>
            <a:r>
              <a:rPr b="1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 группа людей и/ил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групп людей, которые в соответстви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 общей договоренностью по правила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и процедурам, стремятся реализовать (одну или более) цель.</a:t>
            </a:r>
            <a:br>
              <a:rPr sz="2400"/>
            </a:b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бщие черты организаций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наличие ресурсов (люди, капитал, материалы, информация, технологии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зависимость от внешней среды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распределение труд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наличие управлен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рганизация может быть формализована, то есть, быть зарегистрированной в установленном законом порядке, либо быть неформальной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7" name="Picture 2" descr="http://kze.docdat.com/tw_files2/urls_15/312/d-311147/7z-docs/1_html_7e78a572.png"/>
          <p:cNvPicPr/>
          <p:nvPr/>
        </p:nvPicPr>
        <p:blipFill>
          <a:blip r:embed="rId1"/>
          <a:stretch/>
        </p:blipFill>
        <p:spPr>
          <a:xfrm>
            <a:off x="6172200" y="762120"/>
            <a:ext cx="2971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Кто мы такие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Миссия - с</a:t>
            </a: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Calibri"/>
              </a:rPr>
              <a:t>одействие развитию образования, культуры и социальных аспектов через профессиональную консолидацию педагогов, ученых, содействие внедрению в практику инновационных методов и форм, отвечающих современным требованиям посредством обуающих семинаров, тренингов, проведения исследований, оказания консультаци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240" y="704880"/>
            <a:ext cx="84582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Институциональное развитие</a:t>
            </a:r>
            <a:endParaRPr b="0" lang="en-US" sz="3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1828800"/>
            <a:ext cx="91440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Институт</a:t>
            </a:r>
            <a:r>
              <a:rPr b="1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 комплекс норм 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оведенческих реакций, которы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уществуют определенное время, обслуживая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цели основанные на коллективных ценностя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онкретные институты </a:t>
            </a:r>
            <a:r>
              <a:rPr b="0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</a:t>
            </a:r>
            <a:r>
              <a:rPr b="0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 организации, достигнувшие такой определенной степени ценностей и стабильности, что их можно назвать устойчивыми, включают в себя правительство, школы, суды и т.д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Абстрактные институты -</a:t>
            </a:r>
            <a:r>
              <a:rPr b="1" i="1" lang="en-US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это законы, рыночные системы, неписаные социальные правила в сообществе, например: семейные браки, деньги и т.п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0" name="Picture 3" descr="http://kze.docdat.com/tw_files2/urls_15/312/d-311147/7z-docs/1_html_39774821.png"/>
          <p:cNvPicPr/>
          <p:nvPr/>
        </p:nvPicPr>
        <p:blipFill>
          <a:blip r:embed="rId1"/>
          <a:stretch/>
        </p:blipFill>
        <p:spPr>
          <a:xfrm>
            <a:off x="6095880" y="533520"/>
            <a:ext cx="30481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Calibri"/>
              </a:rPr>
              <a:t>Разница терминов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5800" y="2362320"/>
          <a:ext cx="8001000" cy="3733560"/>
        </p:xfrm>
        <a:graphic>
          <a:graphicData uri="http://schemas.openxmlformats.org/drawingml/2006/table">
            <a:tbl>
              <a:tblPr/>
              <a:tblGrid>
                <a:gridCol w="2370240"/>
                <a:gridCol w="2816280"/>
                <a:gridCol w="28144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Е  ИНСТИТ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ИНСТИТ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d13b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Е 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Люди в пивбаре, Вечеринка Дискотека, Очере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Брак, Язык, Деньги, Сорев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eece"/>
                    </a:solidFill>
                  </a:tcPr>
                </a:tc>
              </a:tr>
              <a:tr h="16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РГАНИЗ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ПО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рма,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ВУЗ,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енсионное обеспечение, Обязательное мед.страх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sp>
        <p:nvSpPr>
          <p:cNvPr id="293" name="TextBox 5"/>
          <p:cNvSpPr/>
          <p:nvPr/>
        </p:nvSpPr>
        <p:spPr>
          <a:xfrm>
            <a:off x="228600" y="48006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1004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28600" y="1143000"/>
            <a:ext cx="87631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5faa"/>
                </a:solidFill>
                <a:latin typeface="Constantia"/>
              </a:rPr>
              <a:t>Институциональное развитие</a:t>
            </a:r>
            <a:r>
              <a:rPr b="0" lang="en-US" sz="2600" spc="-1" strike="noStrike">
                <a:solidFill>
                  <a:srgbClr val="435faa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- есть создание или усиление сети организаций для генерации, перераспределения и эффективного использования человеческих, материальных и финансовых ресурсов для достижения специфических целей на устойчивой основ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5faa"/>
                </a:solidFill>
                <a:latin typeface="Constantia"/>
              </a:rPr>
              <a:t>Сеть организаций</a:t>
            </a:r>
            <a:r>
              <a:rPr b="1" lang="en-US" sz="2600" spc="-1" strike="noStrike">
                <a:solidFill>
                  <a:srgbClr val="435faa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включает в себя несколько организаций и их взаимоотношения, направленные на достижение единственной или нескольких специфических цел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435faa"/>
                </a:solidFill>
                <a:latin typeface="Constantia"/>
              </a:rPr>
              <a:t>Институциональное развитие</a:t>
            </a:r>
            <a:r>
              <a:rPr b="1" lang="en-US" sz="2600" spc="-1" strike="noStrike">
                <a:solidFill>
                  <a:srgbClr val="435faa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направлено на среду (Актеры и Факторы), в которой происходит действие, и действуют (или бездействуют) организации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r>
              <a:rPr b="0" lang="ru-RU" sz="44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Основа СП</a:t>
            </a:r>
            <a:endParaRPr b="0" lang="en-US" sz="44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Последовательность организации через понимание и фомулирование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Цели парнер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Проблемы социу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Пути решени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Проведение информационной кампан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Проведение социологического опрос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Заключение договор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Обучение на семинарах тренингах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Изменения, результаты, которые могут быть при эт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Принятие нормативных докумен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Удовлетворенность социума, снятие напряженности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конфликтности, доверие в обществе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75640" indent="-22104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704880"/>
            <a:ext cx="84582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Установление и развитие СП</a:t>
            </a:r>
            <a:endParaRPr b="0" lang="en-US" sz="42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1295280"/>
            <a:ext cx="8991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заимодействие с государством, бизнесом, НПО, международными организациями на принципах социального партнер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Участие в вопросах обеспечения социального мира, н-р, поиск компромисных решений при разрешении возникающих противоречий и предотвращений конфли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роведение предварительного обсуждения значимых проект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одготовка и принятие договора, меморанду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блюдение и реализация достигнутых договоренностей между сторонам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беспечение полной и лостоверной информации сторон СП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существление совместной работы по совершенствованию нормативно-правовой базы, обеспечивающей  функционирование и развитие системы социального партнерств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Эффективность диалога</a:t>
            </a:r>
            <a:endParaRPr b="0" lang="en-US" sz="4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1218960"/>
            <a:ext cx="91440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 умении общаться можно выделить умение воспринимать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оммуникативные сигналы и умение их производить.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Трудности, с которыми сталкиваемся, вступая в контакт с окружающими, можно отнести либо к проблеме восприятия (слушания), либо самовыражения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Выделены так называемые драмы общения, то есть те задачи, с которыми надо справиться в ходе разговор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 ним относятся драма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лушания (слушаю, но не слышу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драма понимания (слышу, но не понимаю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драма действия (понимаю, но сделать не могу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драма самовыражения (понимаю, но не могу сформулировать) и драма эмоциональности (понимаю, что нужно сделать, но эмоциональность и импульсивность мешают это сделать)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42640" indent="-24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ответственно все эти трудности можно преодолеть, развив в себе определенные навыки: умение слушать другого человека, умение его понять, умение выражать свои мысли и чувства, умение действовать соответственно своему пониманию и умение регулировать эмоциональное напряжение во взаимодействии с другим человеком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2" name="Picture 10" descr="https://encrypted-tbn0.gstatic.com/images?q=tbn:ANd9GcSF2gimejGh_KUwoKYPdUs1mcP4pSeY4-GhbMm9tkHJ91BCzud14QtJOyex"/>
          <p:cNvPicPr/>
          <p:nvPr/>
        </p:nvPicPr>
        <p:blipFill>
          <a:blip r:embed="rId1"/>
          <a:stretch/>
        </p:blipFill>
        <p:spPr>
          <a:xfrm>
            <a:off x="7543800" y="76212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Задание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ак Вы будете строить свой диалог, чтобы он был эффективным?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Constantia"/>
              </a:rPr>
              <a:t>Перечислите варианты социального партнерства известные ва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19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Что мы делаем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роведение семинаров, тренин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Исследования в социальной сфере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онсультационные услуг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Мониторинг и оцен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пыт нашей работы с 2013 г. (июль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6 семинаров для преподавателей и молодых лидеров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тренинг для работников бизнес структур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6 договоров социального парнерства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развитие проектной работы с 18-ью учебными заведениями;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онсультации по социальному предпринимательству.</a:t>
            </a:r>
            <a:endParaRPr b="0" lang="en-US" sz="2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7315200" y="838080"/>
            <a:ext cx="162720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О спикере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1935000"/>
            <a:ext cx="89154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Заместитель Председателя Правления ОО «Инновационные практики»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оординатор Программы подготовки преподавателей Университета Центральной Азии (Казахстан-Кыргыстан-Таджикистан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андидат биологических наук, профессор эконом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7 лет опыта проектной работы (2008-2014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Руководитель в нескольких вузах г.Алматы (КАУ, АБД, АЭСА) - планирование, организация, управление учебными процессами  в университетах (1997-20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пыт государственной службы (Мажилис Парламента РК, Министерство экономики РК, Министерство образования 1992-1997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едагогическая практика (дисицплины «Маркетинг», «Методика преподавания» 1992-2010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Научно-исследовательская практика (наличие более 40 научных статей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Calibri"/>
              </a:rPr>
              <a:t>Дерево ожиданий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800600" cy="4647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4572000" y="21337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От данного вебина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какие ожидания у Вас имею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 что желаете получи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- какие умения и навыки хотели бы   приобре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7467480" y="46483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</a:t>
            </a:r>
            <a:br>
              <a:rPr sz="5400"/>
            </a:br>
            <a:br>
              <a:rPr sz="5400"/>
            </a:br>
            <a:br>
              <a:rPr sz="54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Чему обучитесь: </a:t>
            </a:r>
            <a:endParaRPr b="0" lang="en-US" sz="48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289512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онимание основ грамотного партнерств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Навыки анализа ситуации в своей НПО и согласование интересов и ведение диалог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Составление практического плана возможного партнерств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9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Разработка критериев эффективного партнерств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16" descr="https://encrypted-tbn2.gstatic.com/images?q=tbn:ANd9GcQT489P-5CuodhIumDlfTnN2HlF7NL4i9KVl8Wz5iLY5kziF2tnmiE5ZvsL"/>
          <p:cNvPicPr/>
          <p:nvPr/>
        </p:nvPicPr>
        <p:blipFill>
          <a:blip r:embed="rId1"/>
          <a:stretch/>
        </p:blipFill>
        <p:spPr>
          <a:xfrm>
            <a:off x="6095880" y="762120"/>
            <a:ext cx="25909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704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Список тем вебинара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Основы института партнер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Повышение институционального потенциала через развитие эффективного диалога, сотрудничеств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Виды возможного партнерства для НП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Мотивация и личностное развитие как основа развития парнер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Фандрайзинг для НП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Ориентированность НПО. Расширение возможностей эффективности и результативнос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4" descr="ANd9GcT2579eTKTOAYQQvsnqaWD4d1dM1m9k2P3-uqlUsQihOmgxjNetD0pDhpzK"/>
          <p:cNvPicPr/>
          <p:nvPr/>
        </p:nvPicPr>
        <p:blipFill>
          <a:blip r:embed="rId1"/>
          <a:stretch/>
        </p:blipFill>
        <p:spPr>
          <a:xfrm>
            <a:off x="6248520" y="762120"/>
            <a:ext cx="270324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Практические работы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1. Каждый часть вебинара включает вопросы для самостоятельной работы, на которые следует отвечать письменно на эл.адрес тренер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2. Также каждому участнику предоставляется возможность описать свои возможности СП и трем из них презентов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435faa"/>
                </a:solidFill>
                <a:latin typeface="Constantia"/>
              </a:rPr>
              <a:t>Формат презентаций следующий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Представление себя, своей организации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Раскрытие тем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Вопрос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7fd13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5faa"/>
                </a:solidFill>
                <a:latin typeface="Constantia"/>
              </a:rPr>
              <a:t>Подведение итог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feb80a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1b6ff"/>
                </a:solidFill>
                <a:latin typeface="Times New Roman"/>
                <a:ea typeface="Times New Roman"/>
              </a:rPr>
              <a:t>Социальное партнерство</a:t>
            </a:r>
            <a:endParaRPr b="0" lang="en-US" sz="5000" spc="-1" strike="noStrike">
              <a:solidFill>
                <a:srgbClr val="4e5b6f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51920" y="152352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арнерство – это потому что СОВМЕСТНО, то есть, ВМЕСТЕ  что-то делать. ВМЕСТЕ  и  ДЕЛАТЬ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очему СОЦИАЛЬНОЕ – ВМЕСТЕ ДЕЛАЮТ  для  СОЦИУМА, РЕШАЮТ СОЦИАЛЬНО ЗНАЧИМЫЕ ПРОБЛЕМ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35faa"/>
                </a:solidFill>
                <a:latin typeface="Times New Roman"/>
                <a:ea typeface="Times New Roman"/>
              </a:rPr>
              <a:t>Понимание власти и бизнеса того, что решение социальных проблем, наличие в бюджете государства и в бюджете бизнес-структур средств на социальные нужды и участие социума в принятии социально-значимых решений является обязательным условием для нормальной бесконфликтной жизни и деятельности любого государств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2T06:32:23Z</dcterms:created>
  <dc:creator>NURZAUAR.ISSAEVA</dc:creator>
  <dc:description/>
  <dc:language>en-US</dc:language>
  <cp:lastModifiedBy>NURZAUAR.ISSAEVA</cp:lastModifiedBy>
  <dcterms:modified xsi:type="dcterms:W3CDTF">2014-05-12T06:58:14Z</dcterms:modified>
  <cp:revision>193</cp:revision>
  <dc:subject/>
  <dc:title>ФОНД ЕВРАЗИЯ Общественное объединение «Инновационные практики» </dc:title>
</cp:coreProperties>
</file>